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BCF-BDAF-46C8-83C9-849DDFA8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56D-F217-4688-8B60-F45D9FEF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A8D-A178-4584-9FCE-C7B4A382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39B-C760-4AC8-9030-38455D40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D6D2-3BA3-47FF-9787-33488299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7B1E-4E13-4D59-A342-1A6D85F2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9FE7-4BB7-41BE-940C-6F27A79B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921B-9632-40DB-AD65-860B7145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0A58-7F9E-406F-A995-3B9C6E76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0C64-1E8C-49A4-B50D-5D7C6094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AC59-9683-444D-8B34-49D387D9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A25-31AF-4160-B0E0-38507EDE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51A4-0101-4109-9F7E-DDEE8E82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2640-28B7-40E7-BE81-5F2D9B3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782D-510E-42DB-ADD4-6AC67A94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15B2-12A9-406E-8EBE-A8E92949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8D81-22C0-487B-9A6A-5F5ECF02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B5D-63E7-466E-98B0-482D1F6D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00F-1DF5-479D-9AF0-1B7DF3D2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BB3-1265-470A-AD4D-88E21120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A26-D55E-40F8-9F05-B372A176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F6C-684E-4964-8D75-36B163D2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FA8-E0AD-41CF-8758-B260120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943-BF06-41F3-96FE-798C47B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Font typeface="MS Gothic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MS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MS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7739-D6ED-4CEE-BE9C-DE61FCA40FE5}" type="slidenum">
              <a:rPr b="0" lang="ja-JP" sz="1400" spc="-1" strike="noStrike">
                <a:solidFill>
                  <a:srgbClr val="ffffff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7"/>
                </a:solidFill>
                <a:latin typeface="Arial"/>
                <a:ea typeface="MS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7"/>
                </a:solidFill>
                <a:latin typeface="Arial"/>
                <a:ea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7"/>
                </a:solidFill>
                <a:latin typeface="Arial"/>
                <a:ea typeface="MS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7"/>
                </a:solidFill>
                <a:latin typeface="Arial"/>
                <a:ea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7"/>
                </a:solidFill>
                <a:latin typeface="Arial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33C2-4C75-416A-80E2-533E6588D5DA}" type="slidenum">
              <a:rPr b="0" lang="ja-JP" sz="1400" spc="-1" strike="noStrike">
                <a:solidFill>
                  <a:srgbClr val="fffff7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315200" cy="294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42320" y="1295280"/>
            <a:ext cx="4167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第一章  地理环境与区域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第一节  地理环境对区域发展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0"/>
          <a:ext cx="8713440" cy="6524280"/>
        </p:xfrm>
        <a:graphic>
          <a:graphicData uri="http://schemas.openxmlformats.org/drawingml/2006/table">
            <a:tbl>
              <a:tblPr/>
              <a:tblGrid>
                <a:gridCol w="611280"/>
                <a:gridCol w="1751400"/>
                <a:gridCol w="2760840"/>
                <a:gridCol w="3589920"/>
              </a:tblGrid>
              <a:tr h="1374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江三角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松嫩平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气候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土地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矿产资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同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022920" y="162864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30°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附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80160" y="162864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43°--48°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附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63840" y="369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黑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668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水稻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040" y="263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亚热带季风气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34840" y="261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温带季风气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5200" y="472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矿产资源缺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60720" y="47242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石油、煤、铁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6040" y="58053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地形平坦、都为季风气候、雨热同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784920"/>
        </p:xfrm>
        <a:graphic>
          <a:graphicData uri="http://schemas.openxmlformats.org/drawingml/2006/table">
            <a:tbl>
              <a:tblPr/>
              <a:tblGrid>
                <a:gridCol w="723960"/>
                <a:gridCol w="560160"/>
                <a:gridCol w="1686240"/>
                <a:gridCol w="3154320"/>
                <a:gridCol w="3019320"/>
              </a:tblGrid>
              <a:tr h="1030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江三角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松嫩平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  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农作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熟  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商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3682440" y="1341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东部沿海地区的中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9960" y="1322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东北部地区的中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65960" y="233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水田耕作、水产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2349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旱地耕作、畜牧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65960" y="3141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水稻、油菜、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9480" y="31878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玉米、春小麦、大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48200" y="40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一年两熟至三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07080" y="407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一年一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15560" y="486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商业贸易发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9560" y="4797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交通不变、贸易落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8040" y="6021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综合性工业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23080" y="5996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重化工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06640" y="152280"/>
            <a:ext cx="200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343a1b"/>
              </a:buClr>
              <a:buFont typeface="MS Gothic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区域发展差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9480" y="838080"/>
          <a:ext cx="8002800" cy="57913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  <a:gridCol w="1906560"/>
                <a:gridCol w="27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农</a:t>
                      </a: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作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熟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商    业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工         业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长江三角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松嫩平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447920" y="2057400"/>
            <a:ext cx="930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稻种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产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21337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年两熟或三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213372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通便利，对内对外联系方便，商业贸易发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59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45720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旱地耕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畜牧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4724280"/>
            <a:ext cx="10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玉米春小麦大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4572000"/>
            <a:ext cx="7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年一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44956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深居内陆，对内对外联系不便，商业贸易落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457524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当地丰富的石油资源和周围地区的煤铁资源，发展重化工业，成为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重化工业基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20574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依托农业发展轻工业，从国内外运入矿产资源发展重工业，是重要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综合性工业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5800" y="2209680"/>
            <a:ext cx="5464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油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6000" y="83772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83772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1447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3a1b"/>
                </a:solidFill>
                <a:latin typeface="Arial"/>
                <a:ea typeface="楷体_GB2312"/>
              </a:rPr>
              <a:t>地理环境对区域不同发展阶段的影响</a:t>
            </a:r>
            <a:endParaRPr b="0" lang="en-US" sz="4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Font typeface="MS Gothic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区域地理环境对人类活动的影响会随着社会、经济、技术等因素的改变而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Font typeface="MS Gothic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例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长江中下游平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区域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43a1b"/>
              </a:buClr>
              <a:buFont typeface="MS Gothic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发早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3a1b"/>
                </a:solidFill>
                <a:latin typeface="Arial"/>
                <a:ea typeface="楷体_GB2312"/>
              </a:rPr>
              <a:t>地理环境对区域不同发展阶段的影响</a:t>
            </a:r>
            <a:endParaRPr b="0" lang="en-US" sz="4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3284640"/>
            <a:ext cx="8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地理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80000" y="3429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耕作业发展缓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2205000"/>
            <a:ext cx="8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开垦困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4076640"/>
            <a:ext cx="8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阻隔交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42100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地平土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4365720"/>
            <a:ext cx="273672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2708280"/>
            <a:ext cx="215640" cy="201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2637000"/>
            <a:ext cx="432000" cy="2016000"/>
          </a:xfrm>
          <a:custGeom>
            <a:avLst/>
            <a:gdLst>
              <a:gd name="textAreaLeft" fmla="*/ 0 w 432000"/>
              <a:gd name="textAreaRight" fmla="*/ 155880 w 432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24000" y="2421000"/>
            <a:ext cx="172872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4365720"/>
            <a:ext cx="2736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河、湖、沼泽广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3a1b"/>
                </a:solidFill>
                <a:latin typeface="Arial"/>
                <a:ea typeface="楷体_GB2312"/>
              </a:rPr>
              <a:t>地理环境对区域不同发展阶段的影响</a:t>
            </a:r>
            <a:endParaRPr b="0" lang="en-US" sz="4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6156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全国粮、棉、桑蚕基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26828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展时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148428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科技进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2421000"/>
            <a:ext cx="172872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2276640"/>
            <a:ext cx="172872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000" y="292428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人口迁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42900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土壤肥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65300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雨热同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933720"/>
            <a:ext cx="1871640" cy="48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32000" y="3141720"/>
            <a:ext cx="2449800" cy="2276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860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水稻、棉花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桑蚕生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348000" y="198900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1989000"/>
            <a:ext cx="505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85080" y="342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08360" y="4076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371628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050920" y="443700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27640" y="5445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242100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船舶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2276640"/>
            <a:ext cx="172872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工具改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农技改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93080" y="3933720"/>
            <a:ext cx="187164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劳动力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84040"/>
            <a:ext cx="86868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3a1b"/>
                </a:solidFill>
                <a:latin typeface="Arial"/>
                <a:ea typeface="楷体_GB2312"/>
              </a:rPr>
              <a:t>地理环境对区域不同发展阶段的影响</a:t>
            </a:r>
            <a:endParaRPr b="0" lang="en-US" sz="4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447920"/>
            <a:ext cx="3670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工商业发展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263700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人口、城市稠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005360"/>
            <a:ext cx="172872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637000"/>
            <a:ext cx="180000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43280" y="400536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耕地破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2133720"/>
            <a:ext cx="215928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3429000"/>
            <a:ext cx="2159280" cy="48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4653000"/>
            <a:ext cx="187164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生产规模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15280" y="2852640"/>
            <a:ext cx="172872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在全国粮棉生产中的地位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24000" y="29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429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2708280"/>
            <a:ext cx="144360" cy="1584360"/>
          </a:xfrm>
          <a:custGeom>
            <a:avLst/>
            <a:gdLst>
              <a:gd name="textAreaLeft" fmla="*/ 0 w 144360"/>
              <a:gd name="textAreaRight" fmla="*/ 101160 w 144360"/>
              <a:gd name="textAreaTop" fmla="*/ 65880 h 1584360"/>
              <a:gd name="textAreaBottom" fmla="*/ 1518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2421000"/>
            <a:ext cx="144360" cy="2305080"/>
          </a:xfrm>
          <a:custGeom>
            <a:avLst/>
            <a:gdLst>
              <a:gd name="textAreaLeft" fmla="*/ 0 w 144360"/>
              <a:gd name="textAreaRight" fmla="*/ 101160 w 14436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6360" y="2638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156360" y="393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005360"/>
            <a:ext cx="1728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水网稠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2637000"/>
            <a:ext cx="180000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人均耕地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76720" y="2133720"/>
            <a:ext cx="2160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机械化水平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3429000"/>
            <a:ext cx="2160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MS Gothic"/>
              </a:rPr>
              <a:t>粮食商品率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3a1b"/>
                </a:solidFill>
                <a:latin typeface="Arial"/>
                <a:ea typeface="楷体_GB2312"/>
              </a:rPr>
              <a:t>地理环境对区域不同发展阶段的影响</a:t>
            </a:r>
            <a:endParaRPr b="0" lang="en-US" sz="4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905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工商业发展时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受一些因素影响，粮食商品率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——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粮仓”地位让位于东北和华北平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棉花生产比不上新疆南部和华北平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426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三角洲位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°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附近，地处我国东部沿海中部，长江入海口。松嫩平原大致位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°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8°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，我国东北地区中部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464000" cy="4473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205160" cy="4321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336600"/>
            <a:ext cx="8076960" cy="61405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52280" y="144360"/>
            <a:ext cx="8839440" cy="6408720"/>
          </a:xfrm>
          <a:prstGeom prst="rect">
            <a:avLst/>
          </a:prstGeom>
          <a:ln w="0">
            <a:noFill/>
          </a:ln>
        </p:spPr>
      </p:pic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5448600" cy="436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37080" y="1219320"/>
            <a:ext cx="3706920" cy="533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46483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印度半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609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朝鲜半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1295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印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42480" y="3276720"/>
            <a:ext cx="1277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朝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7200" y="4724280"/>
            <a:ext cx="1277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韩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一、区域的基本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28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概念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区域是指一定的地域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主要特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1240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048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区域具有一定的界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04812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糊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3789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区域内部有明显的相似性和连续性；区域之间有显著的差异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648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区域具有一定的优势、特色、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257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区域之间是相互联系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18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地理环境差异对区域发展的影响</a:t>
            </a:r>
            <a:endParaRPr b="0" lang="en-US" sz="32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102440" cy="18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区域由于地理环境的差异，人们的生产、生活的特点有许多不同，区域的工业、农业、商业等发展水平、发展方向等也存在差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4197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长江三角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Times New Roman"/>
              </a:rPr>
              <a:t>松嫩平原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800600"/>
            <a:ext cx="1905120" cy="1447920"/>
          </a:xfrm>
          <a:prstGeom prst="wedgeEllipseCallout">
            <a:avLst>
              <a:gd name="adj1" fmla="val 88583"/>
              <a:gd name="adj2" fmla="val -52083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51814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举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09480" y="380880"/>
          <a:ext cx="7925040" cy="628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792504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324480" y="1371600"/>
            <a:ext cx="83844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8862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562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934320" y="533520"/>
            <a:ext cx="2057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长江三角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153280" y="64008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533520"/>
            <a:ext cx="8153280" cy="556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352680"/>
            <a:ext cx="6629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048120" y="1828440"/>
            <a:ext cx="4267080" cy="3048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27734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2565360"/>
            <a:ext cx="2210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94920" y="1828800"/>
            <a:ext cx="1155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  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69440" y="3657600"/>
            <a:ext cx="1155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  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153280" y="64008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4-23T05:55:25Z</dcterms:modified>
  <cp:revision>50</cp:revision>
  <dc:subject/>
  <dc:title>PowerPoint Presentation</dc:title>
</cp:coreProperties>
</file>