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304B-A5B4-44BA-B72C-9F3B098696A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EC01-9E51-4AA1-B10A-DAC4C5D4241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2DE3-8681-4569-BC0C-4A094D31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00D-8EAF-4FE5-93DB-6FE71C3D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133-BD33-4537-B0B1-A59EDF39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972-0112-4C61-A09F-18E468D0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AC97-5475-4484-BEEF-3EB73630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7017-D23A-4223-9738-F586465C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DCB4-EA8E-4953-9517-A7D8E52B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21F0-5DFF-4F91-98E4-29B5DF88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7972-E3FD-4818-AA61-3F76A725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9182-8907-44DA-8218-631AF604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61B6-3E30-4465-99B2-33C73B36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EE6-6204-4CFB-95A6-E4CB42C0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856C-122E-4B44-831F-480E0547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27BF-D9DE-4901-85C2-D134E13A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3E71-99DA-4C0D-9E6D-95010F95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9E11-59B9-4CAC-B9EB-83BC0C75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5C3D-563A-4E12-8735-EA1AB51E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E78-1109-4FE8-AEDE-E71B53FF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35C-2A35-44C4-A19B-0FEB0FAE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48C-D4AA-4894-979C-FDBE7D3F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902F-CBAA-4C0F-9BC7-FBFD2333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403-483A-459A-9C38-60F36E70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150-EB3D-4791-A5F7-EA3AE139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D18-C41E-4A1C-881D-CA145C68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2327-BF00-4F16-B4FD-D7572E6561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5CB9-3AA5-4340-9FEC-3729DFBF67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15"/>
          <p:cNvSpPr/>
          <p:nvPr/>
        </p:nvSpPr>
        <p:spPr>
          <a:xfrm>
            <a:off x="1401840" y="4427640"/>
            <a:ext cx="63403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辛弃疾词两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水龙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3921480" y="3602160"/>
            <a:ext cx="153252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单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3"/>
          <p:cNvSpPr/>
          <p:nvPr/>
        </p:nvSpPr>
        <p:spPr>
          <a:xfrm>
            <a:off x="952560" y="1628640"/>
            <a:ext cx="73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倩何人唤取，红巾翠袖，揾英雄泪？”表达作者什么样的思想感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3"/>
          <p:cNvSpPr/>
          <p:nvPr/>
        </p:nvSpPr>
        <p:spPr>
          <a:xfrm>
            <a:off x="909720" y="3147840"/>
            <a:ext cx="7413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辛弃疾此词结语，既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伤抱负不能实现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叹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世无知己，得不到同情与慰藉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写出了英雄失路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孤独与痛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942840" y="1909800"/>
            <a:ext cx="743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片所写景物，是作者登临时即目所见，从中引出漂泊南方、渴望报国，而无用武之地的幽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514440" y="2981160"/>
            <a:ext cx="7686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片述怀言志，三个典故叠用，表达收复失地的壮志、壮志难酬的悲愤以及知音难觅的痛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942840" y="4113360"/>
            <a:ext cx="72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这首词作者通过写登建康赏心亭的所见所感，抒发作者收复失地，统一祖国的雄心壮志和功业未成的苦闷心情，表现对南宋统治者苟且偷安的批判，表达深沉的爱国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3"/>
          <p:cNvSpPr/>
          <p:nvPr/>
        </p:nvSpPr>
        <p:spPr>
          <a:xfrm>
            <a:off x="874800" y="1415880"/>
            <a:ext cx="73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归纳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4"/>
          <p:cNvSpPr/>
          <p:nvPr/>
        </p:nvSpPr>
        <p:spPr>
          <a:xfrm>
            <a:off x="557280" y="1968480"/>
            <a:ext cx="20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问题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880920" y="3350160"/>
            <a:ext cx="738216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古人在创作诗词时一般比较忌讳重字，而在这首词的前两句“楚天千里清秋，水随天去秋无际”，作者却连用两个“秋”字，想想作者这样写的好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圆角矩形 4"/>
          <p:cNvGrpSpPr/>
          <p:nvPr/>
        </p:nvGrpSpPr>
        <p:grpSpPr>
          <a:xfrm>
            <a:off x="3548160" y="1231920"/>
            <a:ext cx="2187360" cy="590400"/>
            <a:chOff x="3548160" y="1231920"/>
            <a:chExt cx="2187360" cy="590400"/>
          </a:xfrm>
        </p:grpSpPr>
        <p:pic>
          <p:nvPicPr>
            <p:cNvPr id="593" name="圆角矩形 4" descr=""/>
            <p:cNvPicPr/>
            <p:nvPr/>
          </p:nvPicPr>
          <p:blipFill>
            <a:blip r:embed="rId1"/>
            <a:stretch/>
          </p:blipFill>
          <p:spPr>
            <a:xfrm>
              <a:off x="3548160" y="1231920"/>
              <a:ext cx="2187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3591000" y="1276200"/>
              <a:ext cx="210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文本框 5"/>
          <p:cNvSpPr/>
          <p:nvPr/>
        </p:nvSpPr>
        <p:spPr>
          <a:xfrm>
            <a:off x="3705120" y="1249200"/>
            <a:ext cx="20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难点解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矩形 3"/>
          <p:cNvSpPr/>
          <p:nvPr/>
        </p:nvSpPr>
        <p:spPr>
          <a:xfrm>
            <a:off x="990720" y="1955880"/>
            <a:ext cx="71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者选取两个视角表现无尽的秋意。第一句“楚天千里清秋”作者采用了仰视的视角来描绘秋天独有的高远、萧瑟的特点。第二句“水随天去秋无际”作者采用平视的视角来展现水天相连、浩浩江流东去的壮阔画面。两个“秋”字写出了词人目光的流动，目力所极一片秋色。第二个“秋”字高度概括了长江两岸的所有秋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538200" y="1535040"/>
            <a:ext cx="26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写作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2"/>
          <p:cNvSpPr/>
          <p:nvPr/>
        </p:nvSpPr>
        <p:spPr>
          <a:xfrm>
            <a:off x="979560" y="2125800"/>
            <a:ext cx="74102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．寓情于景的写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这突出地表现在作品的上片。“楚天千里清秋，水随天去秋无际”，连用两个“秋”字，隐含了作者心中的愁苦之情。那烟波浩渺、水天一望无际的画面更增加了愁的力度，把此地之“景”和登临者的“情”有机地融合为一体。下面的“遥岑远目，献愁供恨，玉簪螺髻。落日楼头，断鸿声里，江南游子”也是如此，这些景物将作者的“愁”具体化了。远处美丽的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山峦已沦陷敌手，景色之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1"/>
          <p:cNvSpPr/>
          <p:nvPr/>
        </p:nvSpPr>
        <p:spPr>
          <a:xfrm>
            <a:off x="930240" y="1627200"/>
            <a:ext cx="72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词人已无心欣赏，面对此情此景，作者只有愁和恨。因而在作者眼里，是“献愁供恨”。恰在此时，夕阳西照，一抹残晖似乎预示着风雨飘摇之中的南宋王朝的命运；离群孤雁凄厉的叫声让词人想起自己无家可归的游子处境。“落日”“孤雁”“游子”的情调和谐，一股悲凉、凄切的氛围迎面而来，已分不清什么是景，什么是情，真正达到了情与景的有机统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矩形 1"/>
          <p:cNvSpPr/>
          <p:nvPr/>
        </p:nvSpPr>
        <p:spPr>
          <a:xfrm>
            <a:off x="932040" y="1494000"/>
            <a:ext cx="727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．强烈而极富暗示性的动作刻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紧承“江南游子”，词作由即景抒情完全转入人事人情。“把吴钩看了，栏杆拍遍”，充满了昂扬的斗志和激情。在这里，作品不再用即景抒情之法，而是以人物动作表现人物的内心世界。作品所展示给我们的是包含感情色彩的景物和带有强烈激情的动作，而感情的具体内涵却需要我们自己去体会。这样作品便更加深沉浑厚，具有更加强烈的艺术魅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圆角矩形 4"/>
          <p:cNvGrpSpPr/>
          <p:nvPr/>
        </p:nvGrpSpPr>
        <p:grpSpPr>
          <a:xfrm>
            <a:off x="3548160" y="1231920"/>
            <a:ext cx="2187360" cy="590400"/>
            <a:chOff x="3548160" y="1231920"/>
            <a:chExt cx="2187360" cy="590400"/>
          </a:xfrm>
        </p:grpSpPr>
        <p:pic>
          <p:nvPicPr>
            <p:cNvPr id="602" name="圆角矩形 4" descr=""/>
            <p:cNvPicPr/>
            <p:nvPr/>
          </p:nvPicPr>
          <p:blipFill>
            <a:blip r:embed="rId1"/>
            <a:stretch/>
          </p:blipFill>
          <p:spPr>
            <a:xfrm>
              <a:off x="3548160" y="1231920"/>
              <a:ext cx="2187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3591000" y="1276200"/>
              <a:ext cx="210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文本框 5"/>
          <p:cNvSpPr/>
          <p:nvPr/>
        </p:nvSpPr>
        <p:spPr>
          <a:xfrm>
            <a:off x="3705120" y="124920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课文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动作按钮: 自定义 5">
            <a:hlinkClick r:id="" action="ppaction://hlinkshowjump?jump=endshow"/>
          </p:cNvPr>
          <p:cNvSpPr/>
          <p:nvPr/>
        </p:nvSpPr>
        <p:spPr>
          <a:xfrm>
            <a:off x="7924680" y="6191280"/>
            <a:ext cx="973080" cy="423720"/>
          </a:xfrm>
          <a:custGeom>
            <a:avLst/>
            <a:gdLst>
              <a:gd name="textAreaLeft" fmla="*/ 27360 w 973080"/>
              <a:gd name="textAreaRight" fmla="*/ 945720 w 973080"/>
              <a:gd name="textAreaTop" fmla="*/ 27360 h 423720"/>
              <a:gd name="textAreaBottom" fmla="*/ 396360 h 423720"/>
            </a:gdLst>
            <a:ahLst/>
            <a:rect l="textAreaLeft" t="textAreaTop" r="textAreaRight" b="textAreaBottom"/>
            <a:pathLst>
              <a:path w="49581" h="21600">
                <a:moveTo>
                  <a:pt x="0" y="0"/>
                </a:moveTo>
                <a:lnTo>
                  <a:pt x="49581" y="0"/>
                </a:lnTo>
                <a:lnTo>
                  <a:pt x="49581" y="21600"/>
                </a:lnTo>
                <a:lnTo>
                  <a:pt x="0" y="21600"/>
                </a:lnTo>
                <a:close/>
              </a:path>
              <a:path fill="lightenLess" w="49581" h="21600">
                <a:moveTo>
                  <a:pt x="0" y="0"/>
                </a:moveTo>
                <a:lnTo>
                  <a:pt x="49581" y="0"/>
                </a:lnTo>
                <a:lnTo>
                  <a:pt x="48181" y="1400"/>
                </a:lnTo>
                <a:lnTo>
                  <a:pt x="1400" y="1400"/>
                </a:lnTo>
                <a:close/>
              </a:path>
              <a:path fill="darken" w="49581" h="21600">
                <a:moveTo>
                  <a:pt x="49581" y="0"/>
                </a:moveTo>
                <a:lnTo>
                  <a:pt x="49581" y="21600"/>
                </a:lnTo>
                <a:lnTo>
                  <a:pt x="48181" y="20200"/>
                </a:lnTo>
                <a:lnTo>
                  <a:pt x="48181" y="1400"/>
                </a:lnTo>
                <a:close/>
              </a:path>
              <a:path fill="darkenLess" w="49581" h="21600">
                <a:moveTo>
                  <a:pt x="49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81" y="20200"/>
                </a:lnTo>
                <a:close/>
              </a:path>
              <a:path fill="lighten" w="49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退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928800" y="1890720"/>
            <a:ext cx="72864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900000" y="2558880"/>
            <a:ext cx="7593120" cy="173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辛弃疾的生平和词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理解词中所用典故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鉴赏这首词的艺术手法和寄托的情感，深刻理解词人的悲苦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圆角矩形 5"/>
          <p:cNvGrpSpPr/>
          <p:nvPr/>
        </p:nvGrpSpPr>
        <p:grpSpPr>
          <a:xfrm>
            <a:off x="3548160" y="1231920"/>
            <a:ext cx="2187360" cy="596880"/>
            <a:chOff x="3548160" y="1231920"/>
            <a:chExt cx="2187360" cy="596880"/>
          </a:xfrm>
        </p:grpSpPr>
        <p:pic>
          <p:nvPicPr>
            <p:cNvPr id="52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3548160" y="1231920"/>
              <a:ext cx="21873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3591000" y="1276200"/>
              <a:ext cx="210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文本框 6"/>
          <p:cNvSpPr/>
          <p:nvPr/>
        </p:nvSpPr>
        <p:spPr>
          <a:xfrm>
            <a:off x="3705120" y="124920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912960" y="3684960"/>
            <a:ext cx="7489800" cy="131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辛弃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140—1207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字幼安，号稼轩，历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今山东济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。南宋豪放派代表词人，与苏轼齐名，世称“苏辛”。又是爱国词派的代表。曾多次上书，陈抗金复国方略，都未被采纳。历官江西、湖南、湖北安抚使，但都不久于职。终以报国无路，忧愤而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辛弃疾的词作现存六百二十余首，内容极为丰富，其中抒写爱国思想之作占有极大分量。他继承和发展了苏轼所开创的豪放词派，著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稼轩长短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7"/>
          <p:cNvSpPr/>
          <p:nvPr/>
        </p:nvSpPr>
        <p:spPr>
          <a:xfrm>
            <a:off x="525600" y="1884240"/>
            <a:ext cx="24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圆角矩形 7"/>
          <p:cNvGrpSpPr/>
          <p:nvPr/>
        </p:nvGrpSpPr>
        <p:grpSpPr>
          <a:xfrm>
            <a:off x="3548160" y="1231920"/>
            <a:ext cx="2187360" cy="596880"/>
            <a:chOff x="3548160" y="1231920"/>
            <a:chExt cx="2187360" cy="596880"/>
          </a:xfrm>
        </p:grpSpPr>
        <p:pic>
          <p:nvPicPr>
            <p:cNvPr id="533" name="圆角矩形 7" descr=""/>
            <p:cNvPicPr/>
            <p:nvPr/>
          </p:nvPicPr>
          <p:blipFill>
            <a:blip r:embed="rId1"/>
            <a:stretch/>
          </p:blipFill>
          <p:spPr>
            <a:xfrm>
              <a:off x="3548160" y="1231920"/>
              <a:ext cx="21873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3591000" y="1276200"/>
              <a:ext cx="210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文本框 5"/>
          <p:cNvSpPr/>
          <p:nvPr/>
        </p:nvSpPr>
        <p:spPr>
          <a:xfrm>
            <a:off x="3705120" y="124920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1"/>
          <p:cNvSpPr/>
          <p:nvPr/>
        </p:nvSpPr>
        <p:spPr>
          <a:xfrm>
            <a:off x="900000" y="2433600"/>
            <a:ext cx="748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水龙吟”是词牌名。“登建康赏心亭”是词的题目。建康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今江苏南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东吴、东晋、宋、齐、梁、陈六个朝代的都城。赏心亭是南宋建康城上的亭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首词作于宋孝宗淳熙元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174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秋。这年春天，辛弃疾由滁州知府调为江东安抚司参议官，得以再返建康。词人时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南归已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壮志依然未酬，胸中充满郁愤之气。这一年的秋天，作者登上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27"/>
          <p:cNvSpPr/>
          <p:nvPr/>
        </p:nvSpPr>
        <p:spPr>
          <a:xfrm>
            <a:off x="566640" y="1909800"/>
            <a:ext cx="26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写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圆角矩形 3"/>
          <p:cNvGrpSpPr/>
          <p:nvPr/>
        </p:nvGrpSpPr>
        <p:grpSpPr>
          <a:xfrm>
            <a:off x="3548160" y="1231920"/>
            <a:ext cx="2187360" cy="596880"/>
            <a:chOff x="3548160" y="1231920"/>
            <a:chExt cx="2187360" cy="596880"/>
          </a:xfrm>
        </p:grpSpPr>
        <p:pic>
          <p:nvPicPr>
            <p:cNvPr id="539" name="圆角矩形 3" descr=""/>
            <p:cNvPicPr/>
            <p:nvPr/>
          </p:nvPicPr>
          <p:blipFill>
            <a:blip r:embed="rId1"/>
            <a:stretch/>
          </p:blipFill>
          <p:spPr>
            <a:xfrm>
              <a:off x="3548160" y="1231920"/>
              <a:ext cx="21873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3591000" y="1276200"/>
              <a:ext cx="210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文本框 5"/>
          <p:cNvSpPr/>
          <p:nvPr/>
        </p:nvSpPr>
        <p:spPr>
          <a:xfrm>
            <a:off x="3705120" y="124920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矩形 1"/>
          <p:cNvSpPr/>
          <p:nvPr/>
        </p:nvSpPr>
        <p:spPr>
          <a:xfrm>
            <a:off x="961920" y="1909800"/>
            <a:ext cx="72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建康城的赏心亭，眺望辽阔的南天、远逝的流水和高耸的山峰，又看到了夕阳西沉，听到了声声雁啼，就更引发出他的无限忧思。作者既不愿退隐江湖，又不肯贪图享受，他只是急切地希望去杀敌报国，生怕时不待人，就这样白白地老去。而他的雄心壮志却没人能够理解，这正是词人当时内心最大的悲哀！这首词是词人早期作品中最负盛名的一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3"/>
          <p:cNvSpPr/>
          <p:nvPr/>
        </p:nvSpPr>
        <p:spPr>
          <a:xfrm>
            <a:off x="914400" y="1959120"/>
            <a:ext cx="73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作者在赏心亭看到什么触动自己心弦的景物？表现了词人怎样的心境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圆角矩形 2"/>
          <p:cNvGrpSpPr/>
          <p:nvPr/>
        </p:nvGrpSpPr>
        <p:grpSpPr>
          <a:xfrm>
            <a:off x="3548160" y="1231920"/>
            <a:ext cx="2187360" cy="590400"/>
            <a:chOff x="3548160" y="1231920"/>
            <a:chExt cx="2187360" cy="590400"/>
          </a:xfrm>
        </p:grpSpPr>
        <p:pic>
          <p:nvPicPr>
            <p:cNvPr id="545" name="圆角矩形 2" descr=""/>
            <p:cNvPicPr/>
            <p:nvPr/>
          </p:nvPicPr>
          <p:blipFill>
            <a:blip r:embed="rId1"/>
            <a:stretch/>
          </p:blipFill>
          <p:spPr>
            <a:xfrm>
              <a:off x="3548160" y="1231920"/>
              <a:ext cx="21873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591000" y="1276200"/>
              <a:ext cx="210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文本框 4"/>
          <p:cNvSpPr/>
          <p:nvPr/>
        </p:nvSpPr>
        <p:spPr>
          <a:xfrm>
            <a:off x="3705120" y="1249200"/>
            <a:ext cx="18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研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903240" y="5815080"/>
            <a:ext cx="7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断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1592280" y="3360600"/>
            <a:ext cx="52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水天相接，无边无际，雄浑，显得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空寂苍凉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1682640" y="40734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比喻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清秀之美。满怀</a:t>
            </a:r>
            <a:r>
              <a:rPr b="0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愁恨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1676520" y="5676840"/>
            <a:ext cx="49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失群的孤雁，比喻自己因飘零的身世而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悲苦和孤寂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心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932040" y="339876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江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5"/>
          <p:cNvSpPr/>
          <p:nvPr/>
        </p:nvSpPr>
        <p:spPr>
          <a:xfrm>
            <a:off x="903240" y="40892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山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8"/>
          <p:cNvSpPr/>
          <p:nvPr/>
        </p:nvSpPr>
        <p:spPr>
          <a:xfrm>
            <a:off x="914400" y="49356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落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1658880" y="479916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喻南宋国势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衰颓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意思，也表达了作者的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愁苦悲凉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心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0"/>
          <p:cNvSpPr/>
          <p:nvPr/>
        </p:nvSpPr>
        <p:spPr>
          <a:xfrm>
            <a:off x="6702480" y="3414600"/>
            <a:ext cx="193680" cy="2971800"/>
          </a:xfrm>
          <a:custGeom>
            <a:avLst/>
            <a:gdLst>
              <a:gd name="textAreaLeft" fmla="*/ 0 w 193680"/>
              <a:gd name="textAreaRight" fmla="*/ 69840 w 193680"/>
              <a:gd name="textAreaTop" fmla="*/ 86040 h 2971800"/>
              <a:gd name="textAreaBottom" fmla="*/ 28857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03"/>
                  <a:pt x="10800" y="2006"/>
                </a:cubicBezTo>
                <a:lnTo>
                  <a:pt x="10800" y="8794"/>
                </a:lnTo>
                <a:cubicBezTo>
                  <a:pt x="10800" y="9797"/>
                  <a:pt x="16200" y="10800"/>
                  <a:pt x="21600" y="10800"/>
                </a:cubicBezTo>
                <a:cubicBezTo>
                  <a:pt x="16200" y="10800"/>
                  <a:pt x="10800" y="11803"/>
                  <a:pt x="10800" y="12806"/>
                </a:cubicBezTo>
                <a:lnTo>
                  <a:pt x="10800" y="19594"/>
                </a:lnTo>
                <a:cubicBezTo>
                  <a:pt x="10800" y="20597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1"/>
          <p:cNvSpPr/>
          <p:nvPr/>
        </p:nvSpPr>
        <p:spPr>
          <a:xfrm>
            <a:off x="6972480" y="4137120"/>
            <a:ext cx="128088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浩渺壮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气势雄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苍茫悲凉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3"/>
          <p:cNvSpPr/>
          <p:nvPr/>
        </p:nvSpPr>
        <p:spPr>
          <a:xfrm>
            <a:off x="895320" y="128916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作者用了哪几个动作来表达自己内心的情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3"/>
          <p:cNvSpPr/>
          <p:nvPr/>
        </p:nvSpPr>
        <p:spPr>
          <a:xfrm>
            <a:off x="961920" y="1847880"/>
            <a:ext cx="728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看、拍、会、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吴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本是战场杀敌之锐器，现在却闲置身旁，烘托词人空有满腔雄心壮志，却是英雄无用武之地的苦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栏杆拍遍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是胸中说不出的抑郁苦闷之气，借拍打栏杆来发泄，雄心壮志无处施展的急切悲愤的情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人会、登临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感叹自己空有恢复中原的抱负，而南宋统治集团中却无人是知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3"/>
          <p:cNvSpPr/>
          <p:nvPr/>
        </p:nvSpPr>
        <p:spPr>
          <a:xfrm>
            <a:off x="887400" y="1496880"/>
            <a:ext cx="73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上片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887400" y="3708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上片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"/>
          <p:cNvSpPr/>
          <p:nvPr/>
        </p:nvSpPr>
        <p:spPr>
          <a:xfrm>
            <a:off x="2144880" y="3006720"/>
            <a:ext cx="215640" cy="21985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240 h 2198520"/>
              <a:gd name="textAreaBottom" fmla="*/ 2141280 h 219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2438280" y="27525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景色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 江天、山景、落日、断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511360" y="41925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动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看、拍、会、登</a:t>
            </a:r>
            <a:r>
              <a:rPr b="0" lang="zh-CN" sz="3200" spc="-1" strike="noStrike">
                <a:solidFill>
                  <a:srgbClr val="ed7d31"/>
                </a:solidFill>
                <a:latin typeface="黑体"/>
                <a:ea typeface="黑体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6248520" y="3338640"/>
            <a:ext cx="2158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寓情于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借景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0"/>
          <p:cNvSpPr/>
          <p:nvPr/>
        </p:nvSpPr>
        <p:spPr>
          <a:xfrm>
            <a:off x="6032520" y="2954160"/>
            <a:ext cx="216000" cy="2303640"/>
          </a:xfrm>
          <a:custGeom>
            <a:avLst/>
            <a:gdLst>
              <a:gd name="textAreaLeft" fmla="*/ 0 w 216000"/>
              <a:gd name="textAreaRight" fmla="*/ 78120 w 21600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3"/>
          <p:cNvSpPr/>
          <p:nvPr/>
        </p:nvSpPr>
        <p:spPr>
          <a:xfrm>
            <a:off x="909720" y="1270080"/>
            <a:ext cx="732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与词的上片相比，词的下片描写对象变成了历史人物，词人写了哪些人和哪些事呢？词人对这些历史人物各持什么态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2438280" y="3243240"/>
            <a:ext cx="32338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翰 ：乐于归隐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3012480" y="384660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许汜：谋取私利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5437080" y="35942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不学、不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2915280" y="478152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刘备 ：雄才大略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0"/>
          <p:cNvSpPr/>
          <p:nvPr/>
        </p:nvSpPr>
        <p:spPr>
          <a:xfrm flipV="1">
            <a:off x="5100480" y="5006880"/>
            <a:ext cx="6480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5688000" y="4734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赞赏，志在为国为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2877480" y="56451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桓温 ：叹时光流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3"/>
          <p:cNvSpPr/>
          <p:nvPr/>
        </p:nvSpPr>
        <p:spPr>
          <a:xfrm>
            <a:off x="5307120" y="5897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5999040" y="53229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忧惧国事飘摇，时光流逝，北伐无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5"/>
          <p:cNvSpPr/>
          <p:nvPr/>
        </p:nvSpPr>
        <p:spPr>
          <a:xfrm>
            <a:off x="2276640" y="3321000"/>
            <a:ext cx="161640" cy="1004760"/>
          </a:xfrm>
          <a:custGeom>
            <a:avLst/>
            <a:gdLst>
              <a:gd name="textAreaLeft" fmla="*/ 103320 w 161640"/>
              <a:gd name="textAreaRight" fmla="*/ 162000 w 161640"/>
              <a:gd name="textAreaTop" fmla="*/ 27360 h 1004760"/>
              <a:gd name="textAreaBottom" fmla="*/ 977400 h 10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0"/>
                  <a:pt x="10800" y="1900"/>
                </a:cubicBezTo>
                <a:lnTo>
                  <a:pt x="10800" y="8900"/>
                </a:lnTo>
                <a:cubicBezTo>
                  <a:pt x="10800" y="9850"/>
                  <a:pt x="5400" y="10800"/>
                  <a:pt x="0" y="10800"/>
                </a:cubicBezTo>
                <a:cubicBezTo>
                  <a:pt x="5400" y="10800"/>
                  <a:pt x="10800" y="11750"/>
                  <a:pt x="10800" y="12700"/>
                </a:cubicBezTo>
                <a:lnTo>
                  <a:pt x="10800" y="19700"/>
                </a:lnTo>
                <a:cubicBezTo>
                  <a:pt x="10800" y="206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6"/>
          <p:cNvSpPr/>
          <p:nvPr/>
        </p:nvSpPr>
        <p:spPr>
          <a:xfrm>
            <a:off x="2208240" y="48895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7"/>
          <p:cNvSpPr/>
          <p:nvPr/>
        </p:nvSpPr>
        <p:spPr>
          <a:xfrm>
            <a:off x="1722600" y="3444840"/>
            <a:ext cx="53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1736640" y="509256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9"/>
          <p:cNvSpPr/>
          <p:nvPr/>
        </p:nvSpPr>
        <p:spPr>
          <a:xfrm>
            <a:off x="1460520" y="358920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0"/>
          <p:cNvSpPr/>
          <p:nvPr/>
        </p:nvSpPr>
        <p:spPr>
          <a:xfrm>
            <a:off x="968400" y="441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用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23"/>
          <p:cNvSpPr/>
          <p:nvPr/>
        </p:nvSpPr>
        <p:spPr>
          <a:xfrm>
            <a:off x="5284800" y="3268800"/>
            <a:ext cx="152280" cy="1114200"/>
          </a:xfrm>
          <a:custGeom>
            <a:avLst/>
            <a:gdLst>
              <a:gd name="textAreaLeft" fmla="*/ 0 w 152280"/>
              <a:gd name="textAreaRight" fmla="*/ 55080 w 152280"/>
              <a:gd name="textAreaTop" fmla="*/ 22320 h 1114200"/>
              <a:gd name="textAreaBottom" fmla="*/ 1091880 h 11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0"/>
                  <a:pt x="10800" y="1400"/>
                </a:cubicBezTo>
                <a:lnTo>
                  <a:pt x="10800" y="9400"/>
                </a:lnTo>
                <a:cubicBezTo>
                  <a:pt x="10800" y="10100"/>
                  <a:pt x="16200" y="10800"/>
                  <a:pt x="21600" y="10800"/>
                </a:cubicBezTo>
                <a:cubicBezTo>
                  <a:pt x="16200" y="10800"/>
                  <a:pt x="10800" y="11500"/>
                  <a:pt x="10800" y="12200"/>
                </a:cubicBezTo>
                <a:lnTo>
                  <a:pt x="10800" y="20200"/>
                </a:lnTo>
                <a:cubicBezTo>
                  <a:pt x="10800" y="20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02:03:03Z</dcterms:created>
  <dc:creator>Administrator</dc:creator>
  <dc:description/>
  <dc:language>en-US</dc:language>
  <cp:lastModifiedBy>Administrator</cp:lastModifiedBy>
  <dcterms:modified xsi:type="dcterms:W3CDTF">2016-03-31T12:55:18Z</dcterms:modified>
  <cp:revision>90</cp:revision>
  <dc:subject/>
  <dc:title>PowerPoint 演示文稿</dc:title>
</cp:coreProperties>
</file>