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png" ContentType="image/png"/>
  <Override PartName="/ppt/media/image18.wmf" ContentType="image/x-wmf"/>
  <Override PartName="/ppt/media/image2.jpeg" ContentType="image/jpeg"/>
  <Override PartName="/ppt/media/image17.png" ContentType="image/png"/>
  <Override PartName="/ppt/media/image28.png" ContentType="image/png"/>
  <Override PartName="/ppt/media/image31.wmf" ContentType="image/x-wmf"/>
  <Override PartName="/ppt/media/image5.png" ContentType="image/png"/>
  <Override PartName="/ppt/media/image35.png" ContentType="image/png"/>
  <Override PartName="/ppt/media/image25.wmf" ContentType="image/x-wmf"/>
  <Override PartName="/ppt/media/image26.png" ContentType="image/png"/>
  <Override PartName="/ppt/media/image12.wmf" ContentType="image/x-wmf"/>
  <Override PartName="/ppt/media/image4.png" ContentType="image/png"/>
  <Override PartName="/ppt/media/image13.png" ContentType="image/png"/>
  <Override PartName="/ppt/media/image34.wmf" ContentType="image/x-wmf"/>
  <Override PartName="/ppt/media/image9.wmf" ContentType="image/x-wmf"/>
  <Override PartName="/ppt/media/image39.wmf" ContentType="image/x-wmf"/>
  <Override PartName="/ppt/media/image40.png" ContentType="image/png"/>
  <Override PartName="/ppt/media/image42.png" ContentType="image/png"/>
  <Override PartName="/ppt/media/image30.wmf" ContentType="image/x-wmf"/>
  <Override PartName="/ppt/media/image45.png" ContentType="image/png"/>
  <Override PartName="/ppt/media/image43.png" ContentType="image/png"/>
  <Override PartName="/ppt/media/image44.png" ContentType="image/png"/>
  <Override PartName="/ppt/media/image46.wmf" ContentType="image/x-wmf"/>
  <Override PartName="/ppt/media/image41.wmf" ContentType="image/x-wmf"/>
  <Override PartName="/ppt/media/image38.png" ContentType="image/png"/>
  <Override PartName="/ppt/media/image8.png" ContentType="image/png"/>
  <Override PartName="/ppt/media/image16.wmf" ContentType="image/x-wmf"/>
  <Override PartName="/ppt/media/image3.png" ContentType="image/png"/>
  <Override PartName="/ppt/media/image33.png" ContentType="image/png"/>
  <Override PartName="/ppt/media/image37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11.png" ContentType="image/png"/>
  <Override PartName="/ppt/media/image10.wmf" ContentType="image/x-wmf"/>
  <Override PartName="/ppt/media/image36.png" ContentType="image/png"/>
  <Override PartName="/ppt/media/image6.png" ContentType="image/png"/>
  <Override PartName="/ppt/media/image14.wmf" ContentType="image/x-wmf"/>
  <Override PartName="/ppt/media/image29.png" ContentType="image/png"/>
  <Override PartName="/ppt/media/image3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64731-A9B4-4C43-9948-77C2FE753425}" type="slidenum">
              <a:rPr b="0" lang="zh-CN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CD3D5-C83F-480C-B4DF-6763255126F0}" type="slidenum">
              <a:rPr b="0" lang="zh-CN" sz="1200" spc="-1" strike="noStrike">
                <a:solidFill>
                  <a:srgbClr val="007a77"/>
                </a:solidFill>
                <a:latin typeface="Arial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B64A-F681-48AA-AE4D-6B070A883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7E4A-105A-4B7D-90D7-34ACDA9AB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E2E1-EC1A-44BA-A3B9-ACCC462AF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114F-2C2F-4348-8845-0433CF0AC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845E6-0628-4FCB-A961-F70E59465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1AD87-C3AE-4D98-91C3-E2417F61B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EBB06-13B5-4509-BAF1-B7BDF5661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62B39-830E-421C-AAFF-ACF14A4D9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05EF4-805D-48CA-B041-1ACFF6565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514A9-A4D4-4E34-A2FE-D44F478E0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1BE40-7A69-4B1D-8B8F-6A02E759A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DA55-C746-4D06-8A38-53CA92066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1E66D-B07D-422D-9CE1-0F8A35BA5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8EE47-EB69-4359-A2B5-E66DDB6A7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24DAB-7223-498B-A70A-B66E51F29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5F52A-BC26-46DB-B5ED-19F9137D2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78329-3953-4026-B22A-29B8DD5F5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FD41-6356-4D78-B8B7-B96FB712E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04DF-C603-4909-9D87-A76DDC621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D050-4CAF-4447-89F1-526410889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73BB-A4E4-419E-8E16-30A293700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DD11-F224-43C0-A94C-5E44D9616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69CB-10E4-44F9-9893-4F76D315A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8168-F2B7-47BA-B249-4FF3C86ED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A4005-1E27-4B27-A9A8-46472CD6EE09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067CE-B6FB-4545-B56B-51EF8720E5DC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6.wmf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8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5.wmf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1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2.wmf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4.wmf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1.wmf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6.wmf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187280" y="2363760"/>
            <a:ext cx="6118560" cy="18255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4"/>
          <p:cNvSpPr/>
          <p:nvPr/>
        </p:nvSpPr>
        <p:spPr>
          <a:xfrm>
            <a:off x="974880" y="1859040"/>
            <a:ext cx="370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．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if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语句最简单的格式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         </a:t>
            </a:r>
            <a:r>
              <a:rPr b="1" lang="en-US" sz="2400" spc="-1" strike="noStrike" u="sng">
                <a:solidFill>
                  <a:srgbClr val="007a77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         </a:t>
            </a:r>
            <a:r>
              <a:rPr b="1" lang="en-US" sz="2400" spc="-1" strike="noStrike" u="sng">
                <a:solidFill>
                  <a:srgbClr val="007a77"/>
                </a:solidFill>
                <a:uFillTx/>
                <a:latin typeface="Arial"/>
              </a:rPr>
              <a:t>                  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；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         </a:t>
            </a:r>
            <a:r>
              <a:rPr b="1" lang="en-US" sz="2400" spc="-1" strike="noStrike" u="sng">
                <a:solidFill>
                  <a:srgbClr val="007a77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9" name="直接连接符 6"/>
          <p:cNvSpPr/>
          <p:nvPr/>
        </p:nvSpPr>
        <p:spPr>
          <a:xfrm>
            <a:off x="1798560" y="2975040"/>
            <a:ext cx="1397160" cy="144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矩形 7"/>
          <p:cNvSpPr/>
          <p:nvPr/>
        </p:nvSpPr>
        <p:spPr>
          <a:xfrm>
            <a:off x="1953720" y="2575080"/>
            <a:ext cx="99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f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表达式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1" name="矩形 8"/>
          <p:cNvSpPr/>
          <p:nvPr/>
        </p:nvSpPr>
        <p:spPr>
          <a:xfrm>
            <a:off x="1798560" y="3043080"/>
            <a:ext cx="159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语句序列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2" name="直接连接符 10"/>
          <p:cNvSpPr/>
          <p:nvPr/>
        </p:nvSpPr>
        <p:spPr>
          <a:xfrm>
            <a:off x="1728720" y="3938760"/>
            <a:ext cx="763560" cy="144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" name="矩形 11"/>
          <p:cNvSpPr/>
          <p:nvPr/>
        </p:nvSpPr>
        <p:spPr>
          <a:xfrm>
            <a:off x="1802880" y="355608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nd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4"/>
          <p:cNvSpPr/>
          <p:nvPr/>
        </p:nvSpPr>
        <p:spPr>
          <a:xfrm>
            <a:off x="743040" y="987480"/>
            <a:ext cx="68832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五、循环语句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for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循环的格式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for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循环变量＝</a:t>
            </a:r>
            <a:r>
              <a:rPr b="1" lang="zh-CN" sz="2400" spc="-1" strike="noStrike" u="sng">
                <a:solidFill>
                  <a:srgbClr val="007a77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             </a:t>
            </a:r>
            <a:r>
              <a:rPr b="1" lang="zh-CN" sz="2400" spc="-1" strike="noStrike" u="sng">
                <a:solidFill>
                  <a:srgbClr val="007a77"/>
                </a:solidFill>
                <a:uFillTx/>
                <a:latin typeface="Times New Roman"/>
                <a:ea typeface="Times New Roman"/>
              </a:rPr>
              <a:t>              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；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end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while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语句的格式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while</a:t>
            </a:r>
            <a:r>
              <a:rPr b="1" lang="zh-CN" sz="2400" spc="-1" strike="noStrike" u="sng">
                <a:solidFill>
                  <a:srgbClr val="007a77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                </a:t>
            </a:r>
            <a:r>
              <a:rPr b="1" lang="zh-CN" sz="2400" spc="-1" strike="noStrike" u="sng">
                <a:solidFill>
                  <a:srgbClr val="007a77"/>
                </a:solidFill>
                <a:uFillTx/>
                <a:latin typeface="Times New Roman"/>
                <a:ea typeface="Times New Roman"/>
              </a:rPr>
              <a:t>                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；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        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end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5" name="直接连接符 6"/>
          <p:cNvSpPr/>
          <p:nvPr/>
        </p:nvSpPr>
        <p:spPr>
          <a:xfrm>
            <a:off x="3265560" y="2624040"/>
            <a:ext cx="2633760" cy="180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6" name="矩形 7"/>
          <p:cNvSpPr/>
          <p:nvPr/>
        </p:nvSpPr>
        <p:spPr>
          <a:xfrm>
            <a:off x="3560760" y="2155680"/>
            <a:ext cx="20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初值：步长：终值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" name="矩形 8"/>
          <p:cNvSpPr/>
          <p:nvPr/>
        </p:nvSpPr>
        <p:spPr>
          <a:xfrm>
            <a:off x="1779480" y="2674800"/>
            <a:ext cx="8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循环体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" name="直接连接符 10"/>
          <p:cNvSpPr/>
          <p:nvPr/>
        </p:nvSpPr>
        <p:spPr>
          <a:xfrm>
            <a:off x="2030400" y="4775040"/>
            <a:ext cx="1238400" cy="180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9" name="矩形 11"/>
          <p:cNvSpPr/>
          <p:nvPr/>
        </p:nvSpPr>
        <p:spPr>
          <a:xfrm>
            <a:off x="2135160" y="4335480"/>
            <a:ext cx="8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表达式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0" name="矩形 12"/>
          <p:cNvSpPr/>
          <p:nvPr/>
        </p:nvSpPr>
        <p:spPr>
          <a:xfrm>
            <a:off x="2259000" y="4857840"/>
            <a:ext cx="8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循环体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1" descr="经典习题奠基.TIF"/>
          <p:cNvPicPr/>
          <p:nvPr/>
        </p:nvPicPr>
        <p:blipFill>
          <a:blip r:embed="rId2"/>
          <a:stretch/>
        </p:blipFill>
        <p:spPr>
          <a:xfrm>
            <a:off x="716040" y="2743200"/>
            <a:ext cx="7750080" cy="6094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Object 4"/>
          <p:cNvGraphicFramePr/>
          <p:nvPr/>
        </p:nvGraphicFramePr>
        <p:xfrm>
          <a:off x="399960" y="853920"/>
          <a:ext cx="7748640" cy="59104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53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9960" y="853920"/>
                    <a:ext cx="7748640" cy="591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矩形 1"/>
          <p:cNvSpPr/>
          <p:nvPr/>
        </p:nvSpPr>
        <p:spPr>
          <a:xfrm>
            <a:off x="746280" y="4275000"/>
            <a:ext cx="110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答案：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155" name="Object 2"/>
          <p:cNvGraphicFramePr/>
          <p:nvPr/>
        </p:nvGraphicFramePr>
        <p:xfrm>
          <a:off x="681120" y="1378080"/>
          <a:ext cx="7900920" cy="3319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56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1120" y="1378080"/>
                    <a:ext cx="7900920" cy="33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newsflash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2"/>
          <p:cNvSpPr/>
          <p:nvPr/>
        </p:nvSpPr>
        <p:spPr>
          <a:xfrm>
            <a:off x="676440" y="646200"/>
            <a:ext cx="7583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教材习题改编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给出如图程序框图，其功能是 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宋体"/>
              </a:rPr>
              <a:t>A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宋体"/>
              </a:rPr>
              <a:t>．求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  <a:ea typeface="宋体"/>
              </a:rPr>
              <a:t>a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宋体"/>
              </a:rPr>
              <a:t>－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  <a:ea typeface="宋体"/>
              </a:rPr>
              <a:t>b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宋体"/>
              </a:rPr>
              <a:t>的值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宋体"/>
              </a:rPr>
              <a:t>  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宋体"/>
              </a:rPr>
              <a:t>	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宋体"/>
              </a:rPr>
              <a:t>	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宋体"/>
              </a:rPr>
              <a:t>	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宋体"/>
              </a:rPr>
              <a:t>B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宋体"/>
              </a:rPr>
              <a:t>．求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  <a:ea typeface="宋体"/>
              </a:rPr>
              <a:t>b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宋体"/>
              </a:rPr>
              <a:t>－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  <a:ea typeface="宋体"/>
              </a:rPr>
              <a:t>a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宋体"/>
              </a:rPr>
              <a:t>的值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宋体"/>
              </a:rPr>
              <a:t>C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宋体"/>
              </a:rPr>
              <a:t>．求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宋体"/>
              </a:rPr>
              <a:t>|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  <a:ea typeface="宋体"/>
              </a:rPr>
              <a:t>a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宋体"/>
              </a:rPr>
              <a:t>－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  <a:ea typeface="宋体"/>
              </a:rPr>
              <a:t>b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宋体"/>
              </a:rPr>
              <a:t>|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宋体"/>
              </a:rPr>
              <a:t>的值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宋体"/>
              </a:rPr>
              <a:t>  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宋体"/>
              </a:rPr>
              <a:t>	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宋体"/>
              </a:rPr>
              <a:t>	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宋体"/>
              </a:rPr>
              <a:t>D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宋体"/>
              </a:rPr>
              <a:t>．以上都不对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8" name="TextBox 3"/>
          <p:cNvSpPr/>
          <p:nvPr/>
        </p:nvSpPr>
        <p:spPr>
          <a:xfrm>
            <a:off x="1074600" y="5580000"/>
            <a:ext cx="248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案：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9" name="TextBox 4"/>
          <p:cNvSpPr/>
          <p:nvPr/>
        </p:nvSpPr>
        <p:spPr>
          <a:xfrm>
            <a:off x="1112760" y="5130720"/>
            <a:ext cx="74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解析：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求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|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－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|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的值．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2849400" y="1362240"/>
            <a:ext cx="2854440" cy="24843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Object 4"/>
          <p:cNvGraphicFramePr/>
          <p:nvPr/>
        </p:nvGraphicFramePr>
        <p:xfrm>
          <a:off x="301680" y="1036800"/>
          <a:ext cx="7827840" cy="5202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62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1680" y="1036800"/>
                    <a:ext cx="7827840" cy="52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6245280" y="917640"/>
            <a:ext cx="2544840" cy="30830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Box 1"/>
          <p:cNvSpPr/>
          <p:nvPr/>
        </p:nvSpPr>
        <p:spPr>
          <a:xfrm>
            <a:off x="685800" y="3681360"/>
            <a:ext cx="275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案：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165" name="Object 2"/>
          <p:cNvGraphicFramePr/>
          <p:nvPr/>
        </p:nvGraphicFramePr>
        <p:xfrm>
          <a:off x="765000" y="1938240"/>
          <a:ext cx="7726680" cy="2057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66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5000" y="1938240"/>
                    <a:ext cx="772668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newsflash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Object 6"/>
          <p:cNvGraphicFramePr/>
          <p:nvPr/>
        </p:nvGraphicFramePr>
        <p:xfrm>
          <a:off x="598320" y="1366920"/>
          <a:ext cx="7899480" cy="3092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68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8320" y="1366920"/>
                    <a:ext cx="7899480" cy="30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TextBox 8"/>
          <p:cNvSpPr/>
          <p:nvPr/>
        </p:nvSpPr>
        <p:spPr>
          <a:xfrm>
            <a:off x="1122480" y="4079880"/>
            <a:ext cx="4792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解析：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5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，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b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5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2.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答案：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2,5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Object 2"/>
          <p:cNvGraphicFramePr/>
          <p:nvPr/>
        </p:nvGraphicFramePr>
        <p:xfrm>
          <a:off x="606600" y="985680"/>
          <a:ext cx="7727760" cy="20941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71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6600" y="985680"/>
                    <a:ext cx="7727760" cy="209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2992320" y="2128680"/>
            <a:ext cx="2882880" cy="36925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2"/>
          <p:cNvSpPr/>
          <p:nvPr/>
        </p:nvSpPr>
        <p:spPr>
          <a:xfrm>
            <a:off x="709560" y="895320"/>
            <a:ext cx="764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备考方向要明了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676440" y="1374840"/>
          <a:ext cx="7767360" cy="2847960"/>
        </p:xfrm>
        <a:graphic>
          <a:graphicData uri="http://schemas.openxmlformats.org/drawingml/2006/table">
            <a:tbl>
              <a:tblPr/>
              <a:tblGrid>
                <a:gridCol w="7767360"/>
              </a:tblGrid>
              <a:tr h="475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考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什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么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63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1.</a:t>
                      </a: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了解算法的含义，了解算法的思想．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2.</a:t>
                      </a: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理解算法框图的三种基本结构：顺序结构、条件结构、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   </a:t>
                      </a: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循环结构．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3.</a:t>
                      </a: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了解几种基本算法语句</a:t>
                      </a: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——</a:t>
                      </a: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输入语句、输出语句、赋值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   </a:t>
                      </a: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语句、条件语句、循环语句的含义</a:t>
                      </a: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.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newsflash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Object 2"/>
          <p:cNvGraphicFramePr/>
          <p:nvPr/>
        </p:nvGraphicFramePr>
        <p:xfrm>
          <a:off x="760320" y="1316160"/>
          <a:ext cx="7726320" cy="3265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74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0320" y="1316160"/>
                    <a:ext cx="7726320" cy="32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Object 3"/>
          <p:cNvGraphicFramePr/>
          <p:nvPr/>
        </p:nvGraphicFramePr>
        <p:xfrm>
          <a:off x="1219320" y="4297320"/>
          <a:ext cx="3502080" cy="12445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76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19320" y="4297320"/>
                    <a:ext cx="3502080" cy="12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newsflash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1" descr="关键要点点拨.TIF"/>
          <p:cNvPicPr/>
          <p:nvPr/>
        </p:nvPicPr>
        <p:blipFill>
          <a:blip r:embed="rId2"/>
          <a:stretch/>
        </p:blipFill>
        <p:spPr>
          <a:xfrm>
            <a:off x="655560" y="893880"/>
            <a:ext cx="7750080" cy="610920"/>
          </a:xfrm>
          <a:prstGeom prst="rect">
            <a:avLst/>
          </a:prstGeom>
          <a:ln w="0">
            <a:noFill/>
          </a:ln>
        </p:spPr>
      </p:pic>
      <p:sp>
        <p:nvSpPr>
          <p:cNvPr id="178" name="TextBox 4"/>
          <p:cNvSpPr/>
          <p:nvPr/>
        </p:nvSpPr>
        <p:spPr>
          <a:xfrm>
            <a:off x="711360" y="1482840"/>
            <a:ext cx="7624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．解决程序框图问题时应注意的问题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宋体"/>
              </a:rPr>
              <a:t>(1)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宋体"/>
              </a:rPr>
              <a:t>不要混淆处理框和输入框．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宋体"/>
              </a:rPr>
              <a:t>(2)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宋体"/>
              </a:rPr>
              <a:t>注意区分条件结构和循环结构．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宋体"/>
              </a:rPr>
              <a:t>(3)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宋体"/>
              </a:rPr>
              <a:t>注意区分当型循环和直到型循环．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宋体"/>
              </a:rPr>
              <a:t>(4)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宋体"/>
              </a:rPr>
              <a:t>循环结构中要正确控制循环次数．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宋体"/>
              </a:rPr>
              <a:t>(5)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宋体"/>
              </a:rPr>
              <a:t>要注意各个框的顺序．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Box 2"/>
          <p:cNvSpPr/>
          <p:nvPr/>
        </p:nvSpPr>
        <p:spPr>
          <a:xfrm>
            <a:off x="814320" y="996840"/>
            <a:ext cx="7454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or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语句与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hile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语句的联系与区别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(1)for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语句适用于预先知道循环次数的循环结构，而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while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循环结构首先要对表达式进行判断．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(2)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在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for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循环语句中，循环变量的值与终值比较，结果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     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为真时执行循环体，结果为假时，停止循环，而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while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语句是先判断条件再执行循环体．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(3)for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语句和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while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语句中的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“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end”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语句的作用是控制结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     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束一次循环，开始一次新的循环．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1" descr="明考向.tif"/>
          <p:cNvPicPr/>
          <p:nvPr/>
        </p:nvPicPr>
        <p:blipFill>
          <a:blip r:embed="rId2"/>
          <a:stretch/>
        </p:blipFill>
        <p:spPr>
          <a:xfrm>
            <a:off x="676440" y="2657520"/>
            <a:ext cx="8089560" cy="6001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Box 4"/>
          <p:cNvSpPr/>
          <p:nvPr/>
        </p:nvSpPr>
        <p:spPr>
          <a:xfrm>
            <a:off x="635040" y="1517760"/>
            <a:ext cx="7683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精析考题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]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　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(2011·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新课标全国卷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执行如图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所示的程序框图，如果输入的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是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那么输出的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p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是                            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120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　　　　　   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720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1 440  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5 040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82" name="Picture 1" descr=""/>
          <p:cNvPicPr/>
          <p:nvPr/>
        </p:nvPicPr>
        <p:blipFill>
          <a:blip r:embed="rId2"/>
          <a:stretch/>
        </p:blipFill>
        <p:spPr>
          <a:xfrm>
            <a:off x="635040" y="855720"/>
            <a:ext cx="7500960" cy="6620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6051600" y="1947960"/>
            <a:ext cx="2084400" cy="34909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Box 2"/>
          <p:cNvSpPr/>
          <p:nvPr/>
        </p:nvSpPr>
        <p:spPr>
          <a:xfrm>
            <a:off x="474840" y="826920"/>
            <a:ext cx="8427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1" lang="zh-CN" sz="2300" spc="-1" strike="noStrike">
                <a:solidFill>
                  <a:srgbClr val="ff0000"/>
                </a:solidFill>
                <a:latin typeface="Times New Roman"/>
              </a:rPr>
              <a:t>自主解答</a:t>
            </a:r>
            <a:r>
              <a:rPr b="1" lang="en-US" sz="2300" spc="-1" strike="noStrike">
                <a:solidFill>
                  <a:srgbClr val="ff0000"/>
                </a:solidFill>
                <a:latin typeface="Times New Roman"/>
              </a:rPr>
              <a:t>]</a:t>
            </a:r>
            <a:r>
              <a:rPr b="1" lang="zh-CN" sz="2300" spc="-1" strike="noStrike">
                <a:solidFill>
                  <a:srgbClr val="ff0000"/>
                </a:solidFill>
                <a:latin typeface="Times New Roman"/>
              </a:rPr>
              <a:t>　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当输入的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是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时，由于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，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p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，因此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p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＝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·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此时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，满足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&lt;6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，故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＝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当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时，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p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1×2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，此时满足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&lt;6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，故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＝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当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时，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p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1×2×3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，此时满足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&lt;6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，故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＝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4.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当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时，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p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1×2×3×4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，此时满足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&lt;6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，故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＝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5.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当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时，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p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1×2×3×4×5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，此时满足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&lt;6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，故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＝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6.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当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时，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p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1×2×3×4×5×6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720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此时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&lt;6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不再成立，因此输出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p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720.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474840" y="515160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]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　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Box 1"/>
          <p:cNvSpPr/>
          <p:nvPr/>
        </p:nvSpPr>
        <p:spPr>
          <a:xfrm>
            <a:off x="716040" y="673200"/>
            <a:ext cx="780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巧练模拟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]——————(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课堂突破保分题，分分必保！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7" name="TextBox 4"/>
          <p:cNvSpPr/>
          <p:nvPr/>
        </p:nvSpPr>
        <p:spPr>
          <a:xfrm>
            <a:off x="666720" y="1150920"/>
            <a:ext cx="484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(2012·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临沂检测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执行如图所示的程序框图，若输出的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S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88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，则判断框内应填入的条件是    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88" name="Picture 1" descr="9-27.tif"/>
          <p:cNvPicPr/>
          <p:nvPr/>
        </p:nvPicPr>
        <p:blipFill>
          <a:blip r:embed="rId2"/>
          <a:stretch/>
        </p:blipFill>
        <p:spPr>
          <a:xfrm>
            <a:off x="5665680" y="1249200"/>
            <a:ext cx="1710000" cy="3565800"/>
          </a:xfrm>
          <a:prstGeom prst="rect">
            <a:avLst/>
          </a:prstGeom>
          <a:ln w="0">
            <a:noFill/>
          </a:ln>
        </p:spPr>
      </p:pic>
      <p:sp>
        <p:nvSpPr>
          <p:cNvPr id="189" name="TextBox 5"/>
          <p:cNvSpPr/>
          <p:nvPr/>
        </p:nvSpPr>
        <p:spPr>
          <a:xfrm>
            <a:off x="666720" y="3316320"/>
            <a:ext cx="792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．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&gt;7                         B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．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&gt;6     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．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&gt;5                         D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．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&gt;4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Box 2"/>
          <p:cNvSpPr/>
          <p:nvPr/>
        </p:nvSpPr>
        <p:spPr>
          <a:xfrm>
            <a:off x="874800" y="5178600"/>
            <a:ext cx="203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案：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874800" y="1103400"/>
            <a:ext cx="7472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解析：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第一次循环：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，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S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2×0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第二次循环：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，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S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2×2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第三次循环：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，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S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2×7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18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第四次循环：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，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S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2×18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41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第五次循环：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，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S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2×41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88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，满足条件则输出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S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的值，而此时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，故判断框内应填入的条件应是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&gt;5.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Object 2"/>
          <p:cNvGraphicFramePr/>
          <p:nvPr/>
        </p:nvGraphicFramePr>
        <p:xfrm>
          <a:off x="806400" y="1341360"/>
          <a:ext cx="5459400" cy="3830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93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6400" y="1341360"/>
                    <a:ext cx="5459400" cy="383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4" name="Picture 3" descr="E:\忘记你\课件\2012年高三一轮\大样\新课标\三维\人教B版数学6-10章（接杨玉翠②换格式）+\9-51.TIF"/>
          <p:cNvPicPr/>
          <p:nvPr/>
        </p:nvPicPr>
        <p:blipFill>
          <a:blip r:embed="rId4"/>
          <a:stretch/>
        </p:blipFill>
        <p:spPr>
          <a:xfrm>
            <a:off x="6229440" y="1332000"/>
            <a:ext cx="1900080" cy="26128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Object 2"/>
          <p:cNvGraphicFramePr/>
          <p:nvPr/>
        </p:nvGraphicFramePr>
        <p:xfrm>
          <a:off x="961920" y="1125360"/>
          <a:ext cx="7601040" cy="4140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96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61920" y="1125360"/>
                    <a:ext cx="7601040" cy="41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TextBox 2"/>
          <p:cNvSpPr/>
          <p:nvPr/>
        </p:nvSpPr>
        <p:spPr>
          <a:xfrm>
            <a:off x="873000" y="4915080"/>
            <a:ext cx="39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案：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709560" y="1317600"/>
          <a:ext cx="7766280" cy="2738520"/>
        </p:xfrm>
        <a:graphic>
          <a:graphicData uri="http://schemas.openxmlformats.org/drawingml/2006/table">
            <a:tbl>
              <a:tblPr/>
              <a:tblGrid>
                <a:gridCol w="7766280"/>
              </a:tblGrid>
              <a:tr h="549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怎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么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考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49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1.</a:t>
                      </a: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从高考内容上来看，循环结构与条件分支结构是考查的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   </a:t>
                      </a: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热点．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2.</a:t>
                      </a: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题型多为选择、填空题，注重算法思想的应用，难度中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   </a:t>
                      </a: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低档</a:t>
                      </a: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.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newsflash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Box 1"/>
          <p:cNvSpPr/>
          <p:nvPr/>
        </p:nvSpPr>
        <p:spPr>
          <a:xfrm>
            <a:off x="735120" y="1031760"/>
            <a:ext cx="780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冲关锦囊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9" name="TextBox 3"/>
          <p:cNvSpPr/>
          <p:nvPr/>
        </p:nvSpPr>
        <p:spPr>
          <a:xfrm>
            <a:off x="735120" y="1600200"/>
            <a:ext cx="7951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．解决程序框图问题要注意几个常用变量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计数变量：用来记录某个事件发生的次数，如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i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＝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i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累加变量：用来计算数据之和，如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S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＝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S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＋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(3)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累乘变量：用来计算数据之积，如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p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＝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×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．处理循环结构的框图问题，关键是理解并认清终止循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宋体"/>
              </a:rPr>
              <a:t>环结构的条件及循环次数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宋体"/>
              </a:rPr>
              <a:t>.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3" descr=""/>
          <p:cNvPicPr/>
          <p:nvPr/>
        </p:nvPicPr>
        <p:blipFill>
          <a:blip r:embed="rId2"/>
          <a:stretch/>
        </p:blipFill>
        <p:spPr>
          <a:xfrm>
            <a:off x="795240" y="1006560"/>
            <a:ext cx="7515360" cy="623880"/>
          </a:xfrm>
          <a:prstGeom prst="rect">
            <a:avLst/>
          </a:prstGeom>
          <a:ln w="0">
            <a:noFill/>
          </a:ln>
        </p:spPr>
      </p:pic>
      <p:sp>
        <p:nvSpPr>
          <p:cNvPr id="201" name="TextBox 4"/>
          <p:cNvSpPr/>
          <p:nvPr/>
        </p:nvSpPr>
        <p:spPr>
          <a:xfrm>
            <a:off x="795240" y="1630440"/>
            <a:ext cx="7515360" cy="24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精析考题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]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　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(2011·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陕西高考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下图中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007a77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，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007a77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，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007a77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为某次考试三个评阅人对同一道题的独立评分，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p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为该题的最终得分．当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007a77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，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007a77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，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p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8.5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时，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007a77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等于              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4"/>
          <p:cNvSpPr/>
          <p:nvPr/>
        </p:nvSpPr>
        <p:spPr>
          <a:xfrm>
            <a:off x="944640" y="4646520"/>
            <a:ext cx="753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11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　　　　 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　　　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　　　　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2844720" y="893880"/>
            <a:ext cx="2192400" cy="41050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Object 2"/>
          <p:cNvGraphicFramePr/>
          <p:nvPr/>
        </p:nvGraphicFramePr>
        <p:xfrm>
          <a:off x="685800" y="2008080"/>
          <a:ext cx="7910640" cy="2335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05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2008080"/>
                    <a:ext cx="7910640" cy="23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TextBox 2"/>
          <p:cNvSpPr/>
          <p:nvPr/>
        </p:nvSpPr>
        <p:spPr>
          <a:xfrm>
            <a:off x="1152360" y="3452760"/>
            <a:ext cx="21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]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　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7" name="Object 2"/>
          <p:cNvGraphicFramePr/>
          <p:nvPr/>
        </p:nvGraphicFramePr>
        <p:xfrm>
          <a:off x="606600" y="976320"/>
          <a:ext cx="7981920" cy="703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08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6600" y="976320"/>
                    <a:ext cx="798192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Object 5"/>
          <p:cNvGraphicFramePr/>
          <p:nvPr/>
        </p:nvGraphicFramePr>
        <p:xfrm>
          <a:off x="971640" y="1679400"/>
          <a:ext cx="5513400" cy="41626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10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71640" y="1679400"/>
                    <a:ext cx="5513400" cy="41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1" name="Picture 6" descr="E:\忘记你\课件\2012年高三一轮\大样\新课标\三维\人教B版数学6-10章（接杨玉翠②换格式）+\9-31.TIF"/>
          <p:cNvPicPr/>
          <p:nvPr/>
        </p:nvPicPr>
        <p:blipFill>
          <a:blip r:embed="rId6"/>
          <a:stretch/>
        </p:blipFill>
        <p:spPr>
          <a:xfrm>
            <a:off x="6485040" y="1971720"/>
            <a:ext cx="2103480" cy="25639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Object 4"/>
          <p:cNvGraphicFramePr/>
          <p:nvPr/>
        </p:nvGraphicFramePr>
        <p:xfrm>
          <a:off x="770040" y="1141560"/>
          <a:ext cx="7951680" cy="47368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13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70040" y="1141560"/>
                    <a:ext cx="7951680" cy="47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4" name="Picture 5" descr="E:\忘记你\课件\2012年高三一轮\大样\新课标\三维\人教B版数学6-10章（接杨玉翠②换格式）+\9-32.TIF"/>
          <p:cNvPicPr/>
          <p:nvPr/>
        </p:nvPicPr>
        <p:blipFill>
          <a:blip r:embed="rId4"/>
          <a:stretch/>
        </p:blipFill>
        <p:spPr>
          <a:xfrm>
            <a:off x="5818320" y="1862280"/>
            <a:ext cx="2100240" cy="1941480"/>
          </a:xfrm>
          <a:prstGeom prst="rect">
            <a:avLst/>
          </a:prstGeom>
          <a:ln w="0">
            <a:noFill/>
          </a:ln>
        </p:spPr>
      </p:pic>
      <p:sp>
        <p:nvSpPr>
          <p:cNvPr id="215" name="TextBox 5"/>
          <p:cNvSpPr/>
          <p:nvPr/>
        </p:nvSpPr>
        <p:spPr>
          <a:xfrm>
            <a:off x="695160" y="5003640"/>
            <a:ext cx="380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案：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Box 3"/>
          <p:cNvSpPr/>
          <p:nvPr/>
        </p:nvSpPr>
        <p:spPr>
          <a:xfrm>
            <a:off x="631800" y="614520"/>
            <a:ext cx="7888320" cy="23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4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(2012·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大连模拟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)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图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是某学生的数学考试成绩茎叶图，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     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第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次到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14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次的考试成绩依次记为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 baseline="-25000">
                <a:solidFill>
                  <a:srgbClr val="007a77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，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 baseline="-25000">
                <a:solidFill>
                  <a:srgbClr val="007a77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…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，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 baseline="-25000">
                <a:solidFill>
                  <a:srgbClr val="007a77"/>
                </a:solidFill>
                <a:latin typeface="Times New Roman"/>
                <a:ea typeface="Times New Roman"/>
              </a:rPr>
              <a:t>14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.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图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是统计茎叶图中成绩在一定范围内考试次数的一个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     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程序框图．那么程序框图输出的结果是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________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．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17" name="Picture 5" descr="E:\忘记你\课件\2012年高三一轮\大样\新课标\三维\人教B版数学6-10章（接杨玉翠②换格式）+\9-63.TIF"/>
          <p:cNvPicPr/>
          <p:nvPr/>
        </p:nvPicPr>
        <p:blipFill>
          <a:blip r:embed="rId2"/>
          <a:stretch/>
        </p:blipFill>
        <p:spPr>
          <a:xfrm>
            <a:off x="4560840" y="2913120"/>
            <a:ext cx="2482920" cy="28162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"/>
          <p:cNvPicPr/>
          <p:nvPr/>
        </p:nvPicPr>
        <p:blipFill>
          <a:blip r:embed="rId3"/>
          <a:stretch/>
        </p:blipFill>
        <p:spPr>
          <a:xfrm>
            <a:off x="1185840" y="2771640"/>
            <a:ext cx="2792520" cy="310356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1454040" y="5819760"/>
            <a:ext cx="10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方正楷体_GBK"/>
                <a:ea typeface="方正楷体_GBK"/>
              </a:rPr>
              <a:t>图</a:t>
            </a:r>
            <a:r>
              <a:rPr b="1" lang="en-US" sz="1800" spc="-1" strike="noStrike">
                <a:solidFill>
                  <a:srgbClr val="007a77"/>
                </a:solidFill>
                <a:latin typeface="方正楷体_GBK"/>
                <a:ea typeface="方正楷体_GBK"/>
              </a:rPr>
              <a:t>1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Box 3"/>
          <p:cNvSpPr/>
          <p:nvPr/>
        </p:nvSpPr>
        <p:spPr>
          <a:xfrm>
            <a:off x="860400" y="1989000"/>
            <a:ext cx="741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解析：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该程序框图的功能是确定考试成绩大于或等于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90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分的考试次数．观察茎叶图可知，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n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10.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答案：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10 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Box 2"/>
          <p:cNvSpPr/>
          <p:nvPr/>
        </p:nvSpPr>
        <p:spPr>
          <a:xfrm>
            <a:off x="735120" y="1149480"/>
            <a:ext cx="793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冲关锦囊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2" name="TextBox 3"/>
          <p:cNvSpPr/>
          <p:nvPr/>
        </p:nvSpPr>
        <p:spPr>
          <a:xfrm>
            <a:off x="766800" y="1874880"/>
            <a:ext cx="7554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识别运行程序框图及应用是高考的热点．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解答这一类问题首先要明确程序框图的顺序结构、条件结构和循环结构；第二要理解程序框图与哪一部分知识相结合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如函数、数列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进行考查；第三根据问题实施解答并验证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1" descr=""/>
          <p:cNvPicPr/>
          <p:nvPr/>
        </p:nvPicPr>
        <p:blipFill>
          <a:blip r:embed="rId2"/>
          <a:stretch/>
        </p:blipFill>
        <p:spPr>
          <a:xfrm>
            <a:off x="704880" y="774720"/>
            <a:ext cx="7539120" cy="69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4" name="Object 2"/>
          <p:cNvGraphicFramePr/>
          <p:nvPr/>
        </p:nvGraphicFramePr>
        <p:xfrm>
          <a:off x="915840" y="1511280"/>
          <a:ext cx="7410600" cy="40766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25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5840" y="1511280"/>
                    <a:ext cx="7410600" cy="40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TextBox 3"/>
          <p:cNvSpPr/>
          <p:nvPr/>
        </p:nvSpPr>
        <p:spPr>
          <a:xfrm>
            <a:off x="879480" y="3693960"/>
            <a:ext cx="7443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自主解答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]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　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，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，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＝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＋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∴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输出的结果为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7" name="TextBox 4"/>
          <p:cNvSpPr/>
          <p:nvPr/>
        </p:nvSpPr>
        <p:spPr>
          <a:xfrm>
            <a:off x="887400" y="5205240"/>
            <a:ext cx="291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]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　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教材知识再现.TIF"/>
          <p:cNvPicPr/>
          <p:nvPr/>
        </p:nvPicPr>
        <p:blipFill>
          <a:blip r:embed="rId2"/>
          <a:stretch/>
        </p:blipFill>
        <p:spPr>
          <a:xfrm>
            <a:off x="603360" y="1063800"/>
            <a:ext cx="7750080" cy="610920"/>
          </a:xfrm>
          <a:prstGeom prst="rect">
            <a:avLst/>
          </a:prstGeom>
          <a:ln w="0">
            <a:noFill/>
          </a:ln>
        </p:spPr>
      </p:pic>
      <p:sp>
        <p:nvSpPr>
          <p:cNvPr id="93" name="TextBox 11"/>
          <p:cNvSpPr/>
          <p:nvPr/>
        </p:nvSpPr>
        <p:spPr>
          <a:xfrm>
            <a:off x="603360" y="2151000"/>
            <a:ext cx="8369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一、程序框图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．通常用一些</a:t>
            </a:r>
            <a:r>
              <a:rPr b="1" lang="zh-CN" sz="2400" spc="-1" strike="noStrike" u="sng">
                <a:solidFill>
                  <a:srgbClr val="007a77"/>
                </a:solidFill>
                <a:uFillTx/>
                <a:latin typeface="Times New Roman"/>
                <a:ea typeface="Times New Roman"/>
              </a:rPr>
              <a:t>                        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构成一张图来表示算法．这种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      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图称作程序框图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(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简称框图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)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．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．基本的程序框图有</a:t>
            </a:r>
            <a:r>
              <a:rPr b="1" lang="zh-CN" sz="2400" spc="-1" strike="noStrike" u="sng">
                <a:solidFill>
                  <a:srgbClr val="007a77"/>
                </a:solidFill>
                <a:uFillTx/>
                <a:latin typeface="Times New Roman"/>
                <a:ea typeface="Times New Roman"/>
              </a:rPr>
              <a:t>                  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、</a:t>
            </a:r>
            <a:r>
              <a:rPr b="1" lang="zh-CN" sz="2400" spc="-1" strike="noStrike" u="sng">
                <a:solidFill>
                  <a:srgbClr val="007a77"/>
                </a:solidFill>
                <a:uFillTx/>
                <a:latin typeface="Times New Roman"/>
                <a:ea typeface="Times New Roman"/>
              </a:rPr>
              <a:t>                         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、</a:t>
            </a:r>
            <a:r>
              <a:rPr b="1" lang="zh-CN" sz="2400" spc="-1" strike="noStrike" u="sng">
                <a:solidFill>
                  <a:srgbClr val="007a77"/>
                </a:solidFill>
                <a:uFillTx/>
                <a:latin typeface="Times New Roman"/>
                <a:ea typeface="Times New Roman"/>
              </a:rPr>
              <a:t>            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、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      </a:t>
            </a:r>
            <a:r>
              <a:rPr b="1" lang="zh-CN" sz="2400" spc="-1" strike="noStrike" u="sng">
                <a:solidFill>
                  <a:srgbClr val="007a77"/>
                </a:solidFill>
                <a:uFillTx/>
                <a:latin typeface="Times New Roman"/>
                <a:ea typeface="Times New Roman"/>
              </a:rPr>
              <a:t>              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、</a:t>
            </a:r>
            <a:r>
              <a:rPr b="1" lang="zh-CN" sz="2400" spc="-1" strike="noStrike" u="sng">
                <a:solidFill>
                  <a:srgbClr val="007a77"/>
                </a:solidFill>
                <a:uFillTx/>
                <a:latin typeface="Times New Roman"/>
                <a:ea typeface="Times New Roman"/>
              </a:rPr>
              <a:t>               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等图形符号和连接线构成．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4" name="矩形 12"/>
          <p:cNvSpPr/>
          <p:nvPr/>
        </p:nvSpPr>
        <p:spPr>
          <a:xfrm>
            <a:off x="2804760" y="2803680"/>
            <a:ext cx="160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通用图形符号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5" name="矩形 16"/>
          <p:cNvSpPr/>
          <p:nvPr/>
        </p:nvSpPr>
        <p:spPr>
          <a:xfrm>
            <a:off x="4114440" y="387828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起、止框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6" name="矩形 17"/>
          <p:cNvSpPr/>
          <p:nvPr/>
        </p:nvSpPr>
        <p:spPr>
          <a:xfrm>
            <a:off x="6051240" y="387828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输入、输出框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7" name="矩形 18"/>
          <p:cNvSpPr/>
          <p:nvPr/>
        </p:nvSpPr>
        <p:spPr>
          <a:xfrm>
            <a:off x="7477920" y="3889440"/>
            <a:ext cx="8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处理框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矩形 19"/>
          <p:cNvSpPr/>
          <p:nvPr/>
        </p:nvSpPr>
        <p:spPr>
          <a:xfrm>
            <a:off x="1248480" y="4440240"/>
            <a:ext cx="8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判断框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矩形 20"/>
          <p:cNvSpPr/>
          <p:nvPr/>
        </p:nvSpPr>
        <p:spPr>
          <a:xfrm>
            <a:off x="2693160" y="4451400"/>
            <a:ext cx="8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流程线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Box 1"/>
          <p:cNvSpPr/>
          <p:nvPr/>
        </p:nvSpPr>
        <p:spPr>
          <a:xfrm>
            <a:off x="763560" y="74124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巧练模拟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]—————(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课堂突破保分题，分分必保！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9" name="TextBox 7"/>
          <p:cNvSpPr/>
          <p:nvPr/>
        </p:nvSpPr>
        <p:spPr>
          <a:xfrm>
            <a:off x="763560" y="1519200"/>
            <a:ext cx="692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5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(2011·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滨州质检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)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写出下面程序运行后的结果．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0" name="TextBox 8"/>
          <p:cNvSpPr/>
          <p:nvPr/>
        </p:nvSpPr>
        <p:spPr>
          <a:xfrm>
            <a:off x="1155600" y="5340240"/>
            <a:ext cx="628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x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6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，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p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________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；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x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20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，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p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________.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1596960" y="2085840"/>
            <a:ext cx="4156200" cy="30225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Object 2"/>
          <p:cNvGraphicFramePr/>
          <p:nvPr/>
        </p:nvGraphicFramePr>
        <p:xfrm>
          <a:off x="927000" y="1592280"/>
          <a:ext cx="7266240" cy="3143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33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27000" y="1592280"/>
                    <a:ext cx="7266240" cy="31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TextBox 6"/>
          <p:cNvSpPr/>
          <p:nvPr/>
        </p:nvSpPr>
        <p:spPr>
          <a:xfrm>
            <a:off x="882720" y="4464000"/>
            <a:ext cx="451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案：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2.1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　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10.5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Box 2"/>
          <p:cNvSpPr/>
          <p:nvPr/>
        </p:nvSpPr>
        <p:spPr>
          <a:xfrm>
            <a:off x="841320" y="1301760"/>
            <a:ext cx="7443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冲关锦囊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．输入语句．输出语句和赋值语句基本对应于算法的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宋体"/>
              </a:rPr>
              <a:t>顺序结构．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．在循环语句中也可以嵌套条件语句，甚至是循环语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宋体"/>
              </a:rPr>
              <a:t>句，此时需要注意嵌套格式，这些语句需要保证算法的完整性，否则就会造成程序无法执行．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1" descr="提能力.tif"/>
          <p:cNvPicPr/>
          <p:nvPr/>
        </p:nvPicPr>
        <p:blipFill>
          <a:blip r:embed="rId2"/>
          <a:stretch/>
        </p:blipFill>
        <p:spPr>
          <a:xfrm>
            <a:off x="496800" y="2236680"/>
            <a:ext cx="8199360" cy="6080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1" descr="教你一招.tif"/>
          <p:cNvPicPr/>
          <p:nvPr/>
        </p:nvPicPr>
        <p:blipFill>
          <a:blip r:embed="rId2"/>
          <a:stretch/>
        </p:blipFill>
        <p:spPr>
          <a:xfrm>
            <a:off x="695160" y="2255760"/>
            <a:ext cx="2605320" cy="79524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3300480" y="2475000"/>
            <a:ext cx="4930560" cy="5475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Box 3"/>
          <p:cNvSpPr/>
          <p:nvPr/>
        </p:nvSpPr>
        <p:spPr>
          <a:xfrm>
            <a:off x="797040" y="1539720"/>
            <a:ext cx="7623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考题范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(2011·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安徽高考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如图所示，程序框图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算法流程图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的输出结果是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________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．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5880240" y="1846440"/>
            <a:ext cx="2408040" cy="28987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1" name="Object 2"/>
          <p:cNvGraphicFramePr/>
          <p:nvPr/>
        </p:nvGraphicFramePr>
        <p:xfrm>
          <a:off x="963720" y="1122480"/>
          <a:ext cx="7526160" cy="4243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4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63720" y="1122480"/>
                    <a:ext cx="7526160" cy="42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TextBox 2"/>
          <p:cNvSpPr/>
          <p:nvPr/>
        </p:nvSpPr>
        <p:spPr>
          <a:xfrm>
            <a:off x="873000" y="4168800"/>
            <a:ext cx="524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案：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Box 3"/>
          <p:cNvSpPr/>
          <p:nvPr/>
        </p:nvSpPr>
        <p:spPr>
          <a:xfrm>
            <a:off x="706320" y="1243080"/>
            <a:ext cx="763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高手点拔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．在解决循环结构问题时，一定要弄明白计数变量和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宋体"/>
              </a:rPr>
              <a:t>累加变量．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．读程序框图时，要注意循环结构的终止条件．如本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宋体"/>
              </a:rPr>
              <a:t>题中很容易在确定最后输出的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  <a:ea typeface="宋体"/>
              </a:rPr>
              <a:t>k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宋体"/>
              </a:rPr>
              <a:t>值时，易认为是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宋体"/>
              </a:rPr>
              <a:t>14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宋体"/>
              </a:rPr>
              <a:t>而出错．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1"/>
          <p:cNvSpPr/>
          <p:nvPr/>
        </p:nvSpPr>
        <p:spPr>
          <a:xfrm>
            <a:off x="500040" y="638280"/>
            <a:ext cx="86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二、三种基本逻辑结构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606600" y="1255680"/>
          <a:ext cx="7934040" cy="4608720"/>
        </p:xfrm>
        <a:graphic>
          <a:graphicData uri="http://schemas.openxmlformats.org/drawingml/2006/table">
            <a:tbl>
              <a:tblPr/>
              <a:tblGrid>
                <a:gridCol w="1357200"/>
                <a:gridCol w="2143080"/>
                <a:gridCol w="2360520"/>
                <a:gridCol w="2073240"/>
              </a:tblGrid>
              <a:tr h="1023840"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名称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内容　　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顺序结构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条件结构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循环结构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4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定义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最简单的算法结构，语句与语句之间，框与框之间按</a:t>
                      </a:r>
                      <a:r>
                        <a:rPr b="1" lang="zh-CN" sz="2400" spc="-1" strike="noStrike" u="sng">
                          <a:solidFill>
                            <a:srgbClr val="007a77"/>
                          </a:solidFill>
                          <a:uFillTx/>
                          <a:latin typeface="Arial"/>
                          <a:ea typeface="宋体"/>
                        </a:rPr>
                        <a:t>        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7a77"/>
                          </a:solidFill>
                          <a:uFillTx/>
                          <a:latin typeface="Arial"/>
                          <a:ea typeface="宋体"/>
                        </a:rPr>
                        <a:t>                 </a:t>
                      </a: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的顺序进行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依据</a:t>
                      </a:r>
                      <a:r>
                        <a:rPr b="1" lang="zh-CN" sz="2400" spc="-1" strike="noStrike" u="sng">
                          <a:solidFill>
                            <a:srgbClr val="007a77"/>
                          </a:solidFill>
                          <a:uFillTx/>
                          <a:latin typeface="Arial"/>
                          <a:ea typeface="宋体"/>
                        </a:rPr>
                        <a:t>        </a:t>
                      </a: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条件选择执行</a:t>
                      </a:r>
                      <a:r>
                        <a:rPr b="1" lang="zh-CN" sz="2400" spc="-1" strike="noStrike" u="sng">
                          <a:solidFill>
                            <a:srgbClr val="007a77"/>
                          </a:solidFill>
                          <a:uFillTx/>
                          <a:latin typeface="Arial"/>
                          <a:ea typeface="宋体"/>
                        </a:rPr>
                        <a:t>               </a:t>
                      </a: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的控制结构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根据指定条件决定是否</a:t>
                      </a:r>
                      <a:r>
                        <a:rPr b="1" lang="zh-CN" sz="2400" spc="-1" strike="noStrike" u="sng">
                          <a:solidFill>
                            <a:srgbClr val="007a77"/>
                          </a:solidFill>
                          <a:uFillTx/>
                          <a:latin typeface="Arial"/>
                          <a:ea typeface="宋体"/>
                        </a:rPr>
                        <a:t>           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7a77"/>
                          </a:solidFill>
                          <a:uFillTx/>
                          <a:latin typeface="Arial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一条或多条指令的控制结构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矩形 10"/>
          <p:cNvSpPr/>
          <p:nvPr/>
        </p:nvSpPr>
        <p:spPr>
          <a:xfrm>
            <a:off x="2120040" y="4643280"/>
            <a:ext cx="11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从上到下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矩形 11"/>
          <p:cNvSpPr/>
          <p:nvPr/>
        </p:nvSpPr>
        <p:spPr>
          <a:xfrm>
            <a:off x="4780440" y="330984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指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4" name="直接连接符 13"/>
          <p:cNvSpPr/>
          <p:nvPr/>
        </p:nvSpPr>
        <p:spPr>
          <a:xfrm>
            <a:off x="5084640" y="4299120"/>
            <a:ext cx="1316160" cy="144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5" name="矩形 15"/>
          <p:cNvSpPr/>
          <p:nvPr/>
        </p:nvSpPr>
        <p:spPr>
          <a:xfrm>
            <a:off x="5155560" y="3838680"/>
            <a:ext cx="11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不同指令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直接连接符 17"/>
          <p:cNvSpPr/>
          <p:nvPr/>
        </p:nvSpPr>
        <p:spPr>
          <a:xfrm>
            <a:off x="7737480" y="3833640"/>
            <a:ext cx="803160" cy="180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矩形 18"/>
          <p:cNvSpPr/>
          <p:nvPr/>
        </p:nvSpPr>
        <p:spPr>
          <a:xfrm>
            <a:off x="7776000" y="335772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重复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8" name="矩形 19"/>
          <p:cNvSpPr/>
          <p:nvPr/>
        </p:nvSpPr>
        <p:spPr>
          <a:xfrm>
            <a:off x="6640920" y="382104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执行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693720" y="1173240"/>
          <a:ext cx="7786800" cy="4624200"/>
        </p:xfrm>
        <a:graphic>
          <a:graphicData uri="http://schemas.openxmlformats.org/drawingml/2006/table">
            <a:tbl>
              <a:tblPr/>
              <a:tblGrid>
                <a:gridCol w="1539720"/>
                <a:gridCol w="2081520"/>
                <a:gridCol w="2082600"/>
                <a:gridCol w="2082960"/>
              </a:tblGrid>
              <a:tr h="1097640"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名称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内容　　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顺序结构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条件结构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循环结构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6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程序框图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0" name="Picture 23" descr="E:\忘记你\课件\2012年高三一轮\大样\新课标\三维\人教B版数学6-10章（接杨玉翠②换格式）+\9-46.tif"/>
          <p:cNvPicPr/>
          <p:nvPr/>
        </p:nvPicPr>
        <p:blipFill>
          <a:blip r:embed="rId2"/>
          <a:stretch/>
        </p:blipFill>
        <p:spPr>
          <a:xfrm>
            <a:off x="2684520" y="2743200"/>
            <a:ext cx="912600" cy="1536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4" descr="E:\忘记你\课件\2012年高三一轮\大样\新课标\三维\人教B版数学6-10章（接杨玉翠②换格式）+\9-47.tif"/>
          <p:cNvPicPr/>
          <p:nvPr/>
        </p:nvPicPr>
        <p:blipFill>
          <a:blip r:embed="rId3"/>
          <a:stretch/>
        </p:blipFill>
        <p:spPr>
          <a:xfrm>
            <a:off x="4451400" y="2432160"/>
            <a:ext cx="1728720" cy="22730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5" descr="E:\忘记你\课件\2012年高三一轮\大样\新课标\三维\人教B版数学6-10章（接杨玉翠②换格式）+\9-48.tif"/>
          <p:cNvPicPr/>
          <p:nvPr/>
        </p:nvPicPr>
        <p:blipFill>
          <a:blip r:embed="rId4"/>
          <a:stretch/>
        </p:blipFill>
        <p:spPr>
          <a:xfrm>
            <a:off x="6783480" y="2620800"/>
            <a:ext cx="1214280" cy="25434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3"/>
          <p:cNvSpPr/>
          <p:nvPr/>
        </p:nvSpPr>
        <p:spPr>
          <a:xfrm>
            <a:off x="544680" y="755640"/>
            <a:ext cx="69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三、赋值、输入和输出语句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17520" y="1305000"/>
          <a:ext cx="8559720" cy="4465440"/>
        </p:xfrm>
        <a:graphic>
          <a:graphicData uri="http://schemas.openxmlformats.org/drawingml/2006/table">
            <a:tbl>
              <a:tblPr/>
              <a:tblGrid>
                <a:gridCol w="1023840"/>
                <a:gridCol w="4068720"/>
                <a:gridCol w="3467160"/>
              </a:tblGrid>
              <a:tr h="731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语句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一般格式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功能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输入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语句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在</a:t>
                      </a: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scilab</a:t>
                      </a: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程度中用</a:t>
                      </a: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“</a:t>
                      </a:r>
                      <a:r>
                        <a:rPr b="1" lang="en-US" sz="2400" spc="-1" strike="noStrike" u="sng">
                          <a:solidFill>
                            <a:srgbClr val="007a77"/>
                          </a:solidFill>
                          <a:uFillTx/>
                          <a:latin typeface="Arial"/>
                          <a:ea typeface="宋体"/>
                        </a:rPr>
                        <a:t>            </a:t>
                      </a: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”</a:t>
                      </a: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输入语句来控制在屏幕上输入</a:t>
                      </a: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.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可输入</a:t>
                      </a:r>
                      <a:r>
                        <a:rPr b="1" lang="zh-CN" sz="2400" spc="-1" strike="noStrike" u="sng">
                          <a:solidFill>
                            <a:srgbClr val="007a77"/>
                          </a:solidFill>
                          <a:uFillTx/>
                          <a:latin typeface="Arial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、</a:t>
                      </a:r>
                      <a:r>
                        <a:rPr b="1" lang="zh-CN" sz="2400" spc="-1" strike="noStrike" u="sng">
                          <a:solidFill>
                            <a:srgbClr val="007a77"/>
                          </a:solidFill>
                          <a:uFillTx/>
                          <a:latin typeface="Arial"/>
                          <a:ea typeface="宋体"/>
                        </a:rPr>
                        <a:t> 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0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输出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语句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print(%io(2)</a:t>
                      </a: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，</a:t>
                      </a:r>
                      <a:r>
                        <a:rPr b="1" lang="it-IT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a</a:t>
                      </a: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，</a:t>
                      </a:r>
                      <a:r>
                        <a:rPr b="1" lang="it-IT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b</a:t>
                      </a: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，</a:t>
                      </a:r>
                      <a:r>
                        <a:rPr b="1" lang="it-IT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c)</a:t>
                      </a: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的参数</a:t>
                      </a: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%io(2)</a:t>
                      </a: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表示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以某种形式把</a:t>
                      </a:r>
                      <a:r>
                        <a:rPr b="1" lang="zh-CN" sz="2400" spc="-1" strike="noStrike" u="sng">
                          <a:solidFill>
                            <a:srgbClr val="007a77"/>
                          </a:solidFill>
                          <a:uFillTx/>
                          <a:latin typeface="Arial"/>
                          <a:ea typeface="宋体"/>
                        </a:rPr>
                        <a:t>                 </a:t>
                      </a: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“</a:t>
                      </a: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输出</a:t>
                      </a: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”</a:t>
                      </a: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出来．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矩形 19"/>
          <p:cNvSpPr/>
          <p:nvPr/>
        </p:nvSpPr>
        <p:spPr>
          <a:xfrm>
            <a:off x="3867480" y="21798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6" name="矩形 5"/>
          <p:cNvSpPr/>
          <p:nvPr/>
        </p:nvSpPr>
        <p:spPr>
          <a:xfrm>
            <a:off x="6516360" y="25718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数值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7" name="直接连接符 7"/>
          <p:cNvSpPr/>
          <p:nvPr/>
        </p:nvSpPr>
        <p:spPr>
          <a:xfrm>
            <a:off x="7458120" y="3003480"/>
            <a:ext cx="792000" cy="180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矩形 8"/>
          <p:cNvSpPr/>
          <p:nvPr/>
        </p:nvSpPr>
        <p:spPr>
          <a:xfrm>
            <a:off x="7530840" y="222408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字符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直接连接符 10"/>
          <p:cNvSpPr/>
          <p:nvPr/>
        </p:nvSpPr>
        <p:spPr>
          <a:xfrm>
            <a:off x="3262320" y="5322960"/>
            <a:ext cx="2039760" cy="144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矩形 11"/>
          <p:cNvSpPr/>
          <p:nvPr/>
        </p:nvSpPr>
        <p:spPr>
          <a:xfrm>
            <a:off x="3493800" y="4824360"/>
            <a:ext cx="160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在屏幕上输出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矩形 12"/>
          <p:cNvSpPr/>
          <p:nvPr/>
        </p:nvSpPr>
        <p:spPr>
          <a:xfrm>
            <a:off x="7384320" y="4083120"/>
            <a:ext cx="11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求解结果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矩形 7"/>
          <p:cNvSpPr/>
          <p:nvPr/>
        </p:nvSpPr>
        <p:spPr>
          <a:xfrm>
            <a:off x="2032560" y="303228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变量名＝表达式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3" name="矩形 8"/>
          <p:cNvSpPr/>
          <p:nvPr/>
        </p:nvSpPr>
        <p:spPr>
          <a:xfrm>
            <a:off x="5464080" y="2381400"/>
            <a:ext cx="20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赋值号右边表达式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4" name="矩形 9"/>
          <p:cNvSpPr/>
          <p:nvPr/>
        </p:nvSpPr>
        <p:spPr>
          <a:xfrm>
            <a:off x="6586560" y="3032280"/>
            <a:ext cx="13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赋值号左边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矩形 10"/>
          <p:cNvSpPr/>
          <p:nvPr/>
        </p:nvSpPr>
        <p:spPr>
          <a:xfrm>
            <a:off x="4473360" y="4070520"/>
            <a:ext cx="8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表达式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410000" y="3537000"/>
            <a:ext cx="8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的变量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13400" y="3537000"/>
            <a:ext cx="1716120" cy="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803160" y="1760400"/>
          <a:ext cx="7512120" cy="2919600"/>
        </p:xfrm>
        <a:graphic>
          <a:graphicData uri="http://schemas.openxmlformats.org/drawingml/2006/table">
            <a:tbl>
              <a:tblPr/>
              <a:tblGrid>
                <a:gridCol w="882720"/>
                <a:gridCol w="2536920"/>
                <a:gridCol w="409248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语句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一般形式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作用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赋值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语句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计算出</a:t>
                      </a:r>
                      <a:r>
                        <a:rPr b="1" lang="en-US" sz="2400" spc="-1" strike="noStrike" u="sng">
                          <a:solidFill>
                            <a:srgbClr val="007a77"/>
                          </a:solidFill>
                          <a:uFillTx/>
                          <a:latin typeface="Arial"/>
                          <a:ea typeface="宋体"/>
                        </a:rPr>
                        <a:t>                               </a:t>
                      </a: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的值，把该值赋给</a:t>
                      </a:r>
                      <a:r>
                        <a:rPr b="1" lang="en-US" sz="2400" spc="-1" strike="noStrike" u="sng">
                          <a:solidFill>
                            <a:srgbClr val="007a77"/>
                          </a:solidFill>
                          <a:uFillTx/>
                          <a:latin typeface="Arial"/>
                          <a:ea typeface="宋体"/>
                        </a:rPr>
                        <a:t>                         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 u="sng">
                          <a:solidFill>
                            <a:srgbClr val="007a77"/>
                          </a:solidFill>
                          <a:uFillTx/>
                          <a:latin typeface="Arial"/>
                          <a:ea typeface="宋体"/>
                        </a:rPr>
                        <a:t>            </a:t>
                      </a: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，使该变量的值等于</a:t>
                      </a:r>
                      <a:r>
                        <a:rPr b="1" lang="en-US" sz="2400" spc="-1" strike="noStrike" u="sng">
                          <a:solidFill>
                            <a:srgbClr val="007a77"/>
                          </a:solidFill>
                          <a:uFillTx/>
                          <a:latin typeface="Arial"/>
                          <a:ea typeface="宋体"/>
                        </a:rPr>
                        <a:t>              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 u="sng">
                          <a:solidFill>
                            <a:srgbClr val="007a77"/>
                          </a:solidFill>
                          <a:uFillTx/>
                          <a:latin typeface="Arial"/>
                          <a:ea typeface="宋体"/>
                        </a:rPr>
                        <a:t>               </a:t>
                      </a: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的值</a:t>
                      </a: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.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"/>
          <p:cNvSpPr/>
          <p:nvPr/>
        </p:nvSpPr>
        <p:spPr>
          <a:xfrm>
            <a:off x="1790640" y="3780000"/>
            <a:ext cx="2328840" cy="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Box 3"/>
          <p:cNvSpPr/>
          <p:nvPr/>
        </p:nvSpPr>
        <p:spPr>
          <a:xfrm>
            <a:off x="690480" y="1052640"/>
            <a:ext cx="7908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四、条件语句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．处理</a:t>
            </a:r>
            <a:r>
              <a:rPr b="1" lang="zh-CN" sz="2400" spc="-1" strike="noStrike" u="sng">
                <a:solidFill>
                  <a:srgbClr val="007a77"/>
                </a:solidFill>
                <a:uFillTx/>
                <a:latin typeface="Times New Roman"/>
                <a:ea typeface="Times New Roman"/>
              </a:rPr>
              <a:t>                                   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的算法语句，叫做条件语句．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if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语句的一般格式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 u="sng">
                <a:solidFill>
                  <a:srgbClr val="007a77"/>
                </a:solidFill>
                <a:uFillTx/>
                <a:latin typeface="Times New Roman"/>
                <a:ea typeface="Times New Roman"/>
              </a:rPr>
              <a:t>                  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；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else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              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 u="sng">
                <a:solidFill>
                  <a:srgbClr val="007a77"/>
                </a:solidFill>
                <a:uFillTx/>
                <a:latin typeface="Times New Roman"/>
                <a:ea typeface="Times New Roman"/>
              </a:rPr>
              <a:t>                  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；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 u="sng">
                <a:solidFill>
                  <a:srgbClr val="007a77"/>
                </a:solidFill>
                <a:uFillTx/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1" name="矩形 4"/>
          <p:cNvSpPr/>
          <p:nvPr/>
        </p:nvSpPr>
        <p:spPr>
          <a:xfrm>
            <a:off x="2095560" y="1660680"/>
            <a:ext cx="20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条件分支逻辑结构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2" name="直接连接符 6"/>
          <p:cNvSpPr/>
          <p:nvPr/>
        </p:nvSpPr>
        <p:spPr>
          <a:xfrm>
            <a:off x="1244520" y="3117960"/>
            <a:ext cx="1567080" cy="144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3" name="矩形 7"/>
          <p:cNvSpPr/>
          <p:nvPr/>
        </p:nvSpPr>
        <p:spPr>
          <a:xfrm>
            <a:off x="1349640" y="267480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f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表达式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矩形 8"/>
          <p:cNvSpPr/>
          <p:nvPr/>
        </p:nvSpPr>
        <p:spPr>
          <a:xfrm>
            <a:off x="2062800" y="330516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语句序列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5" name="矩形 9"/>
          <p:cNvSpPr/>
          <p:nvPr/>
        </p:nvSpPr>
        <p:spPr>
          <a:xfrm>
            <a:off x="2051640" y="4402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语句序列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6" name="直接连接符 11"/>
          <p:cNvSpPr/>
          <p:nvPr/>
        </p:nvSpPr>
        <p:spPr>
          <a:xfrm>
            <a:off x="1103400" y="5438880"/>
            <a:ext cx="706320" cy="144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7" name="矩形 12"/>
          <p:cNvSpPr/>
          <p:nvPr/>
        </p:nvSpPr>
        <p:spPr>
          <a:xfrm>
            <a:off x="1065600" y="5046840"/>
            <a:ext cx="73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nd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01:34:07Z</dcterms:created>
  <dc:creator>ン葬、流年</dc:creator>
  <dc:description/>
  <dc:language>en-US</dc:language>
  <cp:lastModifiedBy>微软用户</cp:lastModifiedBy>
  <dcterms:modified xsi:type="dcterms:W3CDTF">2013-01-03T07:07:19Z</dcterms:modified>
  <cp:revision>80</cp:revision>
  <dc:subject/>
  <dc:title>幻灯片 1</dc:title>
</cp:coreProperties>
</file>