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1CA9-53FA-49CD-A376-F9720856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A798-EAC5-41E5-B8D0-D1200D3C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64EF-E590-4697-AF26-01198F37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7CF6-019B-4969-977A-1BC102E9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41FA-D1B8-4174-A2B4-3AA5CFB4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3D24-4CD4-4C97-B5D6-53A97355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4B6A-2DBF-4EA6-90FA-E41AB378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5720-6AF5-43D5-B578-3E3C84B6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05ED-09B7-47DB-AACE-EB7D2DD1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592A-A859-40F1-A58E-EB7BEECC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F1DF-9117-43D9-91C6-6D957F9C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5351-00B2-427F-B3F1-537B1550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AE2C-B9F9-4F77-98B9-7B524BDE7CC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16B2-5F82-492B-A164-3AC077D1E9F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9680" y="1571760"/>
            <a:ext cx="407196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</a:rPr>
              <a:t>4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</a:rPr>
              <a:t>月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</a:rPr>
              <a:t>日的快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愚人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504d"/>
                </a:solidFill>
                <a:latin typeface="幼圆"/>
                <a:ea typeface="幼圆"/>
              </a:rPr>
              <a:t>     </a:t>
            </a:r>
            <a:r>
              <a:rPr b="0" lang="zh-CN" sz="2800" spc="-1" strike="noStrike">
                <a:solidFill>
                  <a:srgbClr val="c0504d"/>
                </a:solidFill>
                <a:latin typeface="幼圆"/>
                <a:ea typeface="幼圆"/>
              </a:rPr>
              <a:t>每年的四月一日，是西方的民间传统节日——愚人节（</a:t>
            </a:r>
            <a:r>
              <a:rPr b="0" lang="zh-CN" sz="2800" spc="-1" strike="noStrike">
                <a:solidFill>
                  <a:srgbClr val="c0504d"/>
                </a:solidFill>
                <a:latin typeface="幼圆"/>
                <a:ea typeface="幼圆"/>
              </a:rPr>
              <a:t>April Fool's Day</a:t>
            </a:r>
            <a:r>
              <a:rPr b="0" lang="zh-CN" sz="2800" spc="-1" strike="noStrike">
                <a:solidFill>
                  <a:srgbClr val="c0504d"/>
                </a:solidFill>
                <a:latin typeface="幼圆"/>
                <a:ea typeface="幼圆"/>
              </a:rPr>
              <a:t>），也称万愚节。对于它的起源众说纷纭：一种说法认为这一习俗源自印度的“诠俚节”。该节规定，每年三月三十一日的节日这天，不分男女老幼，可以互开玩笑、互相愚弄欺骗以换得娱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短信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你如果收到本信息，证明你手机已感染病毒，请马上取出手机卡，装入读卡器，插入电脑，用杀毒软件杀毒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警告：您此时的睡觉姿势不正确。为了您的身体健康，请您起来重睡……手机实时监测系统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手机免费通话秘技：有电话呼入时在第二次振铃前按</a:t>
            </a:r>
            <a:r>
              <a:rPr b="0" lang="en-US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54sg</a:t>
            </a:r>
            <a:r>
              <a:rPr b="0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后按关机，此时通话免费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某天见你在超市把手伸进验价格的机器</a:t>
            </a:r>
            <a:r>
              <a:rPr b="0" lang="en-US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,</a:t>
            </a:r>
            <a:r>
              <a:rPr b="0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显示猪蹄</a:t>
            </a:r>
            <a:r>
              <a:rPr b="0" lang="en-US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8</a:t>
            </a:r>
            <a:r>
              <a:rPr b="0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元</a:t>
            </a:r>
            <a:r>
              <a:rPr b="0" lang="en-US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,</a:t>
            </a:r>
            <a:r>
              <a:rPr b="0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你以为机器出了问题</a:t>
            </a:r>
            <a:r>
              <a:rPr b="0" lang="en-US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,</a:t>
            </a:r>
            <a:r>
              <a:rPr b="0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把头伸进去</a:t>
            </a:r>
            <a:r>
              <a:rPr b="0" lang="en-US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,</a:t>
            </a:r>
            <a:r>
              <a:rPr b="0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我差点笑死</a:t>
            </a:r>
            <a:r>
              <a:rPr b="0" lang="en-US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:</a:t>
            </a:r>
            <a:r>
              <a:rPr b="0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猪头</a:t>
            </a:r>
            <a:r>
              <a:rPr b="0" lang="en-US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18</a:t>
            </a:r>
            <a:r>
              <a:rPr b="0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元</a:t>
            </a:r>
            <a:r>
              <a:rPr b="0" lang="en-US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一直好想问你一句话却又不敢贸然开口。特别是在宁静孤独的夜里，思绪万千让我辗转难眠，只好发短信问你…还尿床吗？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超级愚人篇：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有两句话一直很想对你说，今天终于提起勇气：第一句，我爱你我好喜欢你；第二句，千万不要把第一句当真！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愚人节，我被人愚，我在厕所，无纸，速来救急！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把夹心饼拆封，小心地拨开两片饼干，去掉原来的夹心，拿出牙膏挤出适量至饼中，然后将之放至明显处，自然而然就有人光顾品尝了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买瓶可乐，喝掉一半后，掺入醋、酱油、盐等佐料，精心调制一份色泽正常的怪味可乐。遇到熟人就大方地把可乐递上去……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超级愚人篇：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050560" y="1600200"/>
            <a:ext cx="66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甲：除了人什么动物最爱问“为什么”？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乙：不知道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甲：是猪！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乙：为什么？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哈！！！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猪的英语拼写是</a:t>
            </a:r>
            <a:r>
              <a:rPr b="1" lang="en-US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PUG</a:t>
            </a: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吧？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不对，是</a:t>
            </a:r>
            <a:r>
              <a:rPr b="1" lang="en-US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PI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不是吧，我怎么记得是</a:t>
            </a:r>
            <a:r>
              <a:rPr b="1" lang="en-US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U</a:t>
            </a: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（</a:t>
            </a:r>
            <a:r>
              <a:rPr b="1" lang="en-US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YOU</a:t>
            </a: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）呀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你弄错了，是</a:t>
            </a:r>
            <a:r>
              <a:rPr b="1" lang="en-US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I </a:t>
            </a:r>
            <a:r>
              <a:rPr b="1" lang="zh-CN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猪是</a:t>
            </a:r>
            <a:r>
              <a:rPr b="1" lang="en-US" sz="18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YO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480" y="1714320"/>
            <a:ext cx="44290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多谢观看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0:00:00Z</dcterms:created>
  <dc:creator/>
  <dc:description/>
  <dc:language>en-US</dc:language>
  <cp:lastModifiedBy>Administrator</cp:lastModifiedBy>
  <cp:lastPrinted>1899-12-30T00:00:00Z</cp:lastPrinted>
  <dcterms:modified xsi:type="dcterms:W3CDTF">2014-04-01T01:19:3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