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7560925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D5C-750A-47DC-9D8B-BB0A82BE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1580328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6343200"/>
            <a:ext cx="1580328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8CA-9E9F-4A87-8B56-3ACD54D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75880" y="256032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634320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975880" y="634320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306-458B-4962-8BFB-31A5D7A7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508824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1160" y="2560320"/>
            <a:ext cx="508824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564280" y="2560320"/>
            <a:ext cx="508824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6343200"/>
            <a:ext cx="508824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221160" y="6343200"/>
            <a:ext cx="508824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1564280" y="6343200"/>
            <a:ext cx="508824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159-AE74-4E0D-905B-A6182DB3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2560320"/>
            <a:ext cx="1580328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96B-CBF9-430C-ABA6-E9C0B0E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15803280" cy="724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C6A-77EE-40EE-9DF5-8519C16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7711920" cy="724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975880" y="2560320"/>
            <a:ext cx="7711920" cy="724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5BB-7619-476E-A22E-12C4EC44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29D-37D6-4844-B170-733DBF2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8040" y="439560"/>
            <a:ext cx="158032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26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B37-F281-42BA-A124-046B3F8A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975880" y="2560320"/>
            <a:ext cx="7711920" cy="724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634320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468-68EF-46A4-97A8-6597583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7711920" cy="724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975880" y="256032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975880" y="634320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9B2-A83A-4BC4-8C27-CB35500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256032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975880" y="2560320"/>
            <a:ext cx="771192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6343200"/>
            <a:ext cx="15803280" cy="34542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E16-09A7-4D12-94E3-DD75E87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8040" y="439560"/>
            <a:ext cx="15803280" cy="182880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ctr">
            <a:noAutofit/>
          </a:bodyPr>
          <a:p>
            <a:pPr indent="0" algn="ctr">
              <a:buNone/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8040" y="2560320"/>
            <a:ext cx="15803280" cy="724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rmAutofit fontScale="98000"/>
          </a:bodyPr>
          <a:p>
            <a:pPr marL="599040" indent="-599040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lvl="1" marL="1297440" indent="-497520">
              <a:spcBef>
                <a:spcPts val="1426"/>
              </a:spcBef>
              <a:buClr>
                <a:srgbClr val="000000"/>
              </a:buClr>
              <a:buFont typeface="Arial"/>
              <a:buChar char="–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lvl="2" marL="1997280" indent="-399600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lvl="3" marL="2795400" indent="-398160">
              <a:spcBef>
                <a:spcPts val="1426"/>
              </a:spcBef>
              <a:buClr>
                <a:srgbClr val="000000"/>
              </a:buClr>
              <a:buFont typeface="Arial"/>
              <a:buChar char="–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lvl="4" marL="3595320" indent="-399600">
              <a:spcBef>
                <a:spcPts val="1426"/>
              </a:spcBef>
              <a:buClr>
                <a:srgbClr val="000000"/>
              </a:buClr>
              <a:buFont typeface="Arial"/>
              <a:buChar char="»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lvl="5" marL="3595320" indent="-399600">
              <a:spcBef>
                <a:spcPts val="1426"/>
              </a:spcBef>
              <a:buClr>
                <a:srgbClr val="000000"/>
              </a:buClr>
              <a:buFont typeface="Arial"/>
              <a:buChar char="»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lvl="6" marL="3595320" indent="-399600">
              <a:spcBef>
                <a:spcPts val="1426"/>
              </a:spcBef>
              <a:buClr>
                <a:srgbClr val="000000"/>
              </a:buClr>
              <a:buFont typeface="Arial"/>
              <a:buChar char="»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7680" y="9992880"/>
            <a:ext cx="4097160" cy="76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99040" y="9992880"/>
            <a:ext cx="5561280" cy="76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583800" y="9992880"/>
            <a:ext cx="4097160" cy="762120"/>
          </a:xfrm>
          <a:prstGeom prst="rect">
            <a:avLst/>
          </a:prstGeom>
          <a:noFill/>
          <a:ln w="0">
            <a:noFill/>
          </a:ln>
        </p:spPr>
        <p:txBody>
          <a:bodyPr lIns="163080" rIns="163080" tIns="81360" bIns="81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075-C559-417C-AD3F-BF4B449E034C}" type="slidenum">
              <a:rPr b="0" lang="en-US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2cd3fc3be5a842c115cecbf6"/>
          <p:cNvPicPr/>
          <p:nvPr/>
        </p:nvPicPr>
        <p:blipFill>
          <a:blip r:embed="rId3">
            <a:grayscl/>
          </a:blip>
          <a:srcRect l="0" t="16122" r="13775" b="19050"/>
          <a:stretch/>
        </p:blipFill>
        <p:spPr>
          <a:xfrm>
            <a:off x="0" y="0"/>
            <a:ext cx="17559360" cy="1097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33760" y="6218280"/>
            <a:ext cx="12291840" cy="28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426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zh-CN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201204171646244482"/>
          <p:cNvPicPr/>
          <p:nvPr/>
        </p:nvPicPr>
        <p:blipFill>
          <a:blip r:embed="rId1"/>
          <a:stretch/>
        </p:blipFill>
        <p:spPr>
          <a:xfrm>
            <a:off x="0" y="0"/>
            <a:ext cx="17559360" cy="1009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858960" y="950760"/>
            <a:ext cx="7200720" cy="38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938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0" lang="zh-CN" sz="14300" spc="-1" strike="noStrike">
                <a:solidFill>
                  <a:srgbClr val="0000cc"/>
                </a:solidFill>
                <a:latin typeface="Arial"/>
              </a:rPr>
              <a:t>登     高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杜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858960" y="806400"/>
            <a:ext cx="1555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面对诗句的解说，不恰当的一项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诗中写登高所见的秋江景色，抒发了常年漂泊、老病孤愁的感情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本诗第一二句写诗人的所见所闻，一连出现了六个特写镜头，渲染了秋江景物的特点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有人认为本诗第三四句“无边”“不尽”两词多余，其实正是有了这两个词，诗的意境才显得更为广阔深远，气象万千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诗的最后两句，写外界环境带给作者的艰难苦恨和自身随着年龄增长而白了的头发，使得自己连喝酒的兴致都没有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34960" y="6423120"/>
            <a:ext cx="135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(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停浊酒杯”的原因是因为老病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19320" y="1166760"/>
            <a:ext cx="150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对这首诗的赏析，不恰当的一项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本诗情景交融，气象宏伟，悲凉的景物融合了诗人心头的悲凉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诗中“萧萧下”绘落叶之声，“滚滚来”状江浪之势，正衬托诗人宽阔的胸怀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诗中“万里”与“无边”对应，“百年”与“不尽”呼应，这就从空间和时间两方面把诗人的忧思表现得既深且广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本诗是一首七律，中间有两联对偶，韵律和谐；每句都是四个节拍，如“风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啸哀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79680" y="6711840"/>
            <a:ext cx="130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(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每句四个节拍”错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22080" y="1452600"/>
            <a:ext cx="16317720" cy="115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63080" rIns="163080" tIns="81360" bIns="81360" anchor="t">
            <a:normAutofit/>
          </a:bodyPr>
          <a:p>
            <a:pPr marL="611280" indent="-6112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en-US" sz="6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字是诗眼，贯穿全诗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611280" indent="0">
              <a:buNone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44520" y="415800"/>
            <a:ext cx="7883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173240" y="5832360"/>
            <a:ext cx="1452096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6400" spc="-1" strike="noStrike">
                <a:solidFill>
                  <a:srgbClr val="000000"/>
                </a:solidFill>
                <a:latin typeface="Arial"/>
              </a:rPr>
              <a:t>展开想象，根据这首诗的内容，把它改写成一篇散文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58880" y="2836800"/>
            <a:ext cx="1631628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内心伤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悲</a:t>
            </a:r>
            <a:r>
              <a:rPr b="1" lang="en-US" sz="6400" spc="-1" strike="noStrike">
                <a:solidFill>
                  <a:srgbClr val="000000"/>
                </a:solidFill>
                <a:latin typeface="Verdana"/>
                <a:ea typeface="楷体_GB2312"/>
              </a:rPr>
              <a:t>——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登高遣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悲</a:t>
            </a:r>
            <a:r>
              <a:rPr b="1" lang="en-US" sz="6400" spc="-1" strike="noStrike">
                <a:solidFill>
                  <a:srgbClr val="000000"/>
                </a:solidFill>
                <a:latin typeface="Verdana"/>
                <a:ea typeface="楷体_GB2312"/>
              </a:rPr>
              <a:t>——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触景生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悲</a:t>
            </a:r>
            <a:r>
              <a:rPr b="1" lang="en-US" sz="6400" spc="-1" strike="noStrike">
                <a:solidFill>
                  <a:srgbClr val="000000"/>
                </a:solidFill>
                <a:latin typeface="Verdana"/>
                <a:ea typeface="楷体_GB2312"/>
              </a:rPr>
              <a:t>——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倍增新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悲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悲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景起笔，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悲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情落笔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227320" y="1382760"/>
            <a:ext cx="22129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悲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1224000"/>
            <a:ext cx="17559360" cy="48430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、把握诗歌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黑体"/>
              </a:rPr>
              <a:t>情景交融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的特点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、体会诗人的情感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黑体"/>
              </a:rPr>
              <a:t>、背诵并默写这首诗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22440" y="533520"/>
            <a:ext cx="14925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cc"/>
                </a:solidFill>
                <a:latin typeface="Times New Roman"/>
                <a:ea typeface="隶书"/>
              </a:rPr>
              <a:t>背景材料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036800" y="1916280"/>
            <a:ext cx="15071400" cy="2503080"/>
          </a:xfrm>
          <a:prstGeom prst="rect">
            <a:avLst/>
          </a:prstGeom>
          <a:solidFill>
            <a:srgbClr val="ffffff">
              <a:alpha val="4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这首诗是杜甫</a:t>
            </a:r>
            <a:r>
              <a:rPr b="1" lang="en-US" sz="64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1" lang="zh-CN" sz="6400" spc="-1" strike="noStrike">
                <a:solidFill>
                  <a:srgbClr val="ff0000"/>
                </a:solidFill>
                <a:latin typeface="黑体"/>
                <a:ea typeface="黑体"/>
              </a:rPr>
              <a:t>岁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6400" spc="-1" strike="noStrike">
                <a:solidFill>
                  <a:srgbClr val="ff0000"/>
                </a:solidFill>
                <a:latin typeface="黑体"/>
                <a:ea typeface="黑体"/>
              </a:rPr>
              <a:t>夔州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所作。当时，安史之乱已经结束四年，但地方军阀又乘隙而起，相互争夺地盘，造成</a:t>
            </a:r>
            <a:r>
              <a:rPr b="1" lang="zh-CN" sz="6400" spc="-1" strike="noStrike">
                <a:solidFill>
                  <a:srgbClr val="ff0000"/>
                </a:solidFill>
                <a:latin typeface="黑体"/>
                <a:ea typeface="黑体"/>
              </a:rPr>
              <a:t>社会动乱，民不聊生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。在这种形势下，诗人只得继续</a:t>
            </a:r>
            <a:r>
              <a:rPr b="1" lang="zh-CN" sz="6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6400" spc="-1" strike="noStrike">
                <a:solidFill>
                  <a:srgbClr val="ff0000"/>
                </a:solidFill>
                <a:latin typeface="黑体"/>
                <a:ea typeface="黑体"/>
              </a:rPr>
              <a:t>飘泊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西南天地间</a:t>
            </a:r>
            <a:r>
              <a:rPr b="1" lang="zh-CN" sz="6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。为了排遣心头的郁闷，他在</a:t>
            </a:r>
            <a:r>
              <a:rPr b="1" lang="zh-CN" sz="6400" spc="-1" strike="noStrike">
                <a:solidFill>
                  <a:srgbClr val="ff0000"/>
                </a:solidFill>
                <a:latin typeface="黑体"/>
                <a:ea typeface="黑体"/>
              </a:rPr>
              <a:t>重阳节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登高抒怀</a:t>
            </a:r>
            <a:r>
              <a:rPr b="1" lang="en-US" sz="6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6400" spc="-1" strike="noStrike">
                <a:solidFill>
                  <a:srgbClr val="000000"/>
                </a:solidFill>
                <a:latin typeface="黑体"/>
                <a:ea typeface="黑体"/>
              </a:rPr>
              <a:t>写下了这首诗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314360" y="2951280"/>
            <a:ext cx="14519520" cy="60130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登  高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风急天高猿啸哀，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渚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清沙白鸟飞回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无边落木萧萧下，不尽长江滚滚来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万里悲秋常作客，百年多病独登台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艰难苦恨繁霜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鬓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，潦倒新停浊酒杯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73240" y="1108080"/>
            <a:ext cx="11891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黑体"/>
              </a:rPr>
              <a:t>一听读：听准字音辨节奏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386160" y="8943840"/>
            <a:ext cx="13828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渚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ǔ       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鬓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bì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36800" y="879480"/>
            <a:ext cx="143794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黑体"/>
              </a:rPr>
              <a:t>二自读：熟读诗歌知诗意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50800" y="2374920"/>
            <a:ext cx="14520960" cy="60130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登  高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风急天高猿啸哀，渚清沙白鸟飞回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无边落木萧萧下，不尽长江滚滚来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万里悲秋常作客，百年多病独登台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艰难苦恨繁霜鬓，潦倒新停浊酒杯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450800" y="8137440"/>
            <a:ext cx="143798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请用一句话概括这首诗的主要内容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-3981600" y="5726160"/>
            <a:ext cx="32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3080" rIns="163080" tIns="81360" bIns="81360" anchor="t">
            <a:spAutoFit/>
          </a:bodyPr>
          <a:p>
            <a:pPr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44520" y="301680"/>
            <a:ext cx="152082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</a:rPr>
              <a:t>三默读：思考讨论悟情感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98560" y="1684440"/>
            <a:ext cx="160383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6400" spc="-1" strike="noStrike">
                <a:solidFill>
                  <a:srgbClr val="333399"/>
                </a:solidFill>
                <a:latin typeface="Arial"/>
              </a:rPr>
              <a:t>、首联作者选取了哪些意象？描绘了一幅怎样的画面？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6400" spc="-1" strike="noStrike">
                <a:solidFill>
                  <a:srgbClr val="333399"/>
                </a:solidFill>
                <a:latin typeface="Arial"/>
              </a:rPr>
              <a:t>、颔联</a:t>
            </a: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写了哪些意象？营造了一种怎样的意境？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、结合写作背景，分析全诗表达了诗人什么感情？他有哪些悲苦？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80960" y="415800"/>
            <a:ext cx="157640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</a:rPr>
              <a:t>四美读：欣赏品味情感美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87320" y="9591840"/>
            <a:ext cx="158371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要求：</a:t>
            </a:r>
            <a:r>
              <a:rPr b="1" lang="en-US" sz="6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、饱含感情。</a:t>
            </a:r>
            <a:r>
              <a:rPr b="1" lang="en-US" sz="6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6400" spc="-1" strike="noStrike">
                <a:solidFill>
                  <a:srgbClr val="0000cc"/>
                </a:solidFill>
                <a:latin typeface="Arial"/>
              </a:rPr>
              <a:t>、注意重音和节奏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11920486_134219297129_2"/>
          <p:cNvPicPr/>
          <p:nvPr/>
        </p:nvPicPr>
        <p:blipFill>
          <a:blip r:embed="rId1"/>
          <a:stretch/>
        </p:blipFill>
        <p:spPr>
          <a:xfrm>
            <a:off x="0" y="1527120"/>
            <a:ext cx="1755936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173240" y="762120"/>
            <a:ext cx="128588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</a:rPr>
              <a:t>五背诵这首诗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450800" y="2374920"/>
            <a:ext cx="14520960" cy="60130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6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登  高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风急天高猿啸哀，渚清沙白鸟飞回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无边落木萧萧下，不尽长江滚滚来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万里悲秋常作客，百年多病独登台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  <a:ea typeface="楷体_GB2312"/>
              </a:rPr>
              <a:t>艰难苦恨繁霜鬓，潦倒新停浊酒杯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53880" y="2030400"/>
            <a:ext cx="1634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选出对这首诗对仗理解不当的一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首句的“风”“天”“猿啸”分别与下句的“渚”“沙”“鸟飞”对仗，读来富有节奏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颔联的对仗十分精工。“无边”“不尽”使“萧萧”“滚滚”更加形象化，沉郁悲凉的对句出神入化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颈联的“万里”“百年”和上联的“无边”“不尽”还有相互呼应的作用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颈联表现感情，“万里”“百年”分别从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空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方面着笔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371680" y="678348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答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(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横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颠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8600" y="6620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1630440"/>
                <a:tab algn="l" pos="3260880"/>
                <a:tab algn="l" pos="4890960"/>
                <a:tab algn="l" pos="6521400"/>
                <a:tab algn="l" pos="8151840"/>
                <a:tab algn="l" pos="978228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04:09:36Z</dcterms:created>
  <dc:creator>  </dc:creator>
  <dc:description>  </dc:description>
  <cp:keywords/>
  <dc:language>en-US</dc:language>
  <cp:lastModifiedBy>pc</cp:lastModifiedBy>
  <dcterms:modified xsi:type="dcterms:W3CDTF">2016-06-16T13:41:18Z</dcterms:modified>
  <cp:revision>14</cp:revision>
  <dc:subject>  </dc:subject>
  <dc:title>  </dc:title>
</cp:coreProperties>
</file>