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1CB-DC5D-4259-9A98-A0A39F84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BB7-3461-4ED6-BE81-EC6FC8C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B4C-C5E5-4EEB-8BEF-93A6877C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857-821F-4DE5-83D4-5207538F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9BD-1685-42B2-82A4-4AC0596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7DB-C197-4932-BF62-AA55FE87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624-F4F8-43DB-9162-ACE970B8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8B8-AAC2-4CFA-97D0-45FED9B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D56-6790-4870-BD87-4942EC38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F1E-D46E-4B38-BEA7-9C76CDF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AB5-6504-413A-911A-8D09EEE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135-B66B-4982-8B2C-199DCFD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CE46-A0CF-430E-946A-21A2359A1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000160" y="549360"/>
            <a:ext cx="5905440" cy="1005480"/>
          </a:xfrm>
          <a:prstGeom prst="rect">
            <a:avLst/>
          </a:prstGeom>
          <a:noFill/>
          <a:ln cap="rnd"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隶书"/>
              </a:rPr>
              <a:t>南京大屠杀是确凿的历史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代译序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隶书"/>
              </a:rPr>
              <a:t>    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距今四十余年前的一九三七年十二月十三日日军攻陷，疯狂的日军犯下了烧、杀、淫、掠等惨绝人寰的暴行，南京被俘军民惨遭达三十万人以上，其中被集体杀戮者约十九万人，被分散残杀者约十五万人大肆奸淫妇女，在占领后的一个月中，发生了两万起左右的强奸事件，许多被强奸后又被杀害；日军向老百姓抢劫他们所想要的任何东西，无数住宅、商库房、机关都遭侵入和抢劫，他们并且经常在屋被毁。南京人民蒙受了空前的浩劫。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71280" y="907920"/>
            <a:ext cx="1872000" cy="164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忆国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虎门销烟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，中国历史上第一个不平等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南京下关江面签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九一八事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火烧圆明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240" y="92160"/>
            <a:ext cx="1874880" cy="63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电 子    小 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上大附属三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(1)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制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2216160" y="3141720"/>
            <a:ext cx="496800" cy="37162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2792520" y="3141720"/>
            <a:ext cx="2305080" cy="914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杨靖宇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40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，东北抗日联军第一路总指挥杨靖宇率下部转移到蒙江县，由于叛徒出卖，被敌人重重包围。在四五架飞机的配合下，日伪军实行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梳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战术，八面包抄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就是把人围成一个圈，然后仔细寻找他所要找的人。杨靖宇把部队散开后，只带了两名警卫员在林海雪原里与敌人相遇，他双手持枪，同敌人激烈战斗着，后来，左手腕负伤了，就用右手继续猛射，与围扑之敌拼死搏斗。他一个人同几百个日伪军激战一个多小时，最后身中数弹，壮烈殉国，牺牲时年仅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岁，他牺牲后，敌人还是不肯放过他，残忍地割下他的头颅，剖开他的胸部，在他的肠胃里没有一粒粮食，只有草根，树皮和棉絮。敌人震惊了，他们无法理解竟有这样坚强不屈的人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1928880" y="2637000"/>
            <a:ext cx="5113440" cy="358560"/>
            <a:chOff x="1928880" y="2637000"/>
            <a:chExt cx="5113440" cy="358560"/>
          </a:xfrm>
        </p:grpSpPr>
        <p:pic>
          <p:nvPicPr>
            <p:cNvPr id="47" name="Picture 24" descr="MCj01930820000[1]"/>
            <p:cNvPicPr/>
            <p:nvPr/>
          </p:nvPicPr>
          <p:blipFill>
            <a:blip r:embed="rId3"/>
            <a:stretch/>
          </p:blipFill>
          <p:spPr>
            <a:xfrm>
              <a:off x="192888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MCj01930820000[1]"/>
            <p:cNvPicPr/>
            <p:nvPr/>
          </p:nvPicPr>
          <p:blipFill>
            <a:blip r:embed="rId4"/>
            <a:stretch/>
          </p:blipFill>
          <p:spPr>
            <a:xfrm>
              <a:off x="358452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MCj01930820000[1]"/>
            <p:cNvPicPr/>
            <p:nvPr/>
          </p:nvPicPr>
          <p:blipFill>
            <a:blip r:embed="rId5"/>
            <a:stretch/>
          </p:blipFill>
          <p:spPr>
            <a:xfrm>
              <a:off x="5313240" y="2637000"/>
              <a:ext cx="172908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MCj01930820000[1]"/>
          <p:cNvPicPr/>
          <p:nvPr/>
        </p:nvPicPr>
        <p:blipFill>
          <a:blip r:embed="rId6"/>
          <a:stretch/>
        </p:blipFill>
        <p:spPr>
          <a:xfrm>
            <a:off x="6681960" y="2637000"/>
            <a:ext cx="1295280" cy="3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1"/>
          <p:cNvPicPr/>
          <p:nvPr/>
        </p:nvPicPr>
        <p:blipFill>
          <a:blip r:embed="rId7"/>
          <a:srcRect l="-2704" t="64843" r="-2674" b="8107"/>
          <a:stretch/>
        </p:blipFill>
        <p:spPr>
          <a:xfrm>
            <a:off x="2144880" y="189000"/>
            <a:ext cx="56163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3"/>
          <p:cNvPicPr/>
          <p:nvPr/>
        </p:nvPicPr>
        <p:blipFill>
          <a:blip r:embed="rId8"/>
          <a:stretch/>
        </p:blipFill>
        <p:spPr>
          <a:xfrm>
            <a:off x="0" y="4797360"/>
            <a:ext cx="21448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6"/>
          <p:cNvSpPr txBox="1"/>
          <p:nvPr/>
        </p:nvSpPr>
        <p:spPr>
          <a:xfrm>
            <a:off x="2289240" y="3429000"/>
            <a:ext cx="287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追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循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英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足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迹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5240160" y="3141720"/>
            <a:ext cx="2665440" cy="11563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赵一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东北抗日联军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著名女英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，赵一曼担任东北抗日联军某团政治委员，在东北同日寇作艰苦的斗争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1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的一天，部队被日军围困于珠河县的一座山间。她和战士们连续打退了敌人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次进攻。在与敌人激烈的战斗中，她腿部受了重伤，不幸被捕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凶恶的敌人残酷地拷打赵一曼，想从她嘴里知道抗日联军的活动情形。但是赵一曼始终没有吐露一点儿抗日联军的情况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，敌人把赵一曼押上开往珠河的火车。赵一曼知道自己将要为祖国献出年轻的生命了，她给远在四川的儿子写了一封催人泪下的遗书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母亲对于你没有能尽到教育的责任，实在是遗憾的事情。母亲因为坚决地作了反满抗日的斗争，今天已经到了牺牲的前夕了。希望你，宁儿啊！赶快成人，来安慰你地下的母亲！在你长大成人之后，希望不要忘记你的母亲是为国而牺牲的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赵一曼牺牲了，中国人民会永远记住这位抗日女英雄的光辉事迹。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22"/>
          <p:cNvPicPr/>
          <p:nvPr/>
        </p:nvPicPr>
        <p:blipFill>
          <a:blip r:embed="rId9"/>
          <a:srcRect l="0" t="12224" r="21762" b="12224"/>
          <a:stretch/>
        </p:blipFill>
        <p:spPr>
          <a:xfrm>
            <a:off x="7905600" y="115920"/>
            <a:ext cx="200052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14"/>
          <p:cNvPicPr/>
          <p:nvPr/>
        </p:nvPicPr>
        <p:blipFill>
          <a:blip r:embed="rId10"/>
          <a:srcRect l="36184" t="33737" r="14175" b="8809"/>
          <a:stretch/>
        </p:blipFill>
        <p:spPr>
          <a:xfrm>
            <a:off x="7977240" y="5346720"/>
            <a:ext cx="19288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16"/>
          <p:cNvPicPr/>
          <p:nvPr/>
        </p:nvPicPr>
        <p:blipFill>
          <a:blip r:embed="rId11"/>
          <a:srcRect l="28380" t="41095" r="11693" b="0"/>
          <a:stretch/>
        </p:blipFill>
        <p:spPr>
          <a:xfrm>
            <a:off x="7977240" y="4076640"/>
            <a:ext cx="19288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3"/>
          <p:cNvGrpSpPr/>
          <p:nvPr/>
        </p:nvGrpSpPr>
        <p:grpSpPr>
          <a:xfrm>
            <a:off x="7815960" y="1398240"/>
            <a:ext cx="2367720" cy="2621880"/>
            <a:chOff x="7815960" y="1398240"/>
            <a:chExt cx="2367720" cy="2621880"/>
          </a:xfrm>
        </p:grpSpPr>
        <p:sp>
          <p:nvSpPr>
            <p:cNvPr id="59" name="AutoShape 44"/>
            <p:cNvSpPr/>
            <p:nvPr/>
          </p:nvSpPr>
          <p:spPr>
            <a:xfrm flipH="1" rot="21556200">
              <a:off x="7831800" y="1413000"/>
              <a:ext cx="2334960" cy="2592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5"/>
            <p:cNvSpPr/>
            <p:nvPr/>
          </p:nvSpPr>
          <p:spPr>
            <a:xfrm>
              <a:off x="8078760" y="1758960"/>
              <a:ext cx="1783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      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时过境迁，现在沉睡的雄狮早已觉醒，我们大步走在世界的前列，我们昂首屹立在世界的东方！我们伟大的祖国繁荣昌盛，国泰民安。但我们绝不能忘记屈辱的历史，绝不能忘记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“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落后就要挨打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”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的教训！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国耻未雪，何由成名？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李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祖国如有难，汝应作前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陈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精忠报国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 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《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宋史岳飞列传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9"/>
          <p:cNvGrpSpPr/>
          <p:nvPr/>
        </p:nvGrpSpPr>
        <p:grpSpPr>
          <a:xfrm>
            <a:off x="117000" y="6205680"/>
            <a:ext cx="843120" cy="651600"/>
            <a:chOff x="117000" y="6205680"/>
            <a:chExt cx="843120" cy="651600"/>
          </a:xfrm>
        </p:grpSpPr>
        <p:sp>
          <p:nvSpPr>
            <p:cNvPr id="62" name="Oval 50"/>
            <p:cNvSpPr/>
            <p:nvPr/>
          </p:nvSpPr>
          <p:spPr>
            <a:xfrm>
              <a:off x="446400" y="620568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51"/>
            <p:cNvGrpSpPr/>
            <p:nvPr/>
          </p:nvGrpSpPr>
          <p:grpSpPr>
            <a:xfrm>
              <a:off x="341640" y="6431760"/>
              <a:ext cx="342720" cy="425520"/>
              <a:chOff x="341640" y="6431760"/>
              <a:chExt cx="342720" cy="425520"/>
            </a:xfrm>
          </p:grpSpPr>
          <p:grpSp>
            <p:nvGrpSpPr>
              <p:cNvPr id="64" name="Group 52"/>
              <p:cNvGrpSpPr/>
              <p:nvPr/>
            </p:nvGrpSpPr>
            <p:grpSpPr>
              <a:xfrm>
                <a:off x="341640" y="6431760"/>
                <a:ext cx="342720" cy="425520"/>
                <a:chOff x="341640" y="6431760"/>
                <a:chExt cx="342720" cy="425520"/>
              </a:xfrm>
            </p:grpSpPr>
            <p:sp>
              <p:nvSpPr>
                <p:cNvPr id="65" name="Oval 53"/>
                <p:cNvSpPr/>
                <p:nvPr/>
              </p:nvSpPr>
              <p:spPr>
                <a:xfrm>
                  <a:off x="341640" y="6431760"/>
                  <a:ext cx="342720" cy="342360"/>
                </a:xfrm>
                <a:prstGeom prst="ellipse">
                  <a:avLst/>
                </a:pr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54"/>
                <p:cNvSpPr/>
                <p:nvPr/>
              </p:nvSpPr>
              <p:spPr>
                <a:xfrm>
                  <a:off x="351000" y="6629400"/>
                  <a:ext cx="228600" cy="22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55"/>
              <p:cNvSpPr/>
              <p:nvPr/>
            </p:nvSpPr>
            <p:spPr>
              <a:xfrm>
                <a:off x="389160" y="6501960"/>
                <a:ext cx="228240" cy="2282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56"/>
              <p:cNvSpPr/>
              <p:nvPr/>
            </p:nvSpPr>
            <p:spPr>
              <a:xfrm>
                <a:off x="446400" y="657612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57"/>
              <p:cNvSpPr/>
              <p:nvPr/>
            </p:nvSpPr>
            <p:spPr>
              <a:xfrm rot="12922200">
                <a:off x="474480" y="6478560"/>
                <a:ext cx="114120" cy="1976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58"/>
            <p:cNvSpPr/>
            <p:nvPr/>
          </p:nvSpPr>
          <p:spPr>
            <a:xfrm>
              <a:off x="598680" y="6766560"/>
              <a:ext cx="361440" cy="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9"/>
            <p:cNvSpPr/>
            <p:nvPr/>
          </p:nvSpPr>
          <p:spPr>
            <a:xfrm rot="1800000">
              <a:off x="617400" y="625320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0"/>
            <p:cNvSpPr/>
            <p:nvPr/>
          </p:nvSpPr>
          <p:spPr>
            <a:xfrm rot="3600000">
              <a:off x="722160" y="63612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1"/>
            <p:cNvSpPr/>
            <p:nvPr/>
          </p:nvSpPr>
          <p:spPr>
            <a:xfrm rot="5400000">
              <a:off x="747000" y="65304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2"/>
            <p:cNvSpPr/>
            <p:nvPr/>
          </p:nvSpPr>
          <p:spPr>
            <a:xfrm rot="19800000">
              <a:off x="275040" y="625284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3"/>
            <p:cNvSpPr/>
            <p:nvPr/>
          </p:nvSpPr>
          <p:spPr>
            <a:xfrm rot="17100000">
              <a:off x="170280" y="638388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4"/>
            <p:cNvSpPr/>
            <p:nvPr/>
          </p:nvSpPr>
          <p:spPr>
            <a:xfrm rot="15300000">
              <a:off x="173880" y="653436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65"/>
          <p:cNvSpPr/>
          <p:nvPr/>
        </p:nvSpPr>
        <p:spPr>
          <a:xfrm>
            <a:off x="0" y="4653000"/>
            <a:ext cx="214488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79" name="Oval 67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8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69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0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1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72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3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86" name="Oval 74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5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6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7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8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9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0"/>
          <p:cNvGrpSpPr/>
          <p:nvPr/>
        </p:nvGrpSpPr>
        <p:grpSpPr>
          <a:xfrm>
            <a:off x="2863440" y="6539040"/>
            <a:ext cx="271440" cy="318600"/>
            <a:chOff x="2863440" y="6539040"/>
            <a:chExt cx="271440" cy="318600"/>
          </a:xfrm>
        </p:grpSpPr>
        <p:sp>
          <p:nvSpPr>
            <p:cNvPr id="93" name="Oval 81"/>
            <p:cNvSpPr/>
            <p:nvPr/>
          </p:nvSpPr>
          <p:spPr>
            <a:xfrm>
              <a:off x="2973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2"/>
            <p:cNvSpPr/>
            <p:nvPr/>
          </p:nvSpPr>
          <p:spPr>
            <a:xfrm rot="18463800">
              <a:off x="2904840" y="658620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3"/>
            <p:cNvSpPr/>
            <p:nvPr/>
          </p:nvSpPr>
          <p:spPr>
            <a:xfrm rot="18463800">
              <a:off x="3045600" y="670644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4"/>
            <p:cNvSpPr/>
            <p:nvPr/>
          </p:nvSpPr>
          <p:spPr>
            <a:xfrm rot="13685400">
              <a:off x="289944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5"/>
            <p:cNvSpPr/>
            <p:nvPr/>
          </p:nvSpPr>
          <p:spPr>
            <a:xfrm rot="2565000">
              <a:off x="304632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6"/>
            <p:cNvSpPr/>
            <p:nvPr/>
          </p:nvSpPr>
          <p:spPr>
            <a:xfrm>
              <a:off x="2973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7"/>
          <p:cNvGrpSpPr/>
          <p:nvPr/>
        </p:nvGrpSpPr>
        <p:grpSpPr>
          <a:xfrm>
            <a:off x="3438000" y="6539040"/>
            <a:ext cx="272160" cy="318600"/>
            <a:chOff x="3438000" y="6539040"/>
            <a:chExt cx="272160" cy="318600"/>
          </a:xfrm>
        </p:grpSpPr>
        <p:sp>
          <p:nvSpPr>
            <p:cNvPr id="100" name="Oval 88"/>
            <p:cNvSpPr/>
            <p:nvPr/>
          </p:nvSpPr>
          <p:spPr>
            <a:xfrm>
              <a:off x="354816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9"/>
            <p:cNvSpPr/>
            <p:nvPr/>
          </p:nvSpPr>
          <p:spPr>
            <a:xfrm rot="18463800">
              <a:off x="347976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0"/>
            <p:cNvSpPr/>
            <p:nvPr/>
          </p:nvSpPr>
          <p:spPr>
            <a:xfrm rot="18463800">
              <a:off x="362088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1"/>
            <p:cNvSpPr/>
            <p:nvPr/>
          </p:nvSpPr>
          <p:spPr>
            <a:xfrm rot="13685400">
              <a:off x="347400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2"/>
            <p:cNvSpPr/>
            <p:nvPr/>
          </p:nvSpPr>
          <p:spPr>
            <a:xfrm rot="2565000">
              <a:off x="362088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3"/>
            <p:cNvSpPr/>
            <p:nvPr/>
          </p:nvSpPr>
          <p:spPr>
            <a:xfrm>
              <a:off x="354816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4"/>
          <p:cNvGrpSpPr/>
          <p:nvPr/>
        </p:nvGrpSpPr>
        <p:grpSpPr>
          <a:xfrm>
            <a:off x="3942720" y="6539040"/>
            <a:ext cx="272160" cy="318600"/>
            <a:chOff x="3942720" y="6539040"/>
            <a:chExt cx="272160" cy="318600"/>
          </a:xfrm>
        </p:grpSpPr>
        <p:sp>
          <p:nvSpPr>
            <p:cNvPr id="107" name="Oval 95"/>
            <p:cNvSpPr/>
            <p:nvPr/>
          </p:nvSpPr>
          <p:spPr>
            <a:xfrm>
              <a:off x="405288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6"/>
            <p:cNvSpPr/>
            <p:nvPr/>
          </p:nvSpPr>
          <p:spPr>
            <a:xfrm rot="18463800">
              <a:off x="398448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97"/>
            <p:cNvSpPr/>
            <p:nvPr/>
          </p:nvSpPr>
          <p:spPr>
            <a:xfrm rot="18463800">
              <a:off x="412560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8"/>
            <p:cNvSpPr/>
            <p:nvPr/>
          </p:nvSpPr>
          <p:spPr>
            <a:xfrm rot="13685400">
              <a:off x="397872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9"/>
            <p:cNvSpPr/>
            <p:nvPr/>
          </p:nvSpPr>
          <p:spPr>
            <a:xfrm rot="2565000">
              <a:off x="412560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0"/>
            <p:cNvSpPr/>
            <p:nvPr/>
          </p:nvSpPr>
          <p:spPr>
            <a:xfrm>
              <a:off x="405288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1"/>
          <p:cNvGrpSpPr/>
          <p:nvPr/>
        </p:nvGrpSpPr>
        <p:grpSpPr>
          <a:xfrm>
            <a:off x="4519080" y="6539040"/>
            <a:ext cx="272160" cy="318600"/>
            <a:chOff x="4519080" y="6539040"/>
            <a:chExt cx="272160" cy="318600"/>
          </a:xfrm>
        </p:grpSpPr>
        <p:sp>
          <p:nvSpPr>
            <p:cNvPr id="114" name="Oval 102"/>
            <p:cNvSpPr/>
            <p:nvPr/>
          </p:nvSpPr>
          <p:spPr>
            <a:xfrm>
              <a:off x="4629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3"/>
            <p:cNvSpPr/>
            <p:nvPr/>
          </p:nvSpPr>
          <p:spPr>
            <a:xfrm rot="18463800">
              <a:off x="456084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4"/>
            <p:cNvSpPr/>
            <p:nvPr/>
          </p:nvSpPr>
          <p:spPr>
            <a:xfrm rot="18463800">
              <a:off x="470196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5"/>
            <p:cNvSpPr/>
            <p:nvPr/>
          </p:nvSpPr>
          <p:spPr>
            <a:xfrm rot="13685400">
              <a:off x="455508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6"/>
            <p:cNvSpPr/>
            <p:nvPr/>
          </p:nvSpPr>
          <p:spPr>
            <a:xfrm rot="2565000">
              <a:off x="470196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7"/>
            <p:cNvSpPr/>
            <p:nvPr/>
          </p:nvSpPr>
          <p:spPr>
            <a:xfrm>
              <a:off x="4629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8"/>
          <p:cNvGrpSpPr/>
          <p:nvPr/>
        </p:nvGrpSpPr>
        <p:grpSpPr>
          <a:xfrm>
            <a:off x="4172040" y="2977200"/>
            <a:ext cx="513720" cy="534600"/>
            <a:chOff x="4172040" y="2977200"/>
            <a:chExt cx="513720" cy="534600"/>
          </a:xfrm>
        </p:grpSpPr>
        <p:grpSp>
          <p:nvGrpSpPr>
            <p:cNvPr id="121" name="Group 109"/>
            <p:cNvGrpSpPr/>
            <p:nvPr/>
          </p:nvGrpSpPr>
          <p:grpSpPr>
            <a:xfrm>
              <a:off x="4172040" y="2977200"/>
              <a:ext cx="513720" cy="534600"/>
              <a:chOff x="4172040" y="2977200"/>
              <a:chExt cx="513720" cy="534600"/>
            </a:xfrm>
          </p:grpSpPr>
          <p:sp>
            <p:nvSpPr>
              <p:cNvPr id="122" name="未知"/>
              <p:cNvSpPr/>
              <p:nvPr/>
            </p:nvSpPr>
            <p:spPr>
              <a:xfrm rot="8304000">
                <a:off x="4304880" y="2996640"/>
                <a:ext cx="247680" cy="495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8304000">
                <a:off x="4393080" y="304344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8304000">
                <a:off x="4460760" y="3176640"/>
                <a:ext cx="40320" cy="191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8304000">
                <a:off x="4279320" y="3171600"/>
                <a:ext cx="120960" cy="127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8304000">
                <a:off x="4392000" y="326268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未知"/>
            <p:cNvSpPr/>
            <p:nvPr/>
          </p:nvSpPr>
          <p:spPr>
            <a:xfrm rot="8304000">
              <a:off x="4403160" y="3014640"/>
              <a:ext cx="37440" cy="4482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4"/>
          <p:cNvGrpSpPr/>
          <p:nvPr/>
        </p:nvGrpSpPr>
        <p:grpSpPr>
          <a:xfrm>
            <a:off x="4819680" y="3121920"/>
            <a:ext cx="514080" cy="534960"/>
            <a:chOff x="4819680" y="3121920"/>
            <a:chExt cx="514080" cy="534960"/>
          </a:xfrm>
        </p:grpSpPr>
        <p:grpSp>
          <p:nvGrpSpPr>
            <p:cNvPr id="129" name="Group 125"/>
            <p:cNvGrpSpPr/>
            <p:nvPr/>
          </p:nvGrpSpPr>
          <p:grpSpPr>
            <a:xfrm>
              <a:off x="4819680" y="3121920"/>
              <a:ext cx="514080" cy="534960"/>
              <a:chOff x="4819680" y="3121920"/>
              <a:chExt cx="514080" cy="534960"/>
            </a:xfrm>
          </p:grpSpPr>
          <p:sp>
            <p:nvSpPr>
              <p:cNvPr id="130" name="未知"/>
              <p:cNvSpPr/>
              <p:nvPr/>
            </p:nvSpPr>
            <p:spPr>
              <a:xfrm rot="8304000">
                <a:off x="4952520" y="3141360"/>
                <a:ext cx="247680" cy="495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8304000">
                <a:off x="5040720" y="318816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8304000">
                <a:off x="5108040" y="3321000"/>
                <a:ext cx="40320" cy="192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8304000">
                <a:off x="4926960" y="3315960"/>
                <a:ext cx="120960" cy="12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8304000">
                <a:off x="5040000" y="340776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未知"/>
            <p:cNvSpPr/>
            <p:nvPr/>
          </p:nvSpPr>
          <p:spPr>
            <a:xfrm rot="8304000">
              <a:off x="5051160" y="3159360"/>
              <a:ext cx="37440" cy="448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40" descr="56a4ge贝"/>
          <p:cNvPicPr/>
          <p:nvPr/>
        </p:nvPicPr>
        <p:blipFill>
          <a:blip r:embed="rId14"/>
          <a:stretch/>
        </p:blipFill>
        <p:spPr>
          <a:xfrm>
            <a:off x="1281240" y="5991120"/>
            <a:ext cx="9046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1"/>
          <p:cNvGrpSpPr/>
          <p:nvPr/>
        </p:nvGrpSpPr>
        <p:grpSpPr>
          <a:xfrm>
            <a:off x="-164160" y="6424920"/>
            <a:ext cx="2636640" cy="536040"/>
            <a:chOff x="-164160" y="6424920"/>
            <a:chExt cx="2636640" cy="536040"/>
          </a:xfrm>
        </p:grpSpPr>
        <p:sp>
          <p:nvSpPr>
            <p:cNvPr id="138" name="未知"/>
            <p:cNvSpPr/>
            <p:nvPr/>
          </p:nvSpPr>
          <p:spPr>
            <a:xfrm rot="195000">
              <a:off x="-159840" y="6586200"/>
              <a:ext cx="2628720" cy="21456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140" h="338">
                  <a:moveTo>
                    <a:pt x="0" y="156"/>
                  </a:moveTo>
                  <a:cubicBezTo>
                    <a:pt x="225" y="234"/>
                    <a:pt x="450" y="312"/>
                    <a:pt x="720" y="312"/>
                  </a:cubicBezTo>
                  <a:cubicBezTo>
                    <a:pt x="990" y="312"/>
                    <a:pt x="1380" y="156"/>
                    <a:pt x="1620" y="156"/>
                  </a:cubicBezTo>
                  <a:cubicBezTo>
                    <a:pt x="1860" y="156"/>
                    <a:pt x="1860" y="338"/>
                    <a:pt x="2160" y="312"/>
                  </a:cubicBezTo>
                  <a:cubicBezTo>
                    <a:pt x="2460" y="286"/>
                    <a:pt x="3090" y="0"/>
                    <a:pt x="3420" y="0"/>
                  </a:cubicBezTo>
                  <a:cubicBezTo>
                    <a:pt x="3750" y="0"/>
                    <a:pt x="3945" y="156"/>
                    <a:pt x="414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43"/>
            <p:cNvGrpSpPr/>
            <p:nvPr/>
          </p:nvGrpSpPr>
          <p:grpSpPr>
            <a:xfrm>
              <a:off x="-60840" y="6424920"/>
              <a:ext cx="2378880" cy="536040"/>
              <a:chOff x="-60840" y="6424920"/>
              <a:chExt cx="2378880" cy="536040"/>
            </a:xfrm>
          </p:grpSpPr>
          <p:sp>
            <p:nvSpPr>
              <p:cNvPr id="140" name="未知"/>
              <p:cNvSpPr/>
              <p:nvPr/>
            </p:nvSpPr>
            <p:spPr>
              <a:xfrm rot="19414200">
                <a:off x="10440" y="64900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84400">
                <a:off x="866160" y="64702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394400">
                <a:off x="1937520" y="64288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flipV="1" rot="2575800">
                <a:off x="296640" y="668592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flipV="1" rot="2575800">
                <a:off x="1436400" y="667224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flipV="1" rot="2575800">
                <a:off x="2132640" y="66124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155" descr="QQ图片20141218164119"/>
          <p:cNvPicPr/>
          <p:nvPr/>
        </p:nvPicPr>
        <p:blipFill>
          <a:blip r:embed="rId15"/>
          <a:stretch/>
        </p:blipFill>
        <p:spPr>
          <a:xfrm>
            <a:off x="0" y="2997360"/>
            <a:ext cx="214488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40:11Z</dcterms:created>
  <dc:creator>User</dc:creator>
  <dc:description/>
  <dc:language>en-US</dc:language>
  <cp:lastModifiedBy>Administrator</cp:lastModifiedBy>
  <dcterms:modified xsi:type="dcterms:W3CDTF">2015-08-30T06:27:31Z</dcterms:modified>
  <cp:revision>61</cp:revision>
  <dc:subject/>
  <dc:title>幻灯片 1</dc:title>
</cp:coreProperties>
</file>