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6CC7-210D-4109-BB74-DCB5EE81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E16-8CBC-40B1-A49B-1765F5C0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6DC9-9D86-4C5C-B24A-8D953BC7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75E-96E2-434F-A041-EAE9C8C1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0601-0729-4B9E-97C8-2BBACAB9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61C9-4159-4507-954D-3A48F5F9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593F-2DF1-4155-B354-3F779341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5DA2-4AF3-457F-9030-4B04BE5A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3958-AB97-44BD-A691-B49EE893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E53-7F60-46BF-9E3F-1A077E49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FA20-4B46-452A-A6BA-A95DBF4E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A22E-B55C-41C5-869E-CC6541F4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C8A9-F789-4B78-97B8-5CA63906D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2000160" y="549360"/>
            <a:ext cx="5905440" cy="1005480"/>
          </a:xfrm>
          <a:prstGeom prst="rect">
            <a:avLst/>
          </a:prstGeom>
          <a:noFill/>
          <a:ln cap="rnd"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隶书"/>
              </a:rPr>
              <a:t>南京大屠杀是确凿的历史事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代译序</a:t>
            </a:r>
            <a:r>
              <a:rPr b="0" lang="zh-CN" sz="1200" spc="-1" strike="noStrike">
                <a:solidFill>
                  <a:srgbClr val="000000"/>
                </a:solidFill>
                <a:latin typeface="华文楷体"/>
                <a:ea typeface="华文隶书"/>
              </a:rPr>
              <a:t>    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距今四十余年前的一九三七年十二月十三日日军攻陷，疯狂的日军犯下了烧、杀、淫、掠等惨绝人寰的暴行，南京被俘军民惨遭达三十万人以上，其中被集体杀戮者约十九万人，被分散残杀者约十五万人大肆奸淫妇女，在占领后的一个月中，发生了两万起左右的强奸事件，许多被强奸后又被杀害；日军向老百姓抢劫他们所想要的任何东西，无数住宅、商库房、机关都遭侵入和抢劫，他们并且经常在屋被毁。南京人民蒙受了空前的浩劫。</a:t>
            </a: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71280" y="907920"/>
            <a:ext cx="1872000" cy="164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  <a:ea typeface="黑体"/>
              </a:rPr>
              <a:t>忆国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虎门销烟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84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日，中国历史上第一个不平等条约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南京条约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在南京下关江面签订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九一八事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火烧圆明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57240" y="92160"/>
            <a:ext cx="1874880" cy="63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1" lang="zh-CN" sz="1600" spc="-1" strike="noStrike">
                <a:solidFill>
                  <a:srgbClr val="000000"/>
                </a:solidFill>
                <a:latin typeface="方正舒体"/>
                <a:ea typeface="方正舒体"/>
              </a:rPr>
              <a:t>电 子    小 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2014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上大附属三</a:t>
            </a:r>
            <a:r>
              <a:rPr b="1" lang="en-US" sz="1000" spc="-1" strike="noStrike">
                <a:solidFill>
                  <a:srgbClr val="000000"/>
                </a:solidFill>
                <a:latin typeface="宋体"/>
              </a:rPr>
              <a:t>(1)  </a:t>
            </a:r>
            <a:r>
              <a:rPr b="1" lang="zh-CN" sz="1000" spc="-1" strike="noStrike">
                <a:solidFill>
                  <a:srgbClr val="000000"/>
                </a:solidFill>
                <a:latin typeface="宋体"/>
              </a:rPr>
              <a:t>制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2216160" y="3141720"/>
            <a:ext cx="496800" cy="371628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2792520" y="3141720"/>
            <a:ext cx="2305080" cy="91404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88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杨靖宇将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1940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月，东北抗日联军第一路总指挥杨靖宇率下部转移到蒙江县，由于叛徒出卖，被敌人重重包围。在四五架飞机的配合下，日伪军实行了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“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梳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”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战术，八面包抄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——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就是把人围成一个圈，然后仔细寻找他所要找的人。杨靖宇把部队散开后，只带了两名警卫员在林海雪原里与敌人相遇，他双手持枪，同敌人激烈战斗着，后来，左手腕负伤了，就用右手继续猛射，与围扑之敌拼死搏斗。他一个人同几百个日伪军激战一个多小时，最后身中数弹，壮烈殉国，牺牲时年仅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35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岁，他牺牲后，敌人还是不肯放过他，残忍地割下他的头颅，剖开他的胸部，在他的肠胃里没有一粒粮食，只有草根，树皮和棉絮。敌人震惊了，他们无法理解竟有这样坚强不屈的人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9"/>
          <p:cNvGrpSpPr/>
          <p:nvPr/>
        </p:nvGrpSpPr>
        <p:grpSpPr>
          <a:xfrm>
            <a:off x="1928880" y="2637000"/>
            <a:ext cx="5113440" cy="358560"/>
            <a:chOff x="1928880" y="2637000"/>
            <a:chExt cx="5113440" cy="358560"/>
          </a:xfrm>
        </p:grpSpPr>
        <p:pic>
          <p:nvPicPr>
            <p:cNvPr id="47" name="Picture 24" descr="MCj01930820000[1]"/>
            <p:cNvPicPr/>
            <p:nvPr/>
          </p:nvPicPr>
          <p:blipFill>
            <a:blip r:embed="rId3"/>
            <a:stretch/>
          </p:blipFill>
          <p:spPr>
            <a:xfrm>
              <a:off x="1928880" y="2637000"/>
              <a:ext cx="1728720" cy="3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26" descr="MCj01930820000[1]"/>
            <p:cNvPicPr/>
            <p:nvPr/>
          </p:nvPicPr>
          <p:blipFill>
            <a:blip r:embed="rId4"/>
            <a:stretch/>
          </p:blipFill>
          <p:spPr>
            <a:xfrm>
              <a:off x="3584520" y="2637000"/>
              <a:ext cx="1728720" cy="3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7" descr="MCj01930820000[1]"/>
            <p:cNvPicPr/>
            <p:nvPr/>
          </p:nvPicPr>
          <p:blipFill>
            <a:blip r:embed="rId5"/>
            <a:stretch/>
          </p:blipFill>
          <p:spPr>
            <a:xfrm>
              <a:off x="5313240" y="2637000"/>
              <a:ext cx="1729080" cy="35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28" descr="MCj01930820000[1]"/>
          <p:cNvPicPr/>
          <p:nvPr/>
        </p:nvPicPr>
        <p:blipFill>
          <a:blip r:embed="rId6"/>
          <a:stretch/>
        </p:blipFill>
        <p:spPr>
          <a:xfrm>
            <a:off x="6681960" y="2637000"/>
            <a:ext cx="1295280" cy="35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3" descr="1"/>
          <p:cNvPicPr/>
          <p:nvPr/>
        </p:nvPicPr>
        <p:blipFill>
          <a:blip r:embed="rId7"/>
          <a:srcRect l="-2704" t="64843" r="-2674" b="8107"/>
          <a:stretch/>
        </p:blipFill>
        <p:spPr>
          <a:xfrm>
            <a:off x="2144880" y="189000"/>
            <a:ext cx="561636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3"/>
          <p:cNvPicPr/>
          <p:nvPr/>
        </p:nvPicPr>
        <p:blipFill>
          <a:blip r:embed="rId8"/>
          <a:stretch/>
        </p:blipFill>
        <p:spPr>
          <a:xfrm>
            <a:off x="0" y="4797360"/>
            <a:ext cx="2144880" cy="1403280"/>
          </a:xfrm>
          <a:prstGeom prst="rect">
            <a:avLst/>
          </a:prstGeom>
          <a:ln w="0">
            <a:noFill/>
          </a:ln>
        </p:spPr>
      </p:pic>
      <p:sp>
        <p:nvSpPr>
          <p:cNvPr id="53" name="WordArt 36"/>
          <p:cNvSpPr txBox="1"/>
          <p:nvPr/>
        </p:nvSpPr>
        <p:spPr>
          <a:xfrm>
            <a:off x="2289240" y="3429000"/>
            <a:ext cx="2872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追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循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英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雄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的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足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迹</a:t>
            </a:r>
            <a:endParaRPr b="0" lang="en-US" sz="1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Text Box 37"/>
          <p:cNvSpPr/>
          <p:nvPr/>
        </p:nvSpPr>
        <p:spPr>
          <a:xfrm>
            <a:off x="5240160" y="3141720"/>
            <a:ext cx="2665440" cy="115632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隶书"/>
              </a:rPr>
              <a:t>赵一曼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华文隶书"/>
              </a:rPr>
              <a:t>—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东北抗日联军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                                     </a:t>
            </a:r>
            <a:r>
              <a:rPr b="1" lang="zh-CN" sz="1200" spc="-1" strike="noStrike">
                <a:solidFill>
                  <a:srgbClr val="0000ff"/>
                </a:solidFill>
                <a:latin typeface="Arial"/>
              </a:rPr>
              <a:t>著名女英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1935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，赵一曼担任东北抗日联军某团政治委员，在东北同日寇作艰苦的斗争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11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月的一天，部队被日军围困于珠河县的一座山间。她和战士们连续打退了敌人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次进攻。在与敌人激烈的战斗中，她腿部受了重伤，不幸被捕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凶恶的敌人残酷地拷打赵一曼，想从她嘴里知道抗日联军的活动情形。但是赵一曼始终没有吐露一点儿抗日联军的情况。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1936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日，敌人把赵一曼押上开往珠河的火车。赵一曼知道自己将要为祖国献出年轻的生命了，她给远在四川的儿子写了一封催人泪下的遗书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“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母亲对于你没有能尽到教育的责任，实在是遗憾的事情。母亲因为坚决地作了反满抗日的斗争，今天已经到了牺牲的前夕了。希望你，宁儿啊！赶快成人，来安慰你地下的母亲！在你长大成人之后，希望不要忘记你的母亲是为国而牺牲的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方正舒体"/>
              </a:rPr>
              <a:t>”</a:t>
            </a:r>
            <a:r>
              <a:rPr b="0" lang="zh-CN" sz="1000" spc="-1" strike="noStrike">
                <a:solidFill>
                  <a:srgbClr val="000000"/>
                </a:solidFill>
                <a:latin typeface="方正舒体"/>
                <a:ea typeface="方正舒体"/>
              </a:rPr>
              <a:t>赵一曼牺牲了，中国人民会永远记住这位抗日女英雄的光辉事迹。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9" descr="22"/>
          <p:cNvPicPr/>
          <p:nvPr/>
        </p:nvPicPr>
        <p:blipFill>
          <a:blip r:embed="rId9"/>
          <a:srcRect l="0" t="12224" r="21762" b="12224"/>
          <a:stretch/>
        </p:blipFill>
        <p:spPr>
          <a:xfrm>
            <a:off x="7905600" y="115920"/>
            <a:ext cx="2000520" cy="1209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14"/>
          <p:cNvPicPr/>
          <p:nvPr/>
        </p:nvPicPr>
        <p:blipFill>
          <a:blip r:embed="rId10"/>
          <a:srcRect l="36184" t="33737" r="14175" b="8809"/>
          <a:stretch/>
        </p:blipFill>
        <p:spPr>
          <a:xfrm>
            <a:off x="7977240" y="5346720"/>
            <a:ext cx="1928880" cy="1511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1" descr="16"/>
          <p:cNvPicPr/>
          <p:nvPr/>
        </p:nvPicPr>
        <p:blipFill>
          <a:blip r:embed="rId11"/>
          <a:srcRect l="28380" t="41095" r="11693" b="0"/>
          <a:stretch/>
        </p:blipFill>
        <p:spPr>
          <a:xfrm>
            <a:off x="7977240" y="4076640"/>
            <a:ext cx="1928880" cy="123840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43"/>
          <p:cNvGrpSpPr/>
          <p:nvPr/>
        </p:nvGrpSpPr>
        <p:grpSpPr>
          <a:xfrm>
            <a:off x="7815960" y="1398240"/>
            <a:ext cx="2367720" cy="2621880"/>
            <a:chOff x="7815960" y="1398240"/>
            <a:chExt cx="2367720" cy="2621880"/>
          </a:xfrm>
        </p:grpSpPr>
        <p:sp>
          <p:nvSpPr>
            <p:cNvPr id="59" name="AutoShape 44"/>
            <p:cNvSpPr/>
            <p:nvPr/>
          </p:nvSpPr>
          <p:spPr>
            <a:xfrm flipH="1" rot="21556200">
              <a:off x="7831800" y="1413000"/>
              <a:ext cx="2334960" cy="259236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ffffff"/>
                </a:gs>
                <a:gs pos="100000">
                  <a:srgbClr val="ccffcc"/>
                </a:gs>
              </a:gsLst>
              <a:lin ang="54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45"/>
            <p:cNvSpPr/>
            <p:nvPr/>
          </p:nvSpPr>
          <p:spPr>
            <a:xfrm>
              <a:off x="8078760" y="1758960"/>
              <a:ext cx="1783440" cy="22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      </a:t>
              </a:r>
              <a:r>
                <a:rPr b="0" lang="zh-CN" sz="10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时过境迁，现在沉睡的雄狮早已觉醒，我们大步走在世界的前列，我们昂首屹立在世界的东方！我们伟大的祖国繁荣昌盛，国泰民安。但我们绝不能忘记屈辱的历史，绝不能忘记</a:t>
              </a:r>
              <a:r>
                <a:rPr b="0" lang="zh-CN" sz="1000" spc="-1" strike="noStrike">
                  <a:solidFill>
                    <a:srgbClr val="0000ff"/>
                  </a:solidFill>
                  <a:latin typeface="Arial"/>
                  <a:ea typeface="方正舒体"/>
                </a:rPr>
                <a:t>“</a:t>
              </a:r>
              <a:r>
                <a:rPr b="0" lang="zh-CN" sz="10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落后就要挨打</a:t>
              </a:r>
              <a:r>
                <a:rPr b="0" lang="zh-CN" sz="1000" spc="-1" strike="noStrike">
                  <a:solidFill>
                    <a:srgbClr val="0000ff"/>
                  </a:solidFill>
                  <a:latin typeface="Arial"/>
                  <a:ea typeface="方正舒体"/>
                </a:rPr>
                <a:t>”</a:t>
              </a:r>
              <a:r>
                <a:rPr b="0" lang="zh-CN" sz="1000" spc="-1" strike="noStrike">
                  <a:solidFill>
                    <a:srgbClr val="0000ff"/>
                  </a:solidFill>
                  <a:latin typeface="方正舒体"/>
                  <a:ea typeface="方正舒体"/>
                </a:rPr>
                <a:t>的教训！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国耻未雪，何由成名？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方正舒体"/>
                </a:rPr>
                <a:t>——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</a:t>
              </a: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李白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祖国如有难，汝应作前。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方正舒体"/>
                </a:rPr>
                <a:t>——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</a:t>
              </a: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陈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精忠报国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           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方正舒体"/>
                </a:rPr>
                <a:t>——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《</a:t>
              </a:r>
              <a:r>
                <a:rPr b="0" lang="zh-CN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宋史岳飞列传</a:t>
              </a:r>
              <a:r>
                <a:rPr b="0" lang="en-US" sz="1000" spc="-1" strike="noStrike">
                  <a:solidFill>
                    <a:srgbClr val="ff0000"/>
                  </a:solidFill>
                  <a:latin typeface="方正舒体"/>
                  <a:ea typeface="方正舒体"/>
                </a:rPr>
                <a:t>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49"/>
          <p:cNvGrpSpPr/>
          <p:nvPr/>
        </p:nvGrpSpPr>
        <p:grpSpPr>
          <a:xfrm>
            <a:off x="117000" y="6205680"/>
            <a:ext cx="843120" cy="651600"/>
            <a:chOff x="117000" y="6205680"/>
            <a:chExt cx="843120" cy="651600"/>
          </a:xfrm>
        </p:grpSpPr>
        <p:sp>
          <p:nvSpPr>
            <p:cNvPr id="62" name="Oval 50"/>
            <p:cNvSpPr/>
            <p:nvPr/>
          </p:nvSpPr>
          <p:spPr>
            <a:xfrm>
              <a:off x="446400" y="6205680"/>
              <a:ext cx="114120" cy="19764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Group 51"/>
            <p:cNvGrpSpPr/>
            <p:nvPr/>
          </p:nvGrpSpPr>
          <p:grpSpPr>
            <a:xfrm>
              <a:off x="341640" y="6431760"/>
              <a:ext cx="342720" cy="425520"/>
              <a:chOff x="341640" y="6431760"/>
              <a:chExt cx="342720" cy="425520"/>
            </a:xfrm>
          </p:grpSpPr>
          <p:grpSp>
            <p:nvGrpSpPr>
              <p:cNvPr id="64" name="Group 52"/>
              <p:cNvGrpSpPr/>
              <p:nvPr/>
            </p:nvGrpSpPr>
            <p:grpSpPr>
              <a:xfrm>
                <a:off x="341640" y="6431760"/>
                <a:ext cx="342720" cy="425520"/>
                <a:chOff x="341640" y="6431760"/>
                <a:chExt cx="342720" cy="425520"/>
              </a:xfrm>
            </p:grpSpPr>
            <p:sp>
              <p:nvSpPr>
                <p:cNvPr id="65" name="Oval 53"/>
                <p:cNvSpPr/>
                <p:nvPr/>
              </p:nvSpPr>
              <p:spPr>
                <a:xfrm>
                  <a:off x="341640" y="6431760"/>
                  <a:ext cx="342720" cy="342360"/>
                </a:xfrm>
                <a:prstGeom prst="ellipse">
                  <a:avLst/>
                </a:prstGeom>
                <a:noFill/>
                <a:ln w="19080">
                  <a:solidFill>
                    <a:srgbClr val="cc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54"/>
                <p:cNvSpPr/>
                <p:nvPr/>
              </p:nvSpPr>
              <p:spPr>
                <a:xfrm>
                  <a:off x="351000" y="6629400"/>
                  <a:ext cx="228600" cy="227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Oval 55"/>
              <p:cNvSpPr/>
              <p:nvPr/>
            </p:nvSpPr>
            <p:spPr>
              <a:xfrm>
                <a:off x="389160" y="6501960"/>
                <a:ext cx="228240" cy="228240"/>
              </a:xfrm>
              <a:prstGeom prst="ellipse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56"/>
              <p:cNvSpPr/>
              <p:nvPr/>
            </p:nvSpPr>
            <p:spPr>
              <a:xfrm>
                <a:off x="446400" y="6576120"/>
                <a:ext cx="114120" cy="114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utoShape 57"/>
              <p:cNvSpPr/>
              <p:nvPr/>
            </p:nvSpPr>
            <p:spPr>
              <a:xfrm rot="12922200">
                <a:off x="474480" y="6478560"/>
                <a:ext cx="114120" cy="19764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Line 58"/>
            <p:cNvSpPr/>
            <p:nvPr/>
          </p:nvSpPr>
          <p:spPr>
            <a:xfrm>
              <a:off x="598680" y="6766560"/>
              <a:ext cx="361440" cy="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9"/>
            <p:cNvSpPr/>
            <p:nvPr/>
          </p:nvSpPr>
          <p:spPr>
            <a:xfrm rot="1800000">
              <a:off x="617400" y="6253200"/>
              <a:ext cx="114120" cy="19764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0"/>
            <p:cNvSpPr/>
            <p:nvPr/>
          </p:nvSpPr>
          <p:spPr>
            <a:xfrm rot="3600000">
              <a:off x="722160" y="6361200"/>
              <a:ext cx="114120" cy="19800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61"/>
            <p:cNvSpPr/>
            <p:nvPr/>
          </p:nvSpPr>
          <p:spPr>
            <a:xfrm rot="5400000">
              <a:off x="747000" y="6530400"/>
              <a:ext cx="114120" cy="19800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62"/>
            <p:cNvSpPr/>
            <p:nvPr/>
          </p:nvSpPr>
          <p:spPr>
            <a:xfrm rot="19800000">
              <a:off x="275040" y="6252840"/>
              <a:ext cx="114120" cy="19764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63"/>
            <p:cNvSpPr/>
            <p:nvPr/>
          </p:nvSpPr>
          <p:spPr>
            <a:xfrm rot="17100000">
              <a:off x="170280" y="6383880"/>
              <a:ext cx="113760" cy="19800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64"/>
            <p:cNvSpPr/>
            <p:nvPr/>
          </p:nvSpPr>
          <p:spPr>
            <a:xfrm rot="15300000">
              <a:off x="173880" y="6534360"/>
              <a:ext cx="113760" cy="198000"/>
            </a:xfrm>
            <a:prstGeom prst="ellipse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65"/>
          <p:cNvSpPr/>
          <p:nvPr/>
        </p:nvSpPr>
        <p:spPr>
          <a:xfrm>
            <a:off x="0" y="4653000"/>
            <a:ext cx="2144880" cy="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66"/>
          <p:cNvGrpSpPr/>
          <p:nvPr/>
        </p:nvGrpSpPr>
        <p:grpSpPr>
          <a:xfrm>
            <a:off x="9640440" y="1512720"/>
            <a:ext cx="271440" cy="319320"/>
            <a:chOff x="9640440" y="1512720"/>
            <a:chExt cx="271440" cy="319320"/>
          </a:xfrm>
        </p:grpSpPr>
        <p:sp>
          <p:nvSpPr>
            <p:cNvPr id="79" name="Oval 67"/>
            <p:cNvSpPr/>
            <p:nvPr/>
          </p:nvSpPr>
          <p:spPr>
            <a:xfrm>
              <a:off x="9750240" y="151272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68"/>
            <p:cNvSpPr/>
            <p:nvPr/>
          </p:nvSpPr>
          <p:spPr>
            <a:xfrm rot="18463800">
              <a:off x="9681840" y="155988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69"/>
            <p:cNvSpPr/>
            <p:nvPr/>
          </p:nvSpPr>
          <p:spPr>
            <a:xfrm rot="18463800">
              <a:off x="9822600" y="168048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70"/>
            <p:cNvSpPr/>
            <p:nvPr/>
          </p:nvSpPr>
          <p:spPr>
            <a:xfrm rot="13685400">
              <a:off x="9676440" y="166536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71"/>
            <p:cNvSpPr/>
            <p:nvPr/>
          </p:nvSpPr>
          <p:spPr>
            <a:xfrm rot="2565000">
              <a:off x="9823320" y="155268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72"/>
            <p:cNvSpPr/>
            <p:nvPr/>
          </p:nvSpPr>
          <p:spPr>
            <a:xfrm>
              <a:off x="9750240" y="169776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73"/>
          <p:cNvGrpSpPr/>
          <p:nvPr/>
        </p:nvGrpSpPr>
        <p:grpSpPr>
          <a:xfrm>
            <a:off x="9640440" y="1512720"/>
            <a:ext cx="271440" cy="319320"/>
            <a:chOff x="9640440" y="1512720"/>
            <a:chExt cx="271440" cy="319320"/>
          </a:xfrm>
        </p:grpSpPr>
        <p:sp>
          <p:nvSpPr>
            <p:cNvPr id="86" name="Oval 74"/>
            <p:cNvSpPr/>
            <p:nvPr/>
          </p:nvSpPr>
          <p:spPr>
            <a:xfrm>
              <a:off x="9750240" y="151272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75"/>
            <p:cNvSpPr/>
            <p:nvPr/>
          </p:nvSpPr>
          <p:spPr>
            <a:xfrm rot="18463800">
              <a:off x="9681840" y="155988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76"/>
            <p:cNvSpPr/>
            <p:nvPr/>
          </p:nvSpPr>
          <p:spPr>
            <a:xfrm rot="18463800">
              <a:off x="9822600" y="168048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77"/>
            <p:cNvSpPr/>
            <p:nvPr/>
          </p:nvSpPr>
          <p:spPr>
            <a:xfrm rot="13685400">
              <a:off x="9676440" y="166536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78"/>
            <p:cNvSpPr/>
            <p:nvPr/>
          </p:nvSpPr>
          <p:spPr>
            <a:xfrm rot="2565000">
              <a:off x="9823320" y="155268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79"/>
            <p:cNvSpPr/>
            <p:nvPr/>
          </p:nvSpPr>
          <p:spPr>
            <a:xfrm>
              <a:off x="9750240" y="1697760"/>
              <a:ext cx="46080" cy="1342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80"/>
          <p:cNvGrpSpPr/>
          <p:nvPr/>
        </p:nvGrpSpPr>
        <p:grpSpPr>
          <a:xfrm>
            <a:off x="2863440" y="6539040"/>
            <a:ext cx="271440" cy="318600"/>
            <a:chOff x="2863440" y="6539040"/>
            <a:chExt cx="271440" cy="318600"/>
          </a:xfrm>
        </p:grpSpPr>
        <p:sp>
          <p:nvSpPr>
            <p:cNvPr id="93" name="Oval 81"/>
            <p:cNvSpPr/>
            <p:nvPr/>
          </p:nvSpPr>
          <p:spPr>
            <a:xfrm>
              <a:off x="2973240" y="653904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2"/>
            <p:cNvSpPr/>
            <p:nvPr/>
          </p:nvSpPr>
          <p:spPr>
            <a:xfrm rot="18463800">
              <a:off x="2904840" y="658620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83"/>
            <p:cNvSpPr/>
            <p:nvPr/>
          </p:nvSpPr>
          <p:spPr>
            <a:xfrm rot="18463800">
              <a:off x="3045600" y="6706440"/>
              <a:ext cx="51480" cy="11988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84"/>
            <p:cNvSpPr/>
            <p:nvPr/>
          </p:nvSpPr>
          <p:spPr>
            <a:xfrm rot="13685400">
              <a:off x="2899440" y="66916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85"/>
            <p:cNvSpPr/>
            <p:nvPr/>
          </p:nvSpPr>
          <p:spPr>
            <a:xfrm rot="2565000">
              <a:off x="3046320" y="657936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86"/>
            <p:cNvSpPr/>
            <p:nvPr/>
          </p:nvSpPr>
          <p:spPr>
            <a:xfrm>
              <a:off x="2973240" y="672372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7"/>
          <p:cNvGrpSpPr/>
          <p:nvPr/>
        </p:nvGrpSpPr>
        <p:grpSpPr>
          <a:xfrm>
            <a:off x="3438000" y="6539040"/>
            <a:ext cx="272160" cy="318600"/>
            <a:chOff x="3438000" y="6539040"/>
            <a:chExt cx="272160" cy="318600"/>
          </a:xfrm>
        </p:grpSpPr>
        <p:sp>
          <p:nvSpPr>
            <p:cNvPr id="100" name="Oval 88"/>
            <p:cNvSpPr/>
            <p:nvPr/>
          </p:nvSpPr>
          <p:spPr>
            <a:xfrm>
              <a:off x="3548160" y="653904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89"/>
            <p:cNvSpPr/>
            <p:nvPr/>
          </p:nvSpPr>
          <p:spPr>
            <a:xfrm rot="18463800">
              <a:off x="3479760" y="658584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90"/>
            <p:cNvSpPr/>
            <p:nvPr/>
          </p:nvSpPr>
          <p:spPr>
            <a:xfrm rot="18463800">
              <a:off x="3620880" y="67060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91"/>
            <p:cNvSpPr/>
            <p:nvPr/>
          </p:nvSpPr>
          <p:spPr>
            <a:xfrm rot="13685400">
              <a:off x="3474000" y="66916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92"/>
            <p:cNvSpPr/>
            <p:nvPr/>
          </p:nvSpPr>
          <p:spPr>
            <a:xfrm rot="2565000">
              <a:off x="3620880" y="657936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93"/>
            <p:cNvSpPr/>
            <p:nvPr/>
          </p:nvSpPr>
          <p:spPr>
            <a:xfrm>
              <a:off x="3548160" y="672372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94"/>
          <p:cNvGrpSpPr/>
          <p:nvPr/>
        </p:nvGrpSpPr>
        <p:grpSpPr>
          <a:xfrm>
            <a:off x="3942720" y="6539040"/>
            <a:ext cx="272160" cy="318600"/>
            <a:chOff x="3942720" y="6539040"/>
            <a:chExt cx="272160" cy="318600"/>
          </a:xfrm>
        </p:grpSpPr>
        <p:sp>
          <p:nvSpPr>
            <p:cNvPr id="107" name="Oval 95"/>
            <p:cNvSpPr/>
            <p:nvPr/>
          </p:nvSpPr>
          <p:spPr>
            <a:xfrm>
              <a:off x="4052880" y="653904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96"/>
            <p:cNvSpPr/>
            <p:nvPr/>
          </p:nvSpPr>
          <p:spPr>
            <a:xfrm rot="18463800">
              <a:off x="3984480" y="658584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97"/>
            <p:cNvSpPr/>
            <p:nvPr/>
          </p:nvSpPr>
          <p:spPr>
            <a:xfrm rot="18463800">
              <a:off x="4125600" y="67060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98"/>
            <p:cNvSpPr/>
            <p:nvPr/>
          </p:nvSpPr>
          <p:spPr>
            <a:xfrm rot="13685400">
              <a:off x="3978720" y="66916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99"/>
            <p:cNvSpPr/>
            <p:nvPr/>
          </p:nvSpPr>
          <p:spPr>
            <a:xfrm rot="2565000">
              <a:off x="4125600" y="657936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00"/>
            <p:cNvSpPr/>
            <p:nvPr/>
          </p:nvSpPr>
          <p:spPr>
            <a:xfrm>
              <a:off x="4052880" y="672372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01"/>
          <p:cNvGrpSpPr/>
          <p:nvPr/>
        </p:nvGrpSpPr>
        <p:grpSpPr>
          <a:xfrm>
            <a:off x="4519080" y="6539040"/>
            <a:ext cx="272160" cy="318600"/>
            <a:chOff x="4519080" y="6539040"/>
            <a:chExt cx="272160" cy="318600"/>
          </a:xfrm>
        </p:grpSpPr>
        <p:sp>
          <p:nvSpPr>
            <p:cNvPr id="114" name="Oval 102"/>
            <p:cNvSpPr/>
            <p:nvPr/>
          </p:nvSpPr>
          <p:spPr>
            <a:xfrm>
              <a:off x="4629240" y="653904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03"/>
            <p:cNvSpPr/>
            <p:nvPr/>
          </p:nvSpPr>
          <p:spPr>
            <a:xfrm rot="18463800">
              <a:off x="4560840" y="658584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04"/>
            <p:cNvSpPr/>
            <p:nvPr/>
          </p:nvSpPr>
          <p:spPr>
            <a:xfrm rot="18463800">
              <a:off x="4701960" y="67060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05"/>
            <p:cNvSpPr/>
            <p:nvPr/>
          </p:nvSpPr>
          <p:spPr>
            <a:xfrm rot="13685400">
              <a:off x="4555080" y="6691680"/>
              <a:ext cx="51480" cy="1202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6"/>
            <p:cNvSpPr/>
            <p:nvPr/>
          </p:nvSpPr>
          <p:spPr>
            <a:xfrm rot="2565000">
              <a:off x="4701960" y="657936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07"/>
            <p:cNvSpPr/>
            <p:nvPr/>
          </p:nvSpPr>
          <p:spPr>
            <a:xfrm>
              <a:off x="4629240" y="6723720"/>
              <a:ext cx="46080" cy="1339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08"/>
          <p:cNvGrpSpPr/>
          <p:nvPr/>
        </p:nvGrpSpPr>
        <p:grpSpPr>
          <a:xfrm>
            <a:off x="4172040" y="2977200"/>
            <a:ext cx="513720" cy="534600"/>
            <a:chOff x="4172040" y="2977200"/>
            <a:chExt cx="513720" cy="534600"/>
          </a:xfrm>
        </p:grpSpPr>
        <p:grpSp>
          <p:nvGrpSpPr>
            <p:cNvPr id="121" name="Group 109"/>
            <p:cNvGrpSpPr/>
            <p:nvPr/>
          </p:nvGrpSpPr>
          <p:grpSpPr>
            <a:xfrm>
              <a:off x="4172040" y="2977200"/>
              <a:ext cx="513720" cy="534600"/>
              <a:chOff x="4172040" y="2977200"/>
              <a:chExt cx="513720" cy="534600"/>
            </a:xfrm>
          </p:grpSpPr>
          <p:sp>
            <p:nvSpPr>
              <p:cNvPr id="122" name="未知"/>
              <p:cNvSpPr/>
              <p:nvPr/>
            </p:nvSpPr>
            <p:spPr>
              <a:xfrm rot="8304000">
                <a:off x="4304880" y="2996640"/>
                <a:ext cx="247680" cy="4950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495000"/>
                  <a:gd name="textAreaBottom" fmla="*/ 495360 h 495000"/>
                </a:gdLst>
                <a:ahLst/>
                <a:rect l="textAreaLeft" t="textAreaTop" r="textAreaRight" b="textAreaBottom"/>
                <a:pathLst>
                  <a:path w="2580" h="6032">
                    <a:moveTo>
                      <a:pt x="1110" y="702"/>
                    </a:moveTo>
                    <a:cubicBezTo>
                      <a:pt x="870" y="1144"/>
                      <a:pt x="0" y="2158"/>
                      <a:pt x="30" y="3042"/>
                    </a:cubicBezTo>
                    <a:cubicBezTo>
                      <a:pt x="60" y="3926"/>
                      <a:pt x="870" y="5980"/>
                      <a:pt x="1290" y="6006"/>
                    </a:cubicBezTo>
                    <a:cubicBezTo>
                      <a:pt x="1710" y="6032"/>
                      <a:pt x="2520" y="4134"/>
                      <a:pt x="2550" y="3198"/>
                    </a:cubicBezTo>
                    <a:cubicBezTo>
                      <a:pt x="2580" y="2262"/>
                      <a:pt x="1740" y="780"/>
                      <a:pt x="1470" y="390"/>
                    </a:cubicBezTo>
                    <a:cubicBezTo>
                      <a:pt x="1200" y="0"/>
                      <a:pt x="1350" y="260"/>
                      <a:pt x="1110" y="702"/>
                    </a:cubicBezTo>
                    <a:close/>
                  </a:path>
                </a:pathLst>
              </a:custGeom>
              <a:blipFill rotWithShape="0">
                <a:blip r:embed="rId12"/>
                <a:srcRect/>
                <a:stretch/>
              </a:blip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 rot="8304000">
                <a:off x="4393080" y="3043440"/>
                <a:ext cx="69120" cy="2433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720" h="2964">
                    <a:moveTo>
                      <a:pt x="720" y="2964"/>
                    </a:moveTo>
                    <a:cubicBezTo>
                      <a:pt x="510" y="2431"/>
                      <a:pt x="300" y="1898"/>
                      <a:pt x="180" y="1404"/>
                    </a:cubicBezTo>
                    <a:cubicBezTo>
                      <a:pt x="60" y="910"/>
                      <a:pt x="30" y="23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 rot="8304000">
                <a:off x="4460760" y="3176640"/>
                <a:ext cx="40320" cy="19188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91880"/>
                  <a:gd name="textAreaBottom" fmla="*/ 192240 h 191880"/>
                </a:gdLst>
                <a:ahLst/>
                <a:rect l="textAreaLeft" t="textAreaTop" r="textAreaRight" b="textAreaBottom"/>
                <a:pathLst>
                  <a:path w="420" h="2340">
                    <a:moveTo>
                      <a:pt x="420" y="2340"/>
                    </a:moveTo>
                    <a:cubicBezTo>
                      <a:pt x="270" y="1833"/>
                      <a:pt x="120" y="1326"/>
                      <a:pt x="60" y="936"/>
                    </a:cubicBezTo>
                    <a:cubicBezTo>
                      <a:pt x="0" y="546"/>
                      <a:pt x="60" y="156"/>
                      <a:pt x="6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 rot="8304000">
                <a:off x="4279320" y="3171600"/>
                <a:ext cx="120960" cy="1278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260" h="1560">
                    <a:moveTo>
                      <a:pt x="0" y="1560"/>
                    </a:moveTo>
                    <a:cubicBezTo>
                      <a:pt x="255" y="1300"/>
                      <a:pt x="510" y="1040"/>
                      <a:pt x="720" y="780"/>
                    </a:cubicBezTo>
                    <a:cubicBezTo>
                      <a:pt x="930" y="520"/>
                      <a:pt x="1095" y="260"/>
                      <a:pt x="1260" y="0"/>
                    </a:cubicBezTo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未知"/>
              <p:cNvSpPr/>
              <p:nvPr/>
            </p:nvSpPr>
            <p:spPr>
              <a:xfrm rot="8304000">
                <a:off x="4392000" y="3262680"/>
                <a:ext cx="69120" cy="1152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720" h="1404">
                    <a:moveTo>
                      <a:pt x="0" y="1404"/>
                    </a:moveTo>
                    <a:cubicBezTo>
                      <a:pt x="210" y="1131"/>
                      <a:pt x="420" y="858"/>
                      <a:pt x="540" y="624"/>
                    </a:cubicBezTo>
                    <a:cubicBezTo>
                      <a:pt x="660" y="390"/>
                      <a:pt x="690" y="195"/>
                      <a:pt x="72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未知"/>
            <p:cNvSpPr/>
            <p:nvPr/>
          </p:nvSpPr>
          <p:spPr>
            <a:xfrm rot="8304000">
              <a:off x="4403160" y="3014640"/>
              <a:ext cx="37440" cy="4482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390" h="5460">
                  <a:moveTo>
                    <a:pt x="180" y="0"/>
                  </a:moveTo>
                  <a:cubicBezTo>
                    <a:pt x="285" y="559"/>
                    <a:pt x="390" y="1118"/>
                    <a:pt x="360" y="2028"/>
                  </a:cubicBezTo>
                  <a:cubicBezTo>
                    <a:pt x="330" y="2938"/>
                    <a:pt x="165" y="4199"/>
                    <a:pt x="0" y="546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24"/>
          <p:cNvGrpSpPr/>
          <p:nvPr/>
        </p:nvGrpSpPr>
        <p:grpSpPr>
          <a:xfrm>
            <a:off x="4819680" y="3121920"/>
            <a:ext cx="514080" cy="534960"/>
            <a:chOff x="4819680" y="3121920"/>
            <a:chExt cx="514080" cy="534960"/>
          </a:xfrm>
        </p:grpSpPr>
        <p:grpSp>
          <p:nvGrpSpPr>
            <p:cNvPr id="129" name="Group 125"/>
            <p:cNvGrpSpPr/>
            <p:nvPr/>
          </p:nvGrpSpPr>
          <p:grpSpPr>
            <a:xfrm>
              <a:off x="4819680" y="3121920"/>
              <a:ext cx="514080" cy="534960"/>
              <a:chOff x="4819680" y="3121920"/>
              <a:chExt cx="514080" cy="534960"/>
            </a:xfrm>
          </p:grpSpPr>
          <p:sp>
            <p:nvSpPr>
              <p:cNvPr id="130" name="未知"/>
              <p:cNvSpPr/>
              <p:nvPr/>
            </p:nvSpPr>
            <p:spPr>
              <a:xfrm rot="8304000">
                <a:off x="4952520" y="3141360"/>
                <a:ext cx="247680" cy="4953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495360"/>
                  <a:gd name="textAreaBottom" fmla="*/ 495720 h 495360"/>
                </a:gdLst>
                <a:ahLst/>
                <a:rect l="textAreaLeft" t="textAreaTop" r="textAreaRight" b="textAreaBottom"/>
                <a:pathLst>
                  <a:path w="2580" h="6032">
                    <a:moveTo>
                      <a:pt x="1110" y="702"/>
                    </a:moveTo>
                    <a:cubicBezTo>
                      <a:pt x="870" y="1144"/>
                      <a:pt x="0" y="2158"/>
                      <a:pt x="30" y="3042"/>
                    </a:cubicBezTo>
                    <a:cubicBezTo>
                      <a:pt x="60" y="3926"/>
                      <a:pt x="870" y="5980"/>
                      <a:pt x="1290" y="6006"/>
                    </a:cubicBezTo>
                    <a:cubicBezTo>
                      <a:pt x="1710" y="6032"/>
                      <a:pt x="2520" y="4134"/>
                      <a:pt x="2550" y="3198"/>
                    </a:cubicBezTo>
                    <a:cubicBezTo>
                      <a:pt x="2580" y="2262"/>
                      <a:pt x="1740" y="780"/>
                      <a:pt x="1470" y="390"/>
                    </a:cubicBezTo>
                    <a:cubicBezTo>
                      <a:pt x="1200" y="0"/>
                      <a:pt x="1350" y="260"/>
                      <a:pt x="1110" y="702"/>
                    </a:cubicBezTo>
                    <a:close/>
                  </a:path>
                </a:pathLst>
              </a:custGeom>
              <a:blipFill rotWithShape="0">
                <a:blip r:embed="rId13"/>
                <a:srcRect/>
                <a:stretch/>
              </a:blip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 rot="8304000">
                <a:off x="5040720" y="3188160"/>
                <a:ext cx="69120" cy="2433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720" h="2964">
                    <a:moveTo>
                      <a:pt x="720" y="2964"/>
                    </a:moveTo>
                    <a:cubicBezTo>
                      <a:pt x="510" y="2431"/>
                      <a:pt x="300" y="1898"/>
                      <a:pt x="180" y="1404"/>
                    </a:cubicBezTo>
                    <a:cubicBezTo>
                      <a:pt x="60" y="910"/>
                      <a:pt x="30" y="23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 rot="8304000">
                <a:off x="5108040" y="3321000"/>
                <a:ext cx="40320" cy="19224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420" h="2340">
                    <a:moveTo>
                      <a:pt x="420" y="2340"/>
                    </a:moveTo>
                    <a:cubicBezTo>
                      <a:pt x="270" y="1833"/>
                      <a:pt x="120" y="1326"/>
                      <a:pt x="60" y="936"/>
                    </a:cubicBezTo>
                    <a:cubicBezTo>
                      <a:pt x="0" y="546"/>
                      <a:pt x="60" y="156"/>
                      <a:pt x="6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rot="8304000">
                <a:off x="4926960" y="3315960"/>
                <a:ext cx="120960" cy="1281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1260" h="1560">
                    <a:moveTo>
                      <a:pt x="0" y="1560"/>
                    </a:moveTo>
                    <a:cubicBezTo>
                      <a:pt x="255" y="1300"/>
                      <a:pt x="510" y="1040"/>
                      <a:pt x="720" y="780"/>
                    </a:cubicBezTo>
                    <a:cubicBezTo>
                      <a:pt x="930" y="520"/>
                      <a:pt x="1095" y="260"/>
                      <a:pt x="1260" y="0"/>
                    </a:cubicBezTo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 rot="8304000">
                <a:off x="5040000" y="3407760"/>
                <a:ext cx="69120" cy="1152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720" h="1404">
                    <a:moveTo>
                      <a:pt x="0" y="1404"/>
                    </a:moveTo>
                    <a:cubicBezTo>
                      <a:pt x="210" y="1131"/>
                      <a:pt x="420" y="858"/>
                      <a:pt x="540" y="624"/>
                    </a:cubicBezTo>
                    <a:cubicBezTo>
                      <a:pt x="660" y="390"/>
                      <a:pt x="690" y="195"/>
                      <a:pt x="720" y="0"/>
                    </a:cubicBezTo>
                  </a:path>
                </a:pathLst>
              </a:custGeom>
              <a:noFill/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未知"/>
            <p:cNvSpPr/>
            <p:nvPr/>
          </p:nvSpPr>
          <p:spPr>
            <a:xfrm rot="8304000">
              <a:off x="5051160" y="3159360"/>
              <a:ext cx="37440" cy="44856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48560"/>
                <a:gd name="textAreaBottom" fmla="*/ 448920 h 448560"/>
              </a:gdLst>
              <a:ahLst/>
              <a:rect l="textAreaLeft" t="textAreaTop" r="textAreaRight" b="textAreaBottom"/>
              <a:pathLst>
                <a:path w="390" h="5460">
                  <a:moveTo>
                    <a:pt x="180" y="0"/>
                  </a:moveTo>
                  <a:cubicBezTo>
                    <a:pt x="285" y="559"/>
                    <a:pt x="390" y="1118"/>
                    <a:pt x="360" y="2028"/>
                  </a:cubicBezTo>
                  <a:cubicBezTo>
                    <a:pt x="330" y="2938"/>
                    <a:pt x="165" y="4199"/>
                    <a:pt x="0" y="546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140" descr="56a4ge贝"/>
          <p:cNvPicPr/>
          <p:nvPr/>
        </p:nvPicPr>
        <p:blipFill>
          <a:blip r:embed="rId14"/>
          <a:stretch/>
        </p:blipFill>
        <p:spPr>
          <a:xfrm>
            <a:off x="1281240" y="5991120"/>
            <a:ext cx="904680" cy="86688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41"/>
          <p:cNvGrpSpPr/>
          <p:nvPr/>
        </p:nvGrpSpPr>
        <p:grpSpPr>
          <a:xfrm>
            <a:off x="-164160" y="6424920"/>
            <a:ext cx="2636640" cy="536040"/>
            <a:chOff x="-164160" y="6424920"/>
            <a:chExt cx="2636640" cy="536040"/>
          </a:xfrm>
        </p:grpSpPr>
        <p:sp>
          <p:nvSpPr>
            <p:cNvPr id="138" name="未知"/>
            <p:cNvSpPr/>
            <p:nvPr/>
          </p:nvSpPr>
          <p:spPr>
            <a:xfrm rot="195000">
              <a:off x="-159840" y="6586200"/>
              <a:ext cx="2628720" cy="214560"/>
            </a:xfrm>
            <a:custGeom>
              <a:avLst/>
              <a:gdLst>
                <a:gd name="textAreaLeft" fmla="*/ 0 w 2628720"/>
                <a:gd name="textAreaRight" fmla="*/ 2629080 w 26287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4140" h="338">
                  <a:moveTo>
                    <a:pt x="0" y="156"/>
                  </a:moveTo>
                  <a:cubicBezTo>
                    <a:pt x="225" y="234"/>
                    <a:pt x="450" y="312"/>
                    <a:pt x="720" y="312"/>
                  </a:cubicBezTo>
                  <a:cubicBezTo>
                    <a:pt x="990" y="312"/>
                    <a:pt x="1380" y="156"/>
                    <a:pt x="1620" y="156"/>
                  </a:cubicBezTo>
                  <a:cubicBezTo>
                    <a:pt x="1860" y="156"/>
                    <a:pt x="1860" y="338"/>
                    <a:pt x="2160" y="312"/>
                  </a:cubicBezTo>
                  <a:cubicBezTo>
                    <a:pt x="2460" y="286"/>
                    <a:pt x="3090" y="0"/>
                    <a:pt x="3420" y="0"/>
                  </a:cubicBezTo>
                  <a:cubicBezTo>
                    <a:pt x="3750" y="0"/>
                    <a:pt x="3945" y="156"/>
                    <a:pt x="4140" y="312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143"/>
            <p:cNvGrpSpPr/>
            <p:nvPr/>
          </p:nvGrpSpPr>
          <p:grpSpPr>
            <a:xfrm>
              <a:off x="-60840" y="6424920"/>
              <a:ext cx="2378880" cy="536040"/>
              <a:chOff x="-60840" y="6424920"/>
              <a:chExt cx="2378880" cy="536040"/>
            </a:xfrm>
          </p:grpSpPr>
          <p:sp>
            <p:nvSpPr>
              <p:cNvPr id="140" name="未知"/>
              <p:cNvSpPr/>
              <p:nvPr/>
            </p:nvSpPr>
            <p:spPr>
              <a:xfrm rot="19414200">
                <a:off x="10440" y="649008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 rot="19484400">
                <a:off x="866160" y="647028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 rot="19394400">
                <a:off x="1937520" y="642888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 flipV="1" rot="2575800">
                <a:off x="296640" y="668592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 flipV="1" rot="2575800">
                <a:off x="1436400" y="667224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 flipV="1" rot="2575800">
                <a:off x="2132640" y="6612480"/>
                <a:ext cx="105120" cy="2757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275760"/>
                  <a:gd name="textAreaBottom" fmla="*/ 275760 h 275760"/>
                </a:gdLst>
                <a:ahLst/>
                <a:rect l="textAreaLeft" t="textAreaTop" r="textAreaRight" b="textAreaBottom"/>
                <a:pathLst>
                  <a:path w="390" h="1092">
                    <a:moveTo>
                      <a:pt x="195" y="0"/>
                    </a:moveTo>
                    <a:cubicBezTo>
                      <a:pt x="75" y="0"/>
                      <a:pt x="0" y="414"/>
                      <a:pt x="0" y="570"/>
                    </a:cubicBezTo>
                    <a:cubicBezTo>
                      <a:pt x="0" y="726"/>
                      <a:pt x="135" y="990"/>
                      <a:pt x="195" y="1041"/>
                    </a:cubicBezTo>
                    <a:cubicBezTo>
                      <a:pt x="255" y="1092"/>
                      <a:pt x="390" y="756"/>
                      <a:pt x="390" y="600"/>
                    </a:cubicBezTo>
                    <a:cubicBezTo>
                      <a:pt x="390" y="444"/>
                      <a:pt x="315" y="0"/>
                      <a:pt x="195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50000">
                    <a:srgbClr val="ccffcc"/>
                  </a:gs>
                  <a:gs pos="100000">
                    <a:srgbClr val="99cc00"/>
                  </a:gs>
                </a:gsLst>
                <a:lin ang="5400000"/>
              </a:grad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6" name="Picture 155" descr="QQ图片20141218164119"/>
          <p:cNvPicPr/>
          <p:nvPr/>
        </p:nvPicPr>
        <p:blipFill>
          <a:blip r:embed="rId15"/>
          <a:stretch/>
        </p:blipFill>
        <p:spPr>
          <a:xfrm>
            <a:off x="0" y="2997360"/>
            <a:ext cx="2144880" cy="14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1:40:11Z</dcterms:created>
  <dc:creator>User</dc:creator>
  <dc:description/>
  <dc:language>en-US</dc:language>
  <cp:lastModifiedBy>Administrator</cp:lastModifiedBy>
  <dcterms:modified xsi:type="dcterms:W3CDTF">2015-08-30T06:27:31Z</dcterms:modified>
  <cp:revision>61</cp:revision>
  <dc:subject/>
  <dc:title>幻灯片 1</dc:title>
</cp:coreProperties>
</file>