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135-7256-40B7-A483-F45EA9C5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2C5-B9FB-43EF-A0A3-E5F4767C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6D3-5B51-47B5-8082-456CA079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94C-2DDF-4C5D-825D-CCC503D0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3B6-A764-417A-A598-785EE85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E9E-54FF-4EB4-96AF-FD5AC23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0EC-4556-49C3-90BE-DCB0E28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9C7-AB4E-4B82-AA34-42EAC24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8BB-7B36-48DA-B8D1-96F58C7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B16-79AD-4EFC-9EE4-4E08AD0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7D9-68F3-440D-9F07-1B63688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DF1-6D6F-40BB-93B2-9D78A87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0FF-7D4B-4FED-B73E-AB21E2D5AD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98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.2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空间几何体的三视图和直观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50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课时     空间几何体的直观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安徽新华学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00720" y="616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高一 • 数学•必修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12600" y="0"/>
            <a:ext cx="9156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探究（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):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空间几何体的直观图的画法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1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对于柱、锥、台等几何体的直观图，可用斜二测画法或椭圆模板画出一个底面，我们能否再用一个坐标确定底面外的点的位置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888080" y="3141720"/>
            <a:ext cx="576000" cy="2736360"/>
            <a:chOff x="4888080" y="3141720"/>
            <a:chExt cx="576000" cy="2736360"/>
          </a:xfrm>
        </p:grpSpPr>
        <p:sp>
          <p:nvSpPr>
            <p:cNvPr id="173" name=""/>
            <p:cNvSpPr/>
            <p:nvPr/>
          </p:nvSpPr>
          <p:spPr>
            <a:xfrm flipV="1">
              <a:off x="5292720" y="3285720"/>
              <a:ext cx="0" cy="2592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88080" y="31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宋体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24360" y="3500280"/>
            <a:ext cx="3672000" cy="2160720"/>
            <a:chOff x="3924360" y="3500280"/>
            <a:chExt cx="3672000" cy="2160720"/>
          </a:xfrm>
        </p:grpSpPr>
        <p:sp>
          <p:nvSpPr>
            <p:cNvPr id="176" name=""/>
            <p:cNvSpPr/>
            <p:nvPr/>
          </p:nvSpPr>
          <p:spPr>
            <a:xfrm>
              <a:off x="3924360" y="5013360"/>
              <a:ext cx="345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500360" y="3860640"/>
              <a:ext cx="215892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20000" y="4941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宋体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9640" y="48848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7640" y="35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宋体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2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怎样画长、宽、高分别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cm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cm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cm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长方体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ABCD-A′B′C′D′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直观图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00000" y="4289400"/>
            <a:ext cx="2322720" cy="866880"/>
            <a:chOff x="900000" y="4289400"/>
            <a:chExt cx="2322720" cy="866880"/>
          </a:xfrm>
        </p:grpSpPr>
        <p:sp>
          <p:nvSpPr>
            <p:cNvPr id="183" name=""/>
            <p:cNvSpPr/>
            <p:nvPr/>
          </p:nvSpPr>
          <p:spPr>
            <a:xfrm flipV="1">
              <a:off x="2641680" y="4289400"/>
              <a:ext cx="581040" cy="86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900000" y="4289400"/>
              <a:ext cx="581040" cy="86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1280" y="5024520"/>
            <a:ext cx="2466720" cy="534960"/>
            <a:chOff x="611280" y="5024520"/>
            <a:chExt cx="2466720" cy="534960"/>
          </a:xfrm>
        </p:grpSpPr>
        <p:sp>
          <p:nvSpPr>
            <p:cNvPr id="186" name=""/>
            <p:cNvSpPr/>
            <p:nvPr/>
          </p:nvSpPr>
          <p:spPr>
            <a:xfrm>
              <a:off x="900000" y="5156280"/>
              <a:ext cx="1741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280" y="5024520"/>
              <a:ext cx="5810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96960" y="5065560"/>
              <a:ext cx="5810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192320" y="3855960"/>
            <a:ext cx="2525760" cy="774720"/>
            <a:chOff x="1192320" y="3855960"/>
            <a:chExt cx="2525760" cy="774720"/>
          </a:xfrm>
        </p:grpSpPr>
        <p:sp>
          <p:nvSpPr>
            <p:cNvPr id="190" name=""/>
            <p:cNvSpPr/>
            <p:nvPr/>
          </p:nvSpPr>
          <p:spPr>
            <a:xfrm>
              <a:off x="1481040" y="4289400"/>
              <a:ext cx="1741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38480" y="3981600"/>
              <a:ext cx="5796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320" y="3855960"/>
              <a:ext cx="5792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976400" y="2349360"/>
            <a:ext cx="612720" cy="3240360"/>
            <a:chOff x="1976400" y="2349360"/>
            <a:chExt cx="612720" cy="3240360"/>
          </a:xfrm>
        </p:grpSpPr>
        <p:sp>
          <p:nvSpPr>
            <p:cNvPr id="194" name=""/>
            <p:cNvSpPr/>
            <p:nvPr/>
          </p:nvSpPr>
          <p:spPr>
            <a:xfrm>
              <a:off x="1976400" y="2557440"/>
              <a:ext cx="0" cy="303228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08080" y="2349360"/>
              <a:ext cx="581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8360" y="2495520"/>
            <a:ext cx="3456000" cy="2660760"/>
            <a:chOff x="468360" y="2495520"/>
            <a:chExt cx="3456000" cy="2660760"/>
          </a:xfrm>
        </p:grpSpPr>
        <p:sp>
          <p:nvSpPr>
            <p:cNvPr id="197" name=""/>
            <p:cNvSpPr/>
            <p:nvPr/>
          </p:nvSpPr>
          <p:spPr>
            <a:xfrm flipV="1">
              <a:off x="900000" y="3639960"/>
              <a:ext cx="0" cy="151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641680" y="3639960"/>
              <a:ext cx="0" cy="151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222720" y="2773080"/>
              <a:ext cx="0" cy="151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481040" y="2773080"/>
              <a:ext cx="0" cy="151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360" y="3257640"/>
              <a:ext cx="723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1200" y="3340080"/>
              <a:ext cx="7668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73400" y="2495520"/>
              <a:ext cx="750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2536920"/>
              <a:ext cx="835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8360" y="3424320"/>
            <a:ext cx="3503520" cy="2381040"/>
            <a:chOff x="468360" y="3424320"/>
            <a:chExt cx="3503520" cy="2381040"/>
          </a:xfrm>
        </p:grpSpPr>
        <p:grpSp>
          <p:nvGrpSpPr>
            <p:cNvPr id="206" name=""/>
            <p:cNvGrpSpPr/>
            <p:nvPr/>
          </p:nvGrpSpPr>
          <p:grpSpPr>
            <a:xfrm>
              <a:off x="468360" y="3424320"/>
              <a:ext cx="3503520" cy="2381040"/>
              <a:chOff x="468360" y="3424320"/>
              <a:chExt cx="3503520" cy="2381040"/>
            </a:xfrm>
          </p:grpSpPr>
          <p:sp>
            <p:nvSpPr>
              <p:cNvPr id="207" name=""/>
              <p:cNvSpPr/>
              <p:nvPr/>
            </p:nvSpPr>
            <p:spPr>
              <a:xfrm>
                <a:off x="3390840" y="4681440"/>
                <a:ext cx="5810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ff33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68360" y="4722840"/>
                <a:ext cx="3189240" cy="1440"/>
              </a:xfrm>
              <a:prstGeom prst="line">
                <a:avLst/>
              </a:prstGeom>
              <a:ln w="19080">
                <a:solidFill>
                  <a:srgbClr val="66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36320" y="3716280"/>
                <a:ext cx="1219320" cy="2089080"/>
              </a:xfrm>
              <a:prstGeom prst="line">
                <a:avLst/>
              </a:prstGeom>
              <a:ln w="19080">
                <a:solidFill>
                  <a:srgbClr val="66ff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06800" y="3424320"/>
                <a:ext cx="58068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ff33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908000" y="4581360"/>
              <a:ext cx="5810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627200" y="3794040"/>
            <a:ext cx="954000" cy="1779840"/>
            <a:chOff x="1627200" y="3794040"/>
            <a:chExt cx="954000" cy="1779840"/>
          </a:xfrm>
        </p:grpSpPr>
        <p:sp>
          <p:nvSpPr>
            <p:cNvPr id="213" name=""/>
            <p:cNvSpPr/>
            <p:nvPr/>
          </p:nvSpPr>
          <p:spPr>
            <a:xfrm>
              <a:off x="1627200" y="5100480"/>
              <a:ext cx="5796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01960" y="3794040"/>
              <a:ext cx="579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72000" y="2708280"/>
            <a:ext cx="3932280" cy="2468520"/>
            <a:chOff x="4572000" y="2708280"/>
            <a:chExt cx="3932280" cy="2468520"/>
          </a:xfrm>
        </p:grpSpPr>
        <p:sp>
          <p:nvSpPr>
            <p:cNvPr id="216" name=""/>
            <p:cNvSpPr/>
            <p:nvPr/>
          </p:nvSpPr>
          <p:spPr>
            <a:xfrm>
              <a:off x="4572000" y="3392640"/>
              <a:ext cx="900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77000" y="3213360"/>
              <a:ext cx="7700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56480" y="2708280"/>
              <a:ext cx="8478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560" y="2708280"/>
              <a:ext cx="7938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2040" y="4699080"/>
              <a:ext cx="6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5000" y="4699080"/>
              <a:ext cx="685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29400" y="4143600"/>
              <a:ext cx="20541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45040" y="4781520"/>
              <a:ext cx="2054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099200" y="4143600"/>
              <a:ext cx="684360" cy="63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045040" y="4143600"/>
              <a:ext cx="684360" cy="6379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045040" y="3665520"/>
              <a:ext cx="0" cy="11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99200" y="3665520"/>
              <a:ext cx="0" cy="11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783560" y="3027600"/>
              <a:ext cx="0" cy="11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729400" y="3027600"/>
              <a:ext cx="0" cy="111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45040" y="3665520"/>
              <a:ext cx="2054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29400" y="3027600"/>
              <a:ext cx="2054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99200" y="3027600"/>
              <a:ext cx="684360" cy="63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045040" y="3027600"/>
              <a:ext cx="684360" cy="63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13720" y="3916440"/>
              <a:ext cx="6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86320" y="3824280"/>
              <a:ext cx="6858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3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怎样画底面是正三角形，且顶点在底面上的投影是底面中心的三棱锥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39640" y="2072880"/>
            <a:ext cx="2232000" cy="2089080"/>
            <a:chOff x="539640" y="2072880"/>
            <a:chExt cx="2232000" cy="2089080"/>
          </a:xfrm>
        </p:grpSpPr>
        <p:sp>
          <p:nvSpPr>
            <p:cNvPr id="238" name=""/>
            <p:cNvSpPr/>
            <p:nvPr/>
          </p:nvSpPr>
          <p:spPr>
            <a:xfrm>
              <a:off x="539640" y="3466080"/>
              <a:ext cx="223200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1520" y="3466080"/>
              <a:ext cx="1487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655280" y="2072880"/>
              <a:ext cx="0" cy="208908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911520" y="2595600"/>
              <a:ext cx="743760" cy="87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55280" y="2595600"/>
              <a:ext cx="743760" cy="87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440" y="3382200"/>
              <a:ext cx="557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2320" y="3399120"/>
              <a:ext cx="557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3400" y="2247120"/>
              <a:ext cx="557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292720" y="3341520"/>
            <a:ext cx="503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88000" y="1844640"/>
            <a:ext cx="485640" cy="2521080"/>
            <a:chOff x="4788000" y="1844640"/>
            <a:chExt cx="485640" cy="2521080"/>
          </a:xfrm>
        </p:grpSpPr>
        <p:sp>
          <p:nvSpPr>
            <p:cNvPr id="248" name=""/>
            <p:cNvSpPr/>
            <p:nvPr/>
          </p:nvSpPr>
          <p:spPr>
            <a:xfrm>
              <a:off x="4788000" y="1844640"/>
              <a:ext cx="485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67440" y="1946160"/>
              <a:ext cx="0" cy="24195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016520" y="2809800"/>
            <a:ext cx="2725560" cy="1319400"/>
            <a:chOff x="4016520" y="2809800"/>
            <a:chExt cx="2725560" cy="1319400"/>
          </a:xfrm>
        </p:grpSpPr>
        <p:sp>
          <p:nvSpPr>
            <p:cNvPr id="251" name=""/>
            <p:cNvSpPr/>
            <p:nvPr/>
          </p:nvSpPr>
          <p:spPr>
            <a:xfrm>
              <a:off x="5911920" y="3608280"/>
              <a:ext cx="8301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88040" y="2809800"/>
              <a:ext cx="83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16520" y="3611520"/>
              <a:ext cx="45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49800" y="3675240"/>
              <a:ext cx="183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249800" y="3156120"/>
              <a:ext cx="1454040" cy="51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03840" y="3156120"/>
              <a:ext cx="415800" cy="51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57880" y="1773360"/>
            <a:ext cx="652320" cy="1725480"/>
            <a:chOff x="5357880" y="1773360"/>
            <a:chExt cx="652320" cy="1725480"/>
          </a:xfrm>
        </p:grpSpPr>
        <p:sp>
          <p:nvSpPr>
            <p:cNvPr id="258" name=""/>
            <p:cNvSpPr/>
            <p:nvPr/>
          </p:nvSpPr>
          <p:spPr>
            <a:xfrm>
              <a:off x="5435640" y="1773360"/>
              <a:ext cx="574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57880" y="1979640"/>
              <a:ext cx="17280" cy="1519200"/>
            </a:xfrm>
            <a:custGeom>
              <a:avLst/>
              <a:gdLst/>
              <a:ahLst/>
              <a:rect l="l" t="t" r="r" b="b"/>
              <a:pathLst>
                <a:path w="15" h="1371">
                  <a:moveTo>
                    <a:pt x="0" y="1371"/>
                  </a:moveTo>
                  <a:lnTo>
                    <a:pt x="15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435480" y="2565360"/>
            <a:ext cx="4032000" cy="1757520"/>
            <a:chOff x="3435480" y="2565360"/>
            <a:chExt cx="4032000" cy="1757520"/>
          </a:xfrm>
        </p:grpSpPr>
        <p:sp>
          <p:nvSpPr>
            <p:cNvPr id="261" name=""/>
            <p:cNvSpPr/>
            <p:nvPr/>
          </p:nvSpPr>
          <p:spPr>
            <a:xfrm>
              <a:off x="6100560" y="2565360"/>
              <a:ext cx="5749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6320" y="3559320"/>
              <a:ext cx="5511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35480" y="3675240"/>
              <a:ext cx="353052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490640" y="2766960"/>
              <a:ext cx="1662120" cy="155592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7320" y="3608280"/>
              <a:ext cx="8301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356000" y="4456080"/>
            <a:ext cx="3024000" cy="2401200"/>
            <a:chOff x="4356000" y="4456080"/>
            <a:chExt cx="3024000" cy="2401200"/>
          </a:xfrm>
        </p:grpSpPr>
        <p:sp>
          <p:nvSpPr>
            <p:cNvPr id="267" name=""/>
            <p:cNvSpPr/>
            <p:nvPr/>
          </p:nvSpPr>
          <p:spPr>
            <a:xfrm>
              <a:off x="6554520" y="6369840"/>
              <a:ext cx="825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8520" y="5550840"/>
              <a:ext cx="760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000" y="6337800"/>
              <a:ext cx="8251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8560" y="4456080"/>
              <a:ext cx="8254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69640" y="6500160"/>
              <a:ext cx="1857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769640" y="6012360"/>
              <a:ext cx="1443600" cy="4874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13240" y="6012360"/>
              <a:ext cx="413640" cy="4874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69640" y="4908240"/>
              <a:ext cx="1134360" cy="1591920"/>
            </a:xfrm>
            <a:custGeom>
              <a:avLst/>
              <a:gdLst/>
              <a:ahLst/>
              <a:rect l="l" t="t" r="r" b="b"/>
              <a:pathLst>
                <a:path w="990" h="1527">
                  <a:moveTo>
                    <a:pt x="990" y="0"/>
                  </a:moveTo>
                  <a:lnTo>
                    <a:pt x="0" y="1527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7440" y="4955760"/>
              <a:ext cx="325440" cy="1056240"/>
            </a:xfrm>
            <a:custGeom>
              <a:avLst/>
              <a:gdLst/>
              <a:ahLst/>
              <a:rect l="l" t="t" r="r" b="b"/>
              <a:pathLst>
                <a:path w="285" h="1014">
                  <a:moveTo>
                    <a:pt x="0" y="0"/>
                  </a:moveTo>
                  <a:lnTo>
                    <a:pt x="285" y="1014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7440" y="4908240"/>
              <a:ext cx="739440" cy="1591920"/>
            </a:xfrm>
            <a:custGeom>
              <a:avLst/>
              <a:gdLst/>
              <a:ahLst/>
              <a:rect l="l" t="t" r="r" b="b"/>
              <a:pathLst>
                <a:path w="645" h="1527">
                  <a:moveTo>
                    <a:pt x="645" y="152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4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画棱柱、棱锥的直观图大致可分几个步骤进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9040" y="1681200"/>
            <a:ext cx="790200" cy="703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画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65440" y="1681200"/>
            <a:ext cx="2065680" cy="703440"/>
            <a:chOff x="1765440" y="1681200"/>
            <a:chExt cx="2065680" cy="703440"/>
          </a:xfrm>
        </p:grpSpPr>
        <p:sp>
          <p:nvSpPr>
            <p:cNvPr id="280" name=""/>
            <p:cNvSpPr/>
            <p:nvPr/>
          </p:nvSpPr>
          <p:spPr>
            <a:xfrm>
              <a:off x="1765440" y="1681200"/>
              <a:ext cx="86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→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6000" y="1681200"/>
              <a:ext cx="1095120" cy="7034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画底面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36680" y="1681200"/>
            <a:ext cx="1730880" cy="703440"/>
            <a:chOff x="6736680" y="1681200"/>
            <a:chExt cx="1730880" cy="703440"/>
          </a:xfrm>
        </p:grpSpPr>
        <p:sp>
          <p:nvSpPr>
            <p:cNvPr id="283" name=""/>
            <p:cNvSpPr/>
            <p:nvPr/>
          </p:nvSpPr>
          <p:spPr>
            <a:xfrm>
              <a:off x="7677360" y="1681200"/>
              <a:ext cx="790200" cy="703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成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36680" y="1681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→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214160" y="1681200"/>
            <a:ext cx="2142720" cy="703440"/>
            <a:chOff x="4214160" y="1681200"/>
            <a:chExt cx="2142720" cy="703440"/>
          </a:xfrm>
        </p:grpSpPr>
        <p:sp>
          <p:nvSpPr>
            <p:cNvPr id="286" name=""/>
            <p:cNvSpPr/>
            <p:nvPr/>
          </p:nvSpPr>
          <p:spPr>
            <a:xfrm>
              <a:off x="5261760" y="1681200"/>
              <a:ext cx="1095120" cy="703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画侧棱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160" y="1681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→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0" y="3284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5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已知一个几何体的三视图如下，这个几何体的结构特征如何？试用斜二测画法画出它的直观图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539640" y="549360"/>
            <a:ext cx="3384720" cy="3743280"/>
            <a:chOff x="539640" y="549360"/>
            <a:chExt cx="3384720" cy="3743280"/>
          </a:xfrm>
        </p:grpSpPr>
        <p:sp>
          <p:nvSpPr>
            <p:cNvPr id="290" name=""/>
            <p:cNvSpPr/>
            <p:nvPr/>
          </p:nvSpPr>
          <p:spPr>
            <a:xfrm>
              <a:off x="2443320" y="1979640"/>
              <a:ext cx="1126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侧视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84240" y="3683160"/>
              <a:ext cx="112860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俯视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9960" y="1968480"/>
              <a:ext cx="11286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正视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640" y="549360"/>
              <a:ext cx="3384720" cy="37432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5840" y="2421000"/>
              <a:ext cx="1128960" cy="1231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915480" y="649440"/>
              <a:ext cx="1129320" cy="1355040"/>
              <a:chOff x="915480" y="649440"/>
              <a:chExt cx="1129320" cy="1355040"/>
            </a:xfrm>
          </p:grpSpPr>
          <p:sp>
            <p:nvSpPr>
              <p:cNvPr id="296" name=""/>
              <p:cNvSpPr/>
              <p:nvPr/>
            </p:nvSpPr>
            <p:spPr>
              <a:xfrm>
                <a:off x="915840" y="1272960"/>
                <a:ext cx="1128960" cy="7315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915480" y="649440"/>
                <a:ext cx="564120" cy="62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79960" y="649440"/>
                <a:ext cx="564480" cy="62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404800" y="649440"/>
              <a:ext cx="1127520" cy="1355040"/>
              <a:chOff x="2404800" y="649440"/>
              <a:chExt cx="1127520" cy="1355040"/>
            </a:xfrm>
          </p:grpSpPr>
          <p:sp>
            <p:nvSpPr>
              <p:cNvPr id="300" name=""/>
              <p:cNvSpPr/>
              <p:nvPr/>
            </p:nvSpPr>
            <p:spPr>
              <a:xfrm>
                <a:off x="2405160" y="1272960"/>
                <a:ext cx="1127160" cy="7315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404800" y="649440"/>
                <a:ext cx="563400" cy="62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68560" y="649440"/>
                <a:ext cx="563760" cy="62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463760" y="2997360"/>
              <a:ext cx="6012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156360" y="476280"/>
            <a:ext cx="658800" cy="3816360"/>
            <a:chOff x="6156360" y="476280"/>
            <a:chExt cx="658800" cy="3816360"/>
          </a:xfrm>
        </p:grpSpPr>
        <p:sp>
          <p:nvSpPr>
            <p:cNvPr id="305" name=""/>
            <p:cNvSpPr/>
            <p:nvPr/>
          </p:nvSpPr>
          <p:spPr>
            <a:xfrm>
              <a:off x="6156360" y="476280"/>
              <a:ext cx="6588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6516360" y="620640"/>
              <a:ext cx="20520" cy="367200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35640" y="3400560"/>
            <a:ext cx="2381040" cy="698400"/>
            <a:chOff x="5435640" y="3400560"/>
            <a:chExt cx="2381040" cy="698400"/>
          </a:xfrm>
        </p:grpSpPr>
        <p:sp>
          <p:nvSpPr>
            <p:cNvPr id="308" name=""/>
            <p:cNvSpPr/>
            <p:nvPr/>
          </p:nvSpPr>
          <p:spPr>
            <a:xfrm>
              <a:off x="5435640" y="3400560"/>
              <a:ext cx="66024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56440" y="3421080"/>
              <a:ext cx="66024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46680" y="3508560"/>
              <a:ext cx="153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516720" y="2300400"/>
            <a:ext cx="719280" cy="1179360"/>
            <a:chOff x="6516720" y="2300400"/>
            <a:chExt cx="719280" cy="1179360"/>
          </a:xfrm>
        </p:grpSpPr>
        <p:sp>
          <p:nvSpPr>
            <p:cNvPr id="312" name=""/>
            <p:cNvSpPr/>
            <p:nvPr/>
          </p:nvSpPr>
          <p:spPr>
            <a:xfrm>
              <a:off x="6534000" y="2300400"/>
              <a:ext cx="7020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o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16720" y="2349360"/>
              <a:ext cx="0" cy="1130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348160" y="1871640"/>
            <a:ext cx="2691000" cy="709560"/>
            <a:chOff x="5348160" y="1871640"/>
            <a:chExt cx="2691000" cy="709560"/>
          </a:xfrm>
        </p:grpSpPr>
        <p:sp>
          <p:nvSpPr>
            <p:cNvPr id="315" name=""/>
            <p:cNvSpPr/>
            <p:nvPr/>
          </p:nvSpPr>
          <p:spPr>
            <a:xfrm>
              <a:off x="5348160" y="1901880"/>
              <a:ext cx="8780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59680" y="1871640"/>
              <a:ext cx="8794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9920" y="2367000"/>
              <a:ext cx="153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724360" y="2346480"/>
            <a:ext cx="1582920" cy="1131840"/>
            <a:chOff x="5724360" y="2346480"/>
            <a:chExt cx="1582920" cy="1131840"/>
          </a:xfrm>
        </p:grpSpPr>
        <p:sp>
          <p:nvSpPr>
            <p:cNvPr id="319" name=""/>
            <p:cNvSpPr/>
            <p:nvPr/>
          </p:nvSpPr>
          <p:spPr>
            <a:xfrm>
              <a:off x="5724360" y="2349360"/>
              <a:ext cx="0" cy="112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7280" y="2346480"/>
              <a:ext cx="0" cy="11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69000" y="3024360"/>
            <a:ext cx="1538280" cy="903240"/>
            <a:chOff x="5769000" y="3024360"/>
            <a:chExt cx="1538280" cy="903240"/>
          </a:xfrm>
        </p:grpSpPr>
        <p:sp>
          <p:nvSpPr>
            <p:cNvPr id="322" name=""/>
            <p:cNvSpPr/>
            <p:nvPr/>
          </p:nvSpPr>
          <p:spPr>
            <a:xfrm>
              <a:off x="5769000" y="3024360"/>
              <a:ext cx="1538280" cy="9032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9000" y="3475800"/>
              <a:ext cx="1538280" cy="439920"/>
            </a:xfrm>
            <a:custGeom>
              <a:avLst/>
              <a:gdLst/>
              <a:ahLst/>
              <a:rect l="l" t="t" r="r" b="b"/>
              <a:pathLst>
                <a:path w="1260" h="304">
                  <a:moveTo>
                    <a:pt x="0" y="0"/>
                  </a:moveTo>
                  <a:cubicBezTo>
                    <a:pt x="13" y="22"/>
                    <a:pt x="38" y="90"/>
                    <a:pt x="75" y="129"/>
                  </a:cubicBezTo>
                  <a:cubicBezTo>
                    <a:pt x="112" y="168"/>
                    <a:pt x="155" y="206"/>
                    <a:pt x="225" y="234"/>
                  </a:cubicBezTo>
                  <a:cubicBezTo>
                    <a:pt x="295" y="262"/>
                    <a:pt x="403" y="284"/>
                    <a:pt x="495" y="294"/>
                  </a:cubicBezTo>
                  <a:cubicBezTo>
                    <a:pt x="587" y="304"/>
                    <a:pt x="695" y="302"/>
                    <a:pt x="780" y="294"/>
                  </a:cubicBezTo>
                  <a:cubicBezTo>
                    <a:pt x="865" y="286"/>
                    <a:pt x="938" y="272"/>
                    <a:pt x="1005" y="249"/>
                  </a:cubicBezTo>
                  <a:cubicBezTo>
                    <a:pt x="1072" y="226"/>
                    <a:pt x="1143" y="200"/>
                    <a:pt x="1185" y="159"/>
                  </a:cubicBezTo>
                  <a:cubicBezTo>
                    <a:pt x="1227" y="118"/>
                    <a:pt x="1245" y="33"/>
                    <a:pt x="126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69000" y="1871640"/>
            <a:ext cx="1538280" cy="905040"/>
            <a:chOff x="5769000" y="1871640"/>
            <a:chExt cx="1538280" cy="905040"/>
          </a:xfrm>
        </p:grpSpPr>
        <p:sp>
          <p:nvSpPr>
            <p:cNvPr id="325" name=""/>
            <p:cNvSpPr/>
            <p:nvPr/>
          </p:nvSpPr>
          <p:spPr>
            <a:xfrm>
              <a:off x="5769000" y="1871640"/>
              <a:ext cx="1538280" cy="905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9000" y="2324160"/>
              <a:ext cx="1538280" cy="441000"/>
            </a:xfrm>
            <a:custGeom>
              <a:avLst/>
              <a:gdLst/>
              <a:ahLst/>
              <a:rect l="l" t="t" r="r" b="b"/>
              <a:pathLst>
                <a:path w="1260" h="304">
                  <a:moveTo>
                    <a:pt x="0" y="0"/>
                  </a:moveTo>
                  <a:cubicBezTo>
                    <a:pt x="13" y="22"/>
                    <a:pt x="38" y="90"/>
                    <a:pt x="75" y="129"/>
                  </a:cubicBezTo>
                  <a:cubicBezTo>
                    <a:pt x="112" y="168"/>
                    <a:pt x="155" y="206"/>
                    <a:pt x="225" y="234"/>
                  </a:cubicBezTo>
                  <a:cubicBezTo>
                    <a:pt x="295" y="262"/>
                    <a:pt x="403" y="284"/>
                    <a:pt x="495" y="294"/>
                  </a:cubicBezTo>
                  <a:cubicBezTo>
                    <a:pt x="587" y="304"/>
                    <a:pt x="695" y="302"/>
                    <a:pt x="780" y="294"/>
                  </a:cubicBezTo>
                  <a:cubicBezTo>
                    <a:pt x="865" y="286"/>
                    <a:pt x="938" y="272"/>
                    <a:pt x="1005" y="249"/>
                  </a:cubicBezTo>
                  <a:cubicBezTo>
                    <a:pt x="1072" y="226"/>
                    <a:pt x="1143" y="200"/>
                    <a:pt x="1185" y="159"/>
                  </a:cubicBezTo>
                  <a:cubicBezTo>
                    <a:pt x="1227" y="118"/>
                    <a:pt x="1245" y="33"/>
                    <a:pt x="126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749920" y="1203480"/>
            <a:ext cx="1611360" cy="1108080"/>
            <a:chOff x="5749920" y="1203480"/>
            <a:chExt cx="1611360" cy="1108080"/>
          </a:xfrm>
        </p:grpSpPr>
        <p:sp>
          <p:nvSpPr>
            <p:cNvPr id="328" name=""/>
            <p:cNvSpPr/>
            <p:nvPr/>
          </p:nvSpPr>
          <p:spPr>
            <a:xfrm>
              <a:off x="6500880" y="1203480"/>
              <a:ext cx="69840" cy="82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749920" y="1238400"/>
              <a:ext cx="1611360" cy="1073160"/>
              <a:chOff x="5749920" y="1238400"/>
              <a:chExt cx="1611360" cy="1073160"/>
            </a:xfrm>
          </p:grpSpPr>
          <p:sp>
            <p:nvSpPr>
              <p:cNvPr id="330" name=""/>
              <p:cNvSpPr/>
              <p:nvPr/>
            </p:nvSpPr>
            <p:spPr>
              <a:xfrm>
                <a:off x="5749920" y="1241280"/>
                <a:ext cx="787320" cy="1047960"/>
              </a:xfrm>
              <a:custGeom>
                <a:avLst/>
                <a:gdLst/>
                <a:ahLst/>
                <a:rect l="l" t="t" r="r" b="b"/>
                <a:pathLst>
                  <a:path w="645" h="723">
                    <a:moveTo>
                      <a:pt x="645" y="0"/>
                    </a:moveTo>
                    <a:lnTo>
                      <a:pt x="0" y="723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37240" y="1238400"/>
                <a:ext cx="824040" cy="1073160"/>
              </a:xfrm>
              <a:custGeom>
                <a:avLst/>
                <a:gdLst/>
                <a:ahLst/>
                <a:rect l="l" t="t" r="r" b="b"/>
                <a:pathLst>
                  <a:path w="675" h="741">
                    <a:moveTo>
                      <a:pt x="0" y="0"/>
                    </a:moveTo>
                    <a:lnTo>
                      <a:pt x="675" y="741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5219640" y="2565360"/>
            <a:ext cx="3168720" cy="1584360"/>
            <a:chOff x="5219640" y="2565360"/>
            <a:chExt cx="3168720" cy="1584360"/>
          </a:xfrm>
        </p:grpSpPr>
        <p:sp>
          <p:nvSpPr>
            <p:cNvPr id="333" name=""/>
            <p:cNvSpPr/>
            <p:nvPr/>
          </p:nvSpPr>
          <p:spPr>
            <a:xfrm>
              <a:off x="5219640" y="3500280"/>
              <a:ext cx="3097440" cy="32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16720" y="342900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宋体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56720" y="3500280"/>
              <a:ext cx="431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651640" y="2708280"/>
              <a:ext cx="1944720" cy="14414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6536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219640" y="1268280"/>
            <a:ext cx="3473640" cy="1873080"/>
            <a:chOff x="5219640" y="1268280"/>
            <a:chExt cx="3473640" cy="1873080"/>
          </a:xfrm>
        </p:grpSpPr>
        <p:sp>
          <p:nvSpPr>
            <p:cNvPr id="339" name=""/>
            <p:cNvSpPr/>
            <p:nvPr/>
          </p:nvSpPr>
          <p:spPr>
            <a:xfrm flipV="1">
              <a:off x="5219640" y="2349000"/>
              <a:ext cx="3168720" cy="176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6720" y="2349360"/>
              <a:ext cx="7365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x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580000" y="1628280"/>
              <a:ext cx="1871640" cy="151308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93080" y="1268280"/>
              <a:ext cx="7365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y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理论迁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158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7650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例  如图，一个平面图形的水平放置的斜二测直观图是一个等腰梯形，它的底角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5°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两腰和上底边长均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求这个平面图形的面积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5440" y="3848040"/>
            <a:ext cx="3477960" cy="2116080"/>
            <a:chOff x="595440" y="3848040"/>
            <a:chExt cx="3477960" cy="2116080"/>
          </a:xfrm>
        </p:grpSpPr>
        <p:sp>
          <p:nvSpPr>
            <p:cNvPr id="347" name=""/>
            <p:cNvSpPr/>
            <p:nvPr/>
          </p:nvSpPr>
          <p:spPr>
            <a:xfrm flipV="1">
              <a:off x="595440" y="3848040"/>
              <a:ext cx="1830240" cy="211608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5440" y="5433840"/>
              <a:ext cx="347796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5800" y="5381640"/>
              <a:ext cx="5493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6520" y="5381640"/>
              <a:ext cx="5875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38240" y="437688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8600" y="4376880"/>
              <a:ext cx="900000" cy="1038240"/>
            </a:xfrm>
            <a:custGeom>
              <a:avLst/>
              <a:gdLst/>
              <a:ahLst/>
              <a:rect l="l" t="t" r="r" b="b"/>
              <a:pathLst>
                <a:path w="885" h="612">
                  <a:moveTo>
                    <a:pt x="0" y="0"/>
                  </a:moveTo>
                  <a:lnTo>
                    <a:pt x="885" y="612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38240" y="5415120"/>
              <a:ext cx="2746440" cy="25200"/>
            </a:xfrm>
            <a:custGeom>
              <a:avLst/>
              <a:gdLst/>
              <a:ahLst/>
              <a:rect l="l" t="t" r="r" b="b"/>
              <a:pathLst>
                <a:path w="2700" h="15">
                  <a:moveTo>
                    <a:pt x="2700" y="0"/>
                  </a:move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038240" y="4402080"/>
              <a:ext cx="914400" cy="1057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84520" y="3941640"/>
              <a:ext cx="606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03440" y="401328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14800" y="3436920"/>
            <a:ext cx="3376800" cy="2835360"/>
            <a:chOff x="5014800" y="3436920"/>
            <a:chExt cx="3376800" cy="2835360"/>
          </a:xfrm>
        </p:grpSpPr>
        <p:sp>
          <p:nvSpPr>
            <p:cNvPr id="358" name=""/>
            <p:cNvSpPr/>
            <p:nvPr/>
          </p:nvSpPr>
          <p:spPr>
            <a:xfrm>
              <a:off x="5416560" y="6033960"/>
              <a:ext cx="2595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416560" y="3849480"/>
              <a:ext cx="0" cy="21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6560" y="3849840"/>
              <a:ext cx="863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0200" y="3849840"/>
              <a:ext cx="1731960" cy="21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14800" y="5742000"/>
              <a:ext cx="549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40880" y="5742000"/>
              <a:ext cx="45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11800" y="3436920"/>
              <a:ext cx="592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32520" y="3508200"/>
              <a:ext cx="5760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9800" y="5742000"/>
              <a:ext cx="288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8520" y="5742000"/>
              <a:ext cx="0" cy="287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5506920" y="4876920"/>
          <a:ext cx="165600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6920" y="4876920"/>
                    <a:ext cx="16560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79280" y="1197000"/>
            <a:ext cx="86756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作业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5400" spc="-1" strike="noStrike" baseline="-25000">
                <a:solidFill>
                  <a:srgbClr val="ffffff"/>
                </a:solidFill>
                <a:latin typeface="宋体"/>
              </a:rPr>
              <a:t>19</a:t>
            </a: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练习：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，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（做书上）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5400" spc="-1" strike="noStrike" baseline="-25000">
                <a:solidFill>
                  <a:srgbClr val="ffffff"/>
                </a:solidFill>
                <a:latin typeface="宋体"/>
              </a:rPr>
              <a:t>21</a:t>
            </a: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习题</a:t>
            </a: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1.2A</a:t>
            </a: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组：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4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，</a:t>
            </a:r>
            <a:r>
              <a:rPr b="1" lang="zh-CN" sz="5400" spc="-1" strike="noStrike">
                <a:solidFill>
                  <a:srgbClr val="66ff33"/>
                </a:solidFill>
                <a:latin typeface="宋体"/>
              </a:rPr>
              <a:t>5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268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问题提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把一本书正面放置，其视觉效果是一个矩形；把一本书水平放置，其视觉效果还是一个矩形吗？这涉及水平放置的平面图形的画法问题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对于柱体、锥体、台体及简单的组合体，在平面上应怎样作图才具有强烈的立体感？这涉及空间几何体的直观图的画法问题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341360"/>
            <a:ext cx="8893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空间几何体的直观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2600" y="0"/>
            <a:ext cx="9156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探究（一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水平放置的平面图形的画法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1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把一个矩形水平放置，从适当的角度观察，给人以平行四边形的感觉，如图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比较两图，其中哪些线段之间的位置关系、数量关系发生了变化？哪些没有发生变化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4437000"/>
            <a:ext cx="1890720" cy="12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24360" y="4941720"/>
            <a:ext cx="3973320" cy="648000"/>
            <a:chOff x="3924360" y="4941720"/>
            <a:chExt cx="39733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5148360" y="4941720"/>
              <a:ext cx="2749320" cy="648000"/>
              <a:chOff x="5148360" y="4941720"/>
              <a:chExt cx="2749320" cy="648000"/>
            </a:xfrm>
          </p:grpSpPr>
          <p:sp>
            <p:nvSpPr>
              <p:cNvPr id="54" name=""/>
              <p:cNvSpPr/>
              <p:nvPr/>
            </p:nvSpPr>
            <p:spPr>
              <a:xfrm>
                <a:off x="5148360" y="5589720"/>
                <a:ext cx="1890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7320" y="4941720"/>
                <a:ext cx="1890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148360" y="4941720"/>
                <a:ext cx="858960" cy="64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7038720" y="4941720"/>
                <a:ext cx="858960" cy="64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3924360" y="5013360"/>
              <a:ext cx="687240" cy="163440"/>
            </a:xfrm>
            <a:prstGeom prst="rightArrow">
              <a:avLst>
                <a:gd name="adj1" fmla="val 50000"/>
                <a:gd name="adj2" fmla="val 105121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2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把一个直角梯形水平放置得其直观图如下，比较两图，其中哪些线段之间的位置关系、数量关系发生了变化？哪些没有发生变化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03280" y="3284640"/>
            <a:ext cx="6089760" cy="1728720"/>
            <a:chOff x="1403280" y="3284640"/>
            <a:chExt cx="6089760" cy="1728720"/>
          </a:xfrm>
        </p:grpSpPr>
        <p:grpSp>
          <p:nvGrpSpPr>
            <p:cNvPr id="61" name=""/>
            <p:cNvGrpSpPr/>
            <p:nvPr/>
          </p:nvGrpSpPr>
          <p:grpSpPr>
            <a:xfrm>
              <a:off x="1403280" y="3284640"/>
              <a:ext cx="2057400" cy="1728720"/>
              <a:chOff x="1403280" y="3284640"/>
              <a:chExt cx="2057400" cy="1728720"/>
            </a:xfrm>
          </p:grpSpPr>
          <p:sp>
            <p:nvSpPr>
              <p:cNvPr id="62" name=""/>
              <p:cNvSpPr/>
              <p:nvPr/>
            </p:nvSpPr>
            <p:spPr>
              <a:xfrm>
                <a:off x="1403280" y="3284640"/>
                <a:ext cx="1143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03280" y="3284640"/>
                <a:ext cx="0" cy="172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03280" y="5013360"/>
                <a:ext cx="2057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2546280" y="3284640"/>
                <a:ext cx="914400" cy="172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435640" y="4149360"/>
              <a:ext cx="2057400" cy="741600"/>
              <a:chOff x="5435640" y="4149360"/>
              <a:chExt cx="2057400" cy="741600"/>
            </a:xfrm>
          </p:grpSpPr>
          <p:sp>
            <p:nvSpPr>
              <p:cNvPr id="67" name=""/>
              <p:cNvSpPr/>
              <p:nvPr/>
            </p:nvSpPr>
            <p:spPr>
              <a:xfrm>
                <a:off x="5435640" y="4890960"/>
                <a:ext cx="2057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21440" y="4149720"/>
                <a:ext cx="1143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5435640" y="4149360"/>
                <a:ext cx="685800" cy="74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64440" y="4149720"/>
                <a:ext cx="228600" cy="74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4049640" y="4200480"/>
              <a:ext cx="912960" cy="247680"/>
            </a:xfrm>
            <a:prstGeom prst="rightArrow">
              <a:avLst>
                <a:gd name="adj1" fmla="val 50000"/>
                <a:gd name="adj2" fmla="val 92151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3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画一个水平放置的平面图形的直观图，关键是确定直观图中各顶点的位置，我们可以借助平面坐标系解决这个问题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那么在画水平放置的直角梯形的直观图时应如何操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4437000"/>
            <a:ext cx="1009800" cy="504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4724280"/>
            <a:ext cx="217440" cy="720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580000" y="3789360"/>
            <a:ext cx="3382920" cy="2195640"/>
            <a:chOff x="5580000" y="3789360"/>
            <a:chExt cx="3382920" cy="2195640"/>
          </a:xfrm>
        </p:grpSpPr>
        <p:sp>
          <p:nvSpPr>
            <p:cNvPr id="76" name=""/>
            <p:cNvSpPr/>
            <p:nvPr/>
          </p:nvSpPr>
          <p:spPr>
            <a:xfrm>
              <a:off x="5580000" y="5430960"/>
              <a:ext cx="3024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580000" y="4196880"/>
              <a:ext cx="1440000" cy="1629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44000" y="5445000"/>
              <a:ext cx="71892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x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59640" y="3789360"/>
              <a:ext cx="7207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y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588000" y="4292640"/>
            <a:ext cx="1656000" cy="504720"/>
            <a:chOff x="6588000" y="4292640"/>
            <a:chExt cx="1656000" cy="504720"/>
          </a:xfrm>
        </p:grpSpPr>
        <p:sp>
          <p:nvSpPr>
            <p:cNvPr id="81" name=""/>
            <p:cNvSpPr/>
            <p:nvPr/>
          </p:nvSpPr>
          <p:spPr>
            <a:xfrm>
              <a:off x="6588000" y="4724280"/>
              <a:ext cx="10796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51640" y="4292640"/>
              <a:ext cx="792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12800" y="3745080"/>
            <a:ext cx="2716200" cy="2307960"/>
            <a:chOff x="712800" y="3745080"/>
            <a:chExt cx="2716200" cy="2307960"/>
          </a:xfrm>
        </p:grpSpPr>
        <p:sp>
          <p:nvSpPr>
            <p:cNvPr id="84" name=""/>
            <p:cNvSpPr/>
            <p:nvPr/>
          </p:nvSpPr>
          <p:spPr>
            <a:xfrm>
              <a:off x="1137960" y="4149720"/>
              <a:ext cx="1111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248920" y="4149720"/>
              <a:ext cx="887400" cy="141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5000" y="5519880"/>
              <a:ext cx="503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7840" y="5542200"/>
              <a:ext cx="5511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27160" y="3745080"/>
              <a:ext cx="6667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2800" y="3868920"/>
              <a:ext cx="48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5360" y="4152960"/>
              <a:ext cx="0" cy="1440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125360" y="5592960"/>
              <a:ext cx="201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55640" y="5589720"/>
            <a:ext cx="3043080" cy="465120"/>
            <a:chOff x="755640" y="5589720"/>
            <a:chExt cx="3043080" cy="465120"/>
          </a:xfrm>
        </p:grpSpPr>
        <p:sp>
          <p:nvSpPr>
            <p:cNvPr id="93" name=""/>
            <p:cNvSpPr/>
            <p:nvPr/>
          </p:nvSpPr>
          <p:spPr>
            <a:xfrm>
              <a:off x="3348000" y="5589720"/>
              <a:ext cx="450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640" y="5589720"/>
              <a:ext cx="288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55640" y="3357720"/>
            <a:ext cx="503280" cy="2727000"/>
            <a:chOff x="755640" y="3357720"/>
            <a:chExt cx="503280" cy="2727000"/>
          </a:xfrm>
        </p:grpSpPr>
        <p:sp>
          <p:nvSpPr>
            <p:cNvPr id="96" name=""/>
            <p:cNvSpPr/>
            <p:nvPr/>
          </p:nvSpPr>
          <p:spPr>
            <a:xfrm>
              <a:off x="755640" y="3357720"/>
              <a:ext cx="503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6000" y="3473280"/>
              <a:ext cx="12600" cy="261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59280" y="5378400"/>
            <a:ext cx="2541600" cy="668520"/>
            <a:chOff x="5759280" y="5378400"/>
            <a:chExt cx="2541600" cy="668520"/>
          </a:xfrm>
        </p:grpSpPr>
        <p:sp>
          <p:nvSpPr>
            <p:cNvPr id="99" name=""/>
            <p:cNvSpPr/>
            <p:nvPr/>
          </p:nvSpPr>
          <p:spPr>
            <a:xfrm>
              <a:off x="5759280" y="5378400"/>
              <a:ext cx="7207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580160" y="5429160"/>
              <a:ext cx="7207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0360" y="5416560"/>
              <a:ext cx="19432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40000" y="4508640"/>
            <a:ext cx="865440" cy="936360"/>
            <a:chOff x="5940000" y="4508640"/>
            <a:chExt cx="865440" cy="936360"/>
          </a:xfrm>
        </p:grpSpPr>
        <p:sp>
          <p:nvSpPr>
            <p:cNvPr id="103" name=""/>
            <p:cNvSpPr/>
            <p:nvPr/>
          </p:nvSpPr>
          <p:spPr>
            <a:xfrm>
              <a:off x="6084720" y="4508640"/>
              <a:ext cx="72072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940000" y="4724280"/>
              <a:ext cx="647640" cy="7207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4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你能用上述方法画水平放置的正六边形的直观图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5280" y="1773360"/>
            <a:ext cx="3240000" cy="3217680"/>
            <a:chOff x="395280" y="1773360"/>
            <a:chExt cx="3240000" cy="3217680"/>
          </a:xfrm>
        </p:grpSpPr>
        <p:sp>
          <p:nvSpPr>
            <p:cNvPr id="107" name=""/>
            <p:cNvSpPr/>
            <p:nvPr/>
          </p:nvSpPr>
          <p:spPr>
            <a:xfrm>
              <a:off x="395280" y="3573360"/>
              <a:ext cx="309240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35280" y="1989000"/>
              <a:ext cx="0" cy="30020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76360" y="1773360"/>
              <a:ext cx="5032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2000" y="3112920"/>
              <a:ext cx="50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7640" y="3500280"/>
              <a:ext cx="360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8600" y="2198520"/>
            <a:ext cx="2919240" cy="2712960"/>
            <a:chOff x="498600" y="2198520"/>
            <a:chExt cx="2919240" cy="2712960"/>
          </a:xfrm>
        </p:grpSpPr>
        <p:sp>
          <p:nvSpPr>
            <p:cNvPr id="113" name=""/>
            <p:cNvSpPr/>
            <p:nvPr/>
          </p:nvSpPr>
          <p:spPr>
            <a:xfrm>
              <a:off x="808200" y="2628720"/>
              <a:ext cx="2060280" cy="1847880"/>
            </a:xfrm>
            <a:prstGeom prst="hexagon">
              <a:avLst>
                <a:gd name="adj" fmla="val 27874"/>
                <a:gd name="vf" fmla="val 11547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600" y="3396960"/>
              <a:ext cx="61884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14480" y="4346280"/>
              <a:ext cx="5331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68360" y="4379760"/>
              <a:ext cx="517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3514320"/>
              <a:ext cx="57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8360" y="2219040"/>
              <a:ext cx="517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7600" y="2198520"/>
              <a:ext cx="6192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47920" y="2205000"/>
            <a:ext cx="576000" cy="2621160"/>
            <a:chOff x="1447920" y="2205000"/>
            <a:chExt cx="576000" cy="2621160"/>
          </a:xfrm>
        </p:grpSpPr>
        <p:sp>
          <p:nvSpPr>
            <p:cNvPr id="121" name=""/>
            <p:cNvSpPr/>
            <p:nvPr/>
          </p:nvSpPr>
          <p:spPr>
            <a:xfrm>
              <a:off x="1447920" y="2205000"/>
              <a:ext cx="576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960" y="439416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95800" y="2062080"/>
            <a:ext cx="3887640" cy="2291760"/>
            <a:chOff x="4195800" y="2062080"/>
            <a:chExt cx="3887640" cy="2291760"/>
          </a:xfrm>
        </p:grpSpPr>
        <p:sp>
          <p:nvSpPr>
            <p:cNvPr id="124" name=""/>
            <p:cNvSpPr/>
            <p:nvPr/>
          </p:nvSpPr>
          <p:spPr>
            <a:xfrm>
              <a:off x="4195800" y="3501720"/>
              <a:ext cx="3600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913280" y="2403000"/>
              <a:ext cx="1784520" cy="19508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64520" y="3574800"/>
              <a:ext cx="718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x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34200" y="2062080"/>
              <a:ext cx="743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y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2880" y="3430440"/>
              <a:ext cx="6649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o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764240" y="3066840"/>
            <a:ext cx="1998360" cy="851040"/>
            <a:chOff x="4764240" y="3066840"/>
            <a:chExt cx="1998360" cy="851040"/>
          </a:xfrm>
        </p:grpSpPr>
        <p:sp>
          <p:nvSpPr>
            <p:cNvPr id="130" name=""/>
            <p:cNvSpPr/>
            <p:nvPr/>
          </p:nvSpPr>
          <p:spPr>
            <a:xfrm flipV="1">
              <a:off x="4764240" y="3066840"/>
              <a:ext cx="793440" cy="43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4240" y="3067200"/>
              <a:ext cx="198360" cy="43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88160" y="3500280"/>
              <a:ext cx="857160" cy="417600"/>
            </a:xfrm>
            <a:custGeom>
              <a:avLst/>
              <a:gdLst/>
              <a:ahLst/>
              <a:rect l="l" t="t" r="r" b="b"/>
              <a:pathLst>
                <a:path w="780" h="300">
                  <a:moveTo>
                    <a:pt x="0" y="300"/>
                  </a:moveTo>
                  <a:lnTo>
                    <a:pt x="78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4240" y="3500280"/>
              <a:ext cx="133200" cy="417600"/>
            </a:xfrm>
            <a:custGeom>
              <a:avLst/>
              <a:gdLst/>
              <a:ahLst/>
              <a:rect l="l" t="t" r="r" b="b"/>
              <a:pathLst>
                <a:path w="120" h="300">
                  <a:moveTo>
                    <a:pt x="120" y="30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3860640"/>
            <a:ext cx="1943280" cy="650880"/>
            <a:chOff x="4572000" y="3860640"/>
            <a:chExt cx="1943280" cy="650880"/>
          </a:xfrm>
        </p:grpSpPr>
        <p:sp>
          <p:nvSpPr>
            <p:cNvPr id="135" name=""/>
            <p:cNvSpPr/>
            <p:nvPr/>
          </p:nvSpPr>
          <p:spPr>
            <a:xfrm>
              <a:off x="4902120" y="38894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860640"/>
              <a:ext cx="792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6000" y="386064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27640" y="3083040"/>
            <a:ext cx="2881080" cy="1009080"/>
            <a:chOff x="4427640" y="3083040"/>
            <a:chExt cx="2881080" cy="1009080"/>
          </a:xfrm>
        </p:grpSpPr>
        <p:sp>
          <p:nvSpPr>
            <p:cNvPr id="139" name=""/>
            <p:cNvSpPr/>
            <p:nvPr/>
          </p:nvSpPr>
          <p:spPr>
            <a:xfrm>
              <a:off x="4427640" y="3083040"/>
              <a:ext cx="7920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6720" y="3443040"/>
              <a:ext cx="792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35560" y="2637000"/>
            <a:ext cx="1875960" cy="449280"/>
            <a:chOff x="5335560" y="2637000"/>
            <a:chExt cx="1875960" cy="449280"/>
          </a:xfrm>
        </p:grpSpPr>
        <p:sp>
          <p:nvSpPr>
            <p:cNvPr id="142" name=""/>
            <p:cNvSpPr/>
            <p:nvPr/>
          </p:nvSpPr>
          <p:spPr>
            <a:xfrm>
              <a:off x="5555880" y="3086280"/>
              <a:ext cx="99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9520" y="2654640"/>
              <a:ext cx="79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560" y="2637000"/>
              <a:ext cx="792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19640" y="2637000"/>
            <a:ext cx="1109880" cy="1669320"/>
            <a:chOff x="5219640" y="2637000"/>
            <a:chExt cx="1109880" cy="1669320"/>
          </a:xfrm>
        </p:grpSpPr>
        <p:sp>
          <p:nvSpPr>
            <p:cNvPr id="146" name=""/>
            <p:cNvSpPr/>
            <p:nvPr/>
          </p:nvSpPr>
          <p:spPr>
            <a:xfrm>
              <a:off x="5824800" y="263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19640" y="3846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788000" y="4724280"/>
            <a:ext cx="2881080" cy="1892520"/>
            <a:chOff x="4788000" y="4724280"/>
            <a:chExt cx="2881080" cy="1892520"/>
          </a:xfrm>
        </p:grpSpPr>
        <p:sp>
          <p:nvSpPr>
            <p:cNvPr id="149" name=""/>
            <p:cNvSpPr/>
            <p:nvPr/>
          </p:nvSpPr>
          <p:spPr>
            <a:xfrm>
              <a:off x="5262480" y="6022800"/>
              <a:ext cx="1008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5965920"/>
              <a:ext cx="792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6360" y="596592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18040" y="5157720"/>
              <a:ext cx="99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38640" y="5157720"/>
              <a:ext cx="793800" cy="4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24600" y="5172120"/>
              <a:ext cx="198360" cy="4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5605560"/>
              <a:ext cx="857160" cy="417240"/>
            </a:xfrm>
            <a:custGeom>
              <a:avLst/>
              <a:gdLst/>
              <a:ahLst/>
              <a:rect l="l" t="t" r="r" b="b"/>
              <a:pathLst>
                <a:path w="780" h="300">
                  <a:moveTo>
                    <a:pt x="0" y="300"/>
                  </a:moveTo>
                  <a:lnTo>
                    <a:pt x="78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8640" y="5591160"/>
              <a:ext cx="133560" cy="417600"/>
            </a:xfrm>
            <a:custGeom>
              <a:avLst/>
              <a:gdLst/>
              <a:ahLst/>
              <a:rect l="l" t="t" r="r" b="b"/>
              <a:pathLst>
                <a:path w="120" h="300">
                  <a:moveTo>
                    <a:pt x="120" y="30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88000" y="5187960"/>
              <a:ext cx="7920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7080" y="5548320"/>
              <a:ext cx="792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719680" y="4724280"/>
              <a:ext cx="1876680" cy="449280"/>
              <a:chOff x="5719680" y="4724280"/>
              <a:chExt cx="1876680" cy="449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940360" y="517356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04000" y="4741920"/>
                <a:ext cx="792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19680" y="4724280"/>
                <a:ext cx="79236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F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9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5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上述画水平放置的平面图形的直观图的方法叫做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斜二测画法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你能概括出斜二测画法的基本步骤和规则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27664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）建坐标系，定水平面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58800" y="4033800"/>
            <a:ext cx="55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）水平线段等长，竖直线段减半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66440" y="3141720"/>
            <a:ext cx="55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）与坐标轴平行的线段保持平行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66ff33"/>
                </a:solidFill>
                <a:latin typeface="宋体"/>
              </a:rPr>
              <a:t>6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斜二测画法可以画任意多边形水平放置的直观图，如果把一个圆水平放置，看起来像什么图形？在实际画图时有什么办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3284640"/>
            <a:ext cx="2663640" cy="25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4076640"/>
            <a:ext cx="2737080" cy="100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48:46Z</dcterms:created>
  <dc:creator>雷晟</dc:creator>
  <dc:description/>
  <dc:language>en-US</dc:language>
  <cp:lastModifiedBy>微软用户</cp:lastModifiedBy>
  <dcterms:modified xsi:type="dcterms:W3CDTF">2016-03-02T15:46:03Z</dcterms:modified>
  <cp:revision>113</cp:revision>
  <dc:subject/>
  <dc:title>幻灯片 1</dc:title>
</cp:coreProperties>
</file>