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6.gif" ContentType="image/gif"/>
  <Override PartName="/ppt/media/image7.gif" ContentType="image/gif"/>
  <Override PartName="/ppt/media/explode.wav" ContentType="audio/x-wav"/>
  <Override PartName="/ppt/media/camera.wav" ContentType="audio/x-wav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5.wmf" ContentType="image/x-wmf"/>
  <Override PartName="/ppt/media/image1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538-3DA4-4016-9BBA-74528EF5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80A-0001-48CF-B933-3E6B3D7F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53B-DD3D-4AF4-BE68-95A88D6C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E4C-BA41-47D1-8740-992027DA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0FE6-5A4B-4240-A466-C504774F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E158-C380-46D1-B88D-98687753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A3B2-D3E2-44E2-9363-96EE2F13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F2E9-5925-4D2B-B168-0A11A7BD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C55C-ADCA-4712-8173-6CDED9D7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DC5C-AE60-43F6-B6E3-116E4D80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0744-51F9-45CB-A89F-79C2EA2A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D93-BD56-4EFC-A781-FF19B9C0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9E54-8148-4B62-9397-41E36275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EDC7-839C-4D4A-BF3E-21F2DCBC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08B3-2159-497C-B1EB-A73DC07F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B227-8BF8-47B7-AD34-A683FADD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E016-871F-4525-AF0A-3C7DFFAC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116-682C-4B35-A4EB-9E9484C1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F6F-6C9C-4DC0-BD50-CD2508DE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13F-8333-455D-A9EF-DEA63D88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14F-834F-4D87-8AA9-7F8322A2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562-5F2E-4E0C-B180-06372EF8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7D6-66A5-4E1E-BF2E-C53FB24A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3D8-6784-4E7F-A005-770FC3E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6D50-CABC-4F15-8205-58F19ECFEF9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雷雨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A9BE-1092-41FC-89CC-D79E498846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9656-266C-42AC-ABAC-E91C123FD45D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雷雨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5051-B6E8-4AEB-84C0-F830D1F917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audio" Target="../media/camera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OUR1459.wav" descr=""/>
          <p:cNvPicPr/>
          <p:nvPr/>
        </p:nvPicPr>
        <p:blipFill>
          <a:blip r:embed="rId2"/>
          <a:stretch/>
        </p:blipFill>
        <p:spPr>
          <a:xfrm>
            <a:off x="4038480" y="157176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609480" y="533520"/>
            <a:ext cx="5715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雷雨（节选）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7020000" y="1557360"/>
            <a:ext cx="124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曹禺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059" descr="zhou"/>
          <p:cNvPicPr/>
          <p:nvPr/>
        </p:nvPicPr>
        <p:blipFill>
          <a:blip r:embed="rId2"/>
          <a:stretch/>
        </p:blipFill>
        <p:spPr>
          <a:xfrm>
            <a:off x="-31680" y="-28440"/>
            <a:ext cx="136368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1069" descr=""/>
          <p:cNvPicPr/>
          <p:nvPr/>
        </p:nvPicPr>
        <p:blipFill>
          <a:blip r:embed="rId3"/>
          <a:stretch/>
        </p:blipFill>
        <p:spPr>
          <a:xfrm>
            <a:off x="7792920" y="4772160"/>
            <a:ext cx="1351080" cy="20858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070"/>
          <p:cNvSpPr/>
          <p:nvPr/>
        </p:nvSpPr>
        <p:spPr>
          <a:xfrm>
            <a:off x="1476360" y="1200240"/>
            <a:ext cx="6696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情境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朴：（沉思）无锡？嗯，无锡，（忽而）你在无锡是什么时候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鲁：光绪二十年，离现在有三十多年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朴：哦，三十年前你在无锡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鲁：是的，三十多年前呢，那时候我记得我们还没有用洋火呢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朴：（沉思）三十多年前，是的，很远啦，我想想，我大概是二十多岁的时候。那时候我还在无锡呢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鲁：老爷是那个地方的人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朴：嗯，（沉吟）无锡是个好地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鲁：哦，好地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50000">
              <a:srgbClr val="ccffcc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8200" y="311616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24000" y="436680"/>
            <a:ext cx="85690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读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体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表意上的作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暗示两人有过不寻常的关系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通过贯穿全戏的时间概念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十年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来深入了解周、鲁两人特殊的关系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材料：曹禺在序幕中明确写出的人物关系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周朴园－－某煤矿公司董事长，五十五岁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繁漪－－其妻，三十五岁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周萍－－其前妻鲁侍萍生子，年二十八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周冲－－繁漪生子，年十七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鲁贵－－周宅仆人，年四十八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鲁侍萍－－其前妻，某校女佣，年四十七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鲁大海－－侍萍与前夫周朴园之子，煤矿工人，年二十七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鲁四凤－－鲁贵与侍萍之女，年十八，周家使女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从这表中你能看出什么奥妙吗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50000">
              <a:srgbClr val="ccffcc"/>
            </a:gs>
            <a:gs pos="100000">
              <a:srgbClr val="66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9"/>
          <p:cNvSpPr/>
          <p:nvPr/>
        </p:nvSpPr>
        <p:spPr>
          <a:xfrm>
            <a:off x="6118200" y="311616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179280" y="404640"/>
            <a:ext cx="882036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从这表中你能看出什么奥妙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明确：鲁侍萍被周家赶走是发生在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前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那作者为什么反复强调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年前，难道是作者记错了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解读视角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凡是你不想记忆的东西，你总是会忘记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            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（奥地利）弗洛伊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明确：可用心理学分析法来说明周、鲁确实存在过真实的爱情。因为对他们而言，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前是一个悲惨的时刻，根据弗洛伊德的推论，他俩潜意识里都记住的是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之间的三年幸福生活，所以他们对话中反复出现的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十年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个时间概念，并不是作者记错了，而是更逼真了人物的心理。从一个侧面反映了作者语言的高超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、无锡为什么是个好地方？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明确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好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有着特定内涵的，对周、鲁来说，无锡，正是这段美好生活的见证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2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590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  <a:ea typeface="黑体"/>
              </a:rPr>
              <a:t>情境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鲁：哼，我的眼泪早哭干了，我没有委屈，我有的是恨，是悔，是三十年一天一天我自己受的苦。你大概已经忘了你做的事了！三十年前，过年三十的晚上我生下你的第二个儿子才三天，你为了要赶紧娶那位有钱有门第的小姐，你逼着我冒着大雪出去，要我离开你周家的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13" descr=""/>
          <p:cNvPicPr/>
          <p:nvPr/>
        </p:nvPicPr>
        <p:blipFill>
          <a:blip r:embed="rId1"/>
          <a:stretch/>
        </p:blipFill>
        <p:spPr>
          <a:xfrm>
            <a:off x="6372360" y="112536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590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情境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鲁：哼，我的眼泪早哭干了，我没有委屈，我有的是恨，是悔，是三十年一天一天我自己受的苦。你大概已经忘了你做的事了！三十年前，过年三十的晚上我生下你的第二个儿子才三天，你为了要赶紧娶那位有钱有门第的小姐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你们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逼着我冒着大雪出去，要我离开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你们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周家的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Object 3" descr=""/>
          <p:cNvPicPr/>
          <p:nvPr/>
        </p:nvPicPr>
        <p:blipFill>
          <a:blip r:embed="rId1"/>
          <a:stretch/>
        </p:blipFill>
        <p:spPr>
          <a:xfrm>
            <a:off x="6372360" y="112536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13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解读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体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你们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在表情达意上的不同感受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明确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你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暗示了赶鲁侍萍走不仅有周朴园，更主要的是周家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、联系上下文语境，体会鲁侍萍复杂的心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明确：鲁、周都是封建婚姻制度的牺牲品，两人的相爱也是真实的；鲁对周有怨恨，但更主要的是恨周的软弱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50000">
              <a:srgbClr val="ccff99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0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相关材料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鲁侍萍被周家赶走，周朴园是不情愿的，但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父母之命、媒约之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不可违的时代，他又是没有办法阻止的。何况在赶走之前，周家始终未让他与鲁侍萍见上一面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              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 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曹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雷雨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创作回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故事发生在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年前，即文中的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光绪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1894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，在清末封建社会里，青年男女自由恋爱是不被传统认可的。再看周朴园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年前的处境，他也不过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多岁的小伙子，在上面还有老头子、老太太、大家庭，他也掌握不了自己的命运。所以，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你们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一词传递出来当时抛弃鲁的不只是周，更主要的是封建大家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993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何况在赶走之前，周家始终未让他与鲁侍萍见上一面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的补充很重要，那么，当周朴园后来得知侍萍被赶走，有没有行动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我看见她河边上的衣服，里面有她的绝命书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这句话，想象周朴园当时沿着河失魂落魄地发疯一般地寻找，感受周朴园内心极度痛苦状 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779640" y="404280"/>
            <a:ext cx="511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情境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周朴园：你静一静。把脑子放清醒点。你不要以为我的心是死了，你以为一个人做了一件于心不忍的事就会忘了么？你看这些家具都是你从前顶喜欢的东西，多少年我总是留着，为着纪念你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黑体"/>
              </a:rPr>
              <a:t>周朴园：你的生日</a:t>
            </a:r>
            <a:r>
              <a:rPr b="1" lang="en-US" sz="2800" spc="-1" strike="noStrike">
                <a:solidFill>
                  <a:srgbClr val="ff33cc"/>
                </a:solidFill>
                <a:latin typeface="Tahoma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黑体"/>
              </a:rPr>
              <a:t>四月十八</a:t>
            </a:r>
            <a:r>
              <a:rPr b="1" lang="en-US" sz="2800" spc="-1" strike="noStrike">
                <a:solidFill>
                  <a:srgbClr val="ff33cc"/>
                </a:solidFill>
                <a:latin typeface="Tahoma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黑体"/>
              </a:rPr>
              <a:t>每年我总记得。一切都照着你是正式嫁过周家的人看，甚至于你因为生萍儿，受了病，总要关窗户，这些习惯我都保留着，为的是不忘你，弥补我的罪过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3" descr="zhou"/>
          <p:cNvPicPr/>
          <p:nvPr/>
        </p:nvPicPr>
        <p:blipFill>
          <a:blip r:embed="rId1"/>
          <a:stretch/>
        </p:blipFill>
        <p:spPr>
          <a:xfrm>
            <a:off x="0" y="0"/>
            <a:ext cx="2071800" cy="2952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BS00823_"/>
          <p:cNvPicPr/>
          <p:nvPr/>
        </p:nvPicPr>
        <p:blipFill>
          <a:blip r:embed="rId2"/>
          <a:stretch/>
        </p:blipFill>
        <p:spPr>
          <a:xfrm>
            <a:off x="539640" y="2997360"/>
            <a:ext cx="2051280" cy="17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Object 5"/>
          <p:cNvGraphicFramePr/>
          <p:nvPr/>
        </p:nvGraphicFramePr>
        <p:xfrm>
          <a:off x="179280" y="5084640"/>
          <a:ext cx="146052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084640"/>
                    <a:ext cx="1460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9" descr=""/>
          <p:cNvPicPr/>
          <p:nvPr/>
        </p:nvPicPr>
        <p:blipFill>
          <a:blip r:embed="rId5"/>
          <a:stretch/>
        </p:blipFill>
        <p:spPr>
          <a:xfrm>
            <a:off x="2050920" y="5084640"/>
            <a:ext cx="1441440" cy="1366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解读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ahoma"/>
                <a:ea typeface="黑体"/>
              </a:rPr>
              <a:t>这两段话你认为周朴园对侍萍的怀念是真实的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明确：周朴园的怀念确实是出自内心的需要，不能因动机的自私而否定周朴园对侍萍的怀念真实性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73440" y="620640"/>
            <a:ext cx="9325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剧本、诗歌、小说、散文是文学作品的四大体裁。剧本是戏剧艺术创作的基础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戏剧是一种综合的舞台艺术，它是借助文学、音乐。舞蹈、美术等艺术手段塑造舞台形象，揭示社会矛盾，反映现实生活。戏剧语言包括人物语言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即台词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和舞台说明。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、戏剧特征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第一、更典型、更集中地表现社会生活的冲突和斗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第二、故事情节发生的时间和地点往往很集中，登场人物也有一定数量的限制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第三、人物性格和故事情节主要是通过登场人物的语言来表现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第四、故事情节的发展往往分幕分场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戏剧按照不同的标准，可以分为不同种类：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按艺术形式和表现手法分为话剧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(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如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雷雨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歌剧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(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如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白毛女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舞剧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(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如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丝路花雨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；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按剧情繁简和结构分为独幕剧、多幕剧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(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如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雷雨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；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按题材所反映的时代分为历史剧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(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如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屈原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现代剧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(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如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雷雨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；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按矛盾冲突的性质分为悲剧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(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如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屈原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喜剧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(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如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威尼斯商人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、正剧 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(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如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白毛女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259920"/>
            <a:ext cx="35290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ahoma"/>
                <a:ea typeface="华文新魏"/>
              </a:rPr>
              <a:t>戏剧常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50000">
              <a:srgbClr val="ccff99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834920" y="475920"/>
            <a:ext cx="57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情境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楷体_GB2312"/>
              </a:rPr>
              <a:t>（周朴园不觉地望望柜上的相片，又望鲁妈。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朴：（忽然严厉地）你来干什么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鲁：不是我要来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朴：谁指使你来的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鲁：（悲愤）命！不公平的命指使我来的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朴：（冷冷地）三十年的工夫你还是找到这儿来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3" descr="zhou"/>
          <p:cNvPicPr/>
          <p:nvPr/>
        </p:nvPicPr>
        <p:blipFill>
          <a:blip r:embed="rId1"/>
          <a:stretch/>
        </p:blipFill>
        <p:spPr>
          <a:xfrm>
            <a:off x="-31680" y="-28440"/>
            <a:ext cx="1363680" cy="194472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4" descr=""/>
          <p:cNvPicPr/>
          <p:nvPr/>
        </p:nvPicPr>
        <p:blipFill>
          <a:blip r:embed="rId2"/>
          <a:stretch/>
        </p:blipFill>
        <p:spPr>
          <a:xfrm>
            <a:off x="7716960" y="4653000"/>
            <a:ext cx="142704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84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解读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揣摩人物语言的方法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联系上下文语境品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抓住文中反复出现的词句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探究舞台说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      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借助心理学分析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cc"/>
            </a:gs>
            <a:gs pos="50000">
              <a:srgbClr val="66ff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根据老师提供的方法讨论此时周朴园大变脸的原因，反映了人物当时怎样的心理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 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明确：此时的周朴园灵魂已被物质利益占据了统治地位，原先对侍萍的情感已被自私、残酷取代。虽然周的语言对侍萍而言是巨大的伤害，但是非常符合周的身份和心理特征的。如果周和鲁相认、抱头痛哭，那是有违人性发展的，是不可想象的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50000">
              <a:srgbClr val="ccff99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404640"/>
            <a:ext cx="547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情境五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周朴园：那么，我们就这样解决了。我叫他下来，你看一看他，以后鲁家的人永远不许再到周家来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鲁侍萍：好，我希望这一生不要再见你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周朴园：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（由衣内取出支票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签好）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很好，这是一张五千块钱的支票，你可以先拿去用。算是弥补我一点罪过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鲁侍萍：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（接过支票）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谢谢你。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（慢慢撕碎支票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周朴园 ：侍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鲁侍萍 ：我这些年的苦不是你拿钱算得清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7845480" y="3573360"/>
          <a:ext cx="129852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5480" y="3573360"/>
                    <a:ext cx="129852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Object 6" descr=""/>
          <p:cNvPicPr/>
          <p:nvPr/>
        </p:nvPicPr>
        <p:blipFill>
          <a:blip r:embed="rId3"/>
          <a:stretch/>
        </p:blipFill>
        <p:spPr>
          <a:xfrm>
            <a:off x="7859880" y="4876920"/>
            <a:ext cx="1284120" cy="198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zhou"/>
          <p:cNvPicPr/>
          <p:nvPr/>
        </p:nvPicPr>
        <p:blipFill>
          <a:blip r:embed="rId4"/>
          <a:stretch/>
        </p:blipFill>
        <p:spPr>
          <a:xfrm>
            <a:off x="-31680" y="-28440"/>
            <a:ext cx="1363680" cy="194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BS00508_"/>
          <p:cNvPicPr/>
          <p:nvPr/>
        </p:nvPicPr>
        <p:blipFill>
          <a:blip r:embed="rId5"/>
          <a:stretch/>
        </p:blipFill>
        <p:spPr>
          <a:xfrm>
            <a:off x="0" y="1916280"/>
            <a:ext cx="143352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75280" cy="69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解读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 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那么，我们就这样解决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，请同学联系上下文来说明周朴园究竟是怎样解决和鲁侍萍的恩怨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明确：用金钱，即文中的支票；让鲁侍萍看一看她的儿子。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  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通过解决的方式，你对眼前的周朴园有什么看法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周只允许鲁侍萍看一看她的儿子，并没有让她相认，主要出自害怕母子相认给其家庭惹来麻烦，表现其办事周密，精明老到。但从另一个角度看，天下再也没有比母子相逢不能认的惨事了，这又表现周心狠手辣的性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）周用支票来打发鲁侍萍表现其资本家的本性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金钱是万能的。它既可以隐瞒事情的真相，又可以赎回自己的良心，足见其圆滑、自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4000" y="549360"/>
            <a:ext cx="8064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五千块钱的支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对周、鲁而言，是一个什么概念？请同学们看两段话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鲁大海：（对仆人）你们这些混帐东西，放开我。我要说，你故意淹死了二千二百个小工，每一个小工的性命你扣三百块钱！姓周的，你发的是绝子绝孙的昧心财！你现在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鲁贵对四凤：（汹汹地）讲你呢，又学你妈的那点穷骨头，你看她！跑到八百里外的女学堂里当老妈：为着一月八块钱，两年才回一趟家。这叫本分，还念过书呢；简直是没出息。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根据这两句话，我们可以得出两组数据：就周朴园赚的一次昧心财来看，五千块钱的支票等于总收入的七百五十七分之一；就鲁侍萍一月八块钱而言，五千块钱的支票等于她五十二年的收入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者比较后，你能对周朴园有什么新的认识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作者的观点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      “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周朴园也是一个人，不能认为资本家就没有人性。为了钱，故意淹死两千二百个小工，这是他的人性。爱他所爱的人，在他生活的圈子里需要感情的温暖，这也是他的人性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      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曹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8064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思考讨论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认识周朴园有什么意义吗？对你有什么启示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点拨：有情人不能成为眷属是悲剧的一种。但是，即使有情人终成眷属也可以成就新的悲剧。如果周朴园选择了侍萍，他们顶着家庭的压力走在一起，能幸福吗？我想也没有人能保证他们不会发生冲突，不会产生悲剧。问题不在于谁制造了悲剧，而在于认识到悲剧无处不在、人生的不完满，这或许是讨论周朴园形象的意义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认识周朴园形象的文化意义在于：在利益社会中，当人的情感遭遇理智时，人若不愿失去现实利益，就只能付出情感作为代价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的生存困境无处不在，无时不有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49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今天这节课，我们通过对戏剧语言的揣摩，初步了解人物复杂个性，感受了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雷雨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的魅力。一个周朴园就令人捉摸不透，更何况其他人物呢？总之，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雷雨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是一部内涵丰富的伟大杰作，因为它写出了人性的复杂性和丰富性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068720" y="836640"/>
            <a:ext cx="446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运用今天所学的方法去阅读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雷雨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全剧，细细揣摩人物语言，读出一个属于你心中较完整的周朴园或其他人物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3" descr="无标题retr"/>
          <p:cNvPicPr/>
          <p:nvPr/>
        </p:nvPicPr>
        <p:blipFill>
          <a:blip r:embed="rId1"/>
          <a:stretch/>
        </p:blipFill>
        <p:spPr>
          <a:xfrm>
            <a:off x="395280" y="981000"/>
            <a:ext cx="311292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36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冲突：是矛盾斗争的一种表现形式。主要通过人与人之间的冲突表现阶级之间和阶级思想的矛盾冲突，有些冲突也表现为先进与落后、进步与保守的矛盾冲突。戏剧冲突应比生活矛盾更强烈，更典型，更集中，更富于戏剧性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台词：是剧中人物的语言。它是性格化的，是富有动作性的，即人物的语言是同他的行动联系在一起的。台词的表现形式有对话、独白、旁白（登场人物离开其他人物而向观众说话）、内白（在后台说话）、潜台词（登场人物没说出来的语言，而是用表情表现出来的言外之意）等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幕和场：幕，即拉开舞台大幕一次，一幕就是戏剧一个较完整的段落。场，即拉开舞台二道幕一次，它是戏剧中较小的段落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舞台说明：是帮助导演和演员掌握剧情，为演出提示的一些注意之点的有关说明的叙述和描写的语言。说明的内容有关于时间、地点、人物、布景的，有关于登场人物的动作、表情的，有关于登场人物上场、下场的，有关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效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，有关于开幕、闭幕的等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2176560" y="1773360"/>
            <a:ext cx="43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WordArt 6" descr=""/>
          <p:cNvPicPr/>
          <p:nvPr/>
        </p:nvPicPr>
        <p:blipFill>
          <a:blip r:embed="rId2"/>
          <a:stretch/>
        </p:blipFill>
        <p:spPr>
          <a:xfrm>
            <a:off x="1060560" y="1835280"/>
            <a:ext cx="6400800" cy="1987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rcRect l="4724" t="12600" r="59049" b="12600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3"/>
          <p:cNvSpPr txBox="1"/>
          <p:nvPr/>
        </p:nvSpPr>
        <p:spPr>
          <a:xfrm>
            <a:off x="646200" y="358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solidFill>
                    <a:srgbClr val="ffcc00"/>
                  </a:solidFill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曹禺</a:t>
            </a:r>
            <a:endParaRPr b="1" lang="en-US" sz="9600" spc="1" strike="noStrike">
              <a:ln w="0">
                <a:solidFill>
                  <a:srgbClr val="ffcc00"/>
                </a:solidFill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3520" y="1523880"/>
            <a:ext cx="441936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曹禺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1910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1996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原名万家宝。祖籍湖北潜江，生于天津一个封建官僚家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曹禺是我国现当代著名剧作家，一生著作颇多，主要著作有：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雷雨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出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原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北京人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611280" y="189000"/>
            <a:ext cx="25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剧情简介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105264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雷雨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写的是一个封建资产阶级大家庭的矛盾。周朴园是这个大家庭的统治者，是剧中一切灾难的制造者和痛苦不幸的播种者。其妻繁漪感到被压抑的苦闷，与周朴园的大儿子周萍发生了暧昧关系。怯懦、自私的周萍又勾引了婢女四凤。出于嫉妒，繁漪通知四凤的母亲侍萍把她领走。侍萍正是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前被周朴园引诱为他生了两个儿子，而后又被遗弃的侍女。她是周萍的生身母亲，而被她带走的儿子鲁大海又正在周朴园的矿上做工，作为罢工工人的代表，他和周朴园面对面地展开斗争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些矛盾酝酿、激化，终于在一个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天气更阴沉、更郁热，低沉潮湿的空气，使人异常烦躁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的下午趋向高潮，又经过一番复杂的矛盾冲突，周萍和四凤终于知道他们原是同母兄妹。于是一场悲剧发生了，四凤触电而死，繁漪的儿子周冲为救四凤不幸送命，周萍开枪自杀，善良的鲁妈痴呆了，绝望的繁漪疯狂了，倔强的鲁大海出走了。这个罪恶的家庭终于崩溃了。这一切都是在雷电交加的狂风暴雨之夜进行的，整个故事的背景，情节都是和雷雨有关的。同时，作者以象征的手法告诉人们，在半殖民地半封建社会沉闷的空气里，一场大雷雨即将到来。这就深刻地反映了酝酿着一场大变动的中国社会的现实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人物关系表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32000" y="1486080"/>
            <a:ext cx="2232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周朴园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周  萍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繁  漪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周  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012000" y="1512720"/>
            <a:ext cx="2663640" cy="56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黑体"/>
                <a:ea typeface="黑体"/>
              </a:rPr>
              <a:t>侍  萍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黑体"/>
                <a:ea typeface="黑体"/>
              </a:rPr>
              <a:t>鲁大海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黑体"/>
                <a:ea typeface="黑体"/>
              </a:rPr>
              <a:t>鲁四凤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黑体"/>
                <a:ea typeface="黑体"/>
              </a:rPr>
              <a:t>鲁  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95280" y="2131920"/>
            <a:ext cx="647640" cy="3097440"/>
          </a:xfrm>
          <a:custGeom>
            <a:avLst/>
            <a:gdLst>
              <a:gd name="textAreaLeft" fmla="*/ 86760 w 647640"/>
              <a:gd name="textAreaRight" fmla="*/ 560880 w 647640"/>
              <a:gd name="textAreaTop" fmla="*/ 650160 h 3097440"/>
              <a:gd name="textAreaBottom" fmla="*/ 2137680 h 30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69" stAng="-5400000" swAng="-5400000"/>
                <a:lnTo>
                  <a:pt x="0" y="10371"/>
                </a:lnTo>
                <a:arcTo wR="21600" hR="9069" stAng="10800000" swAng="-2994012"/>
                <a:lnTo>
                  <a:pt x="14400" y="21081"/>
                </a:lnTo>
                <a:lnTo>
                  <a:pt x="21600" y="18789"/>
                </a:lnTo>
                <a:lnTo>
                  <a:pt x="14400" y="15459"/>
                </a:lnTo>
                <a:lnTo>
                  <a:pt x="14400" y="17619"/>
                </a:lnTo>
                <a:arcTo wR="21600" hR="9069" stAng="7805988" swAng="2890166"/>
                <a:lnTo>
                  <a:pt x="56" y="9720"/>
                </a:lnTo>
                <a:arcTo wR="21600" hR="9069" stAng="-10696154" swAng="5296154"/>
                <a:close/>
              </a:path>
              <a:path fill="darkenLess" w="21600" h="21600">
                <a:moveTo>
                  <a:pt x="21600" y="0"/>
                </a:moveTo>
                <a:arcTo wR="21600" hR="9069" stAng="-5400000" swAng="-5400000"/>
                <a:lnTo>
                  <a:pt x="0" y="9069"/>
                </a:lnTo>
                <a:arcTo wR="21600" hR="9069" stAng="10800000" swAng="-103846"/>
                <a:lnTo>
                  <a:pt x="56" y="9720"/>
                </a:lnTo>
                <a:arcTo wR="21600" hR="9069" stAng="-10696154" swAng="5296154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7885080" y="2205000"/>
            <a:ext cx="936720" cy="4249800"/>
          </a:xfrm>
          <a:custGeom>
            <a:avLst/>
            <a:gdLst>
              <a:gd name="textAreaLeft" fmla="*/ 125280 w 936720"/>
              <a:gd name="textAreaRight" fmla="*/ 811440 w 936720"/>
              <a:gd name="textAreaTop" fmla="*/ 900360 h 4249800"/>
              <a:gd name="textAreaBottom" fmla="*/ 284976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52" stAng="-5400000" swAng="5400000"/>
                <a:lnTo>
                  <a:pt x="21600" y="9908"/>
                </a:lnTo>
                <a:arcTo wR="21600" hR="9152" stAng="0" swAng="2745996"/>
                <a:lnTo>
                  <a:pt x="8237" y="20908"/>
                </a:lnTo>
                <a:lnTo>
                  <a:pt x="0" y="18682"/>
                </a:lnTo>
                <a:lnTo>
                  <a:pt x="8237" y="15072"/>
                </a:lnTo>
                <a:lnTo>
                  <a:pt x="8237" y="17612"/>
                </a:lnTo>
                <a:arcTo wR="21600" hR="9152" stAng="2745996" swAng="-2685790"/>
                <a:lnTo>
                  <a:pt x="21582" y="9530"/>
                </a:lnTo>
                <a:arcTo wR="21600" hR="9152" stAng="-60206" swAng="-5339794"/>
                <a:close/>
              </a:path>
              <a:path fill="darkenLess" w="21600" h="21600">
                <a:moveTo>
                  <a:pt x="0" y="0"/>
                </a:moveTo>
                <a:arcTo wR="21600" hR="9152" stAng="-5400000" swAng="5400000"/>
                <a:lnTo>
                  <a:pt x="21600" y="9908"/>
                </a:lnTo>
                <a:arcTo wR="21600" hR="9152" stAng="0" swAng="-60206"/>
                <a:lnTo>
                  <a:pt x="21582" y="9530"/>
                </a:lnTo>
                <a:arcTo wR="21600" hR="9152" stAng="-60206" swAng="-5339794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7"/>
          <p:cNvSpPr/>
          <p:nvPr/>
        </p:nvSpPr>
        <p:spPr>
          <a:xfrm rot="5400000">
            <a:off x="1762560" y="2853360"/>
            <a:ext cx="792360" cy="216000"/>
          </a:xfrm>
          <a:prstGeom prst="leftRightArrow">
            <a:avLst>
              <a:gd name="adj1" fmla="val 50000"/>
              <a:gd name="adj2" fmla="val 7302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8"/>
          <p:cNvSpPr/>
          <p:nvPr/>
        </p:nvSpPr>
        <p:spPr>
          <a:xfrm rot="16200000">
            <a:off x="1800000" y="4040280"/>
            <a:ext cx="719280" cy="217440"/>
          </a:xfrm>
          <a:prstGeom prst="leftRightArrow">
            <a:avLst>
              <a:gd name="adj1" fmla="val 50000"/>
              <a:gd name="adj2" fmla="val 658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9"/>
          <p:cNvSpPr/>
          <p:nvPr/>
        </p:nvSpPr>
        <p:spPr>
          <a:xfrm rot="5400000">
            <a:off x="1762560" y="5372640"/>
            <a:ext cx="792360" cy="216000"/>
          </a:xfrm>
          <a:prstGeom prst="leftRightArrow">
            <a:avLst>
              <a:gd name="adj1" fmla="val 50000"/>
              <a:gd name="adj2" fmla="val 7302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492360" y="2205000"/>
            <a:ext cx="2232000" cy="216000"/>
          </a:xfrm>
          <a:prstGeom prst="leftRightArrow">
            <a:avLst>
              <a:gd name="adj1" fmla="val 50000"/>
              <a:gd name="adj2" fmla="val 20571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1"/>
          <p:cNvSpPr/>
          <p:nvPr/>
        </p:nvSpPr>
        <p:spPr>
          <a:xfrm rot="20850600">
            <a:off x="3276720" y="2851200"/>
            <a:ext cx="2592360" cy="217440"/>
          </a:xfrm>
          <a:prstGeom prst="leftRightArrow">
            <a:avLst>
              <a:gd name="adj1" fmla="val 50000"/>
              <a:gd name="adj2" fmla="val 23734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419640" y="3500280"/>
            <a:ext cx="2232000" cy="216000"/>
          </a:xfrm>
          <a:prstGeom prst="leftRightArrow">
            <a:avLst>
              <a:gd name="adj1" fmla="val 50000"/>
              <a:gd name="adj2" fmla="val 20571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13"/>
          <p:cNvSpPr/>
          <p:nvPr/>
        </p:nvSpPr>
        <p:spPr>
          <a:xfrm rot="1060200">
            <a:off x="3268440" y="4220640"/>
            <a:ext cx="2519280" cy="216000"/>
          </a:xfrm>
          <a:prstGeom prst="leftRightArrow">
            <a:avLst>
              <a:gd name="adj1" fmla="val 50000"/>
              <a:gd name="adj2" fmla="val 2321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14"/>
          <p:cNvSpPr/>
          <p:nvPr/>
        </p:nvSpPr>
        <p:spPr>
          <a:xfrm rot="20617200">
            <a:off x="3348000" y="5446800"/>
            <a:ext cx="2087640" cy="142920"/>
          </a:xfrm>
          <a:prstGeom prst="rightArrow">
            <a:avLst>
              <a:gd name="adj1" fmla="val 50000"/>
              <a:gd name="adj2" fmla="val 3651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15"/>
          <p:cNvSpPr/>
          <p:nvPr/>
        </p:nvSpPr>
        <p:spPr>
          <a:xfrm rot="5400000">
            <a:off x="6588720" y="2780280"/>
            <a:ext cx="792360" cy="216000"/>
          </a:xfrm>
          <a:prstGeom prst="leftRightArrow">
            <a:avLst>
              <a:gd name="adj1" fmla="val 50000"/>
              <a:gd name="adj2" fmla="val 7302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6"/>
          <p:cNvSpPr/>
          <p:nvPr/>
        </p:nvSpPr>
        <p:spPr>
          <a:xfrm rot="5400000">
            <a:off x="6588720" y="4148640"/>
            <a:ext cx="792360" cy="216000"/>
          </a:xfrm>
          <a:prstGeom prst="leftRightArrow">
            <a:avLst>
              <a:gd name="adj1" fmla="val 50000"/>
              <a:gd name="adj2" fmla="val 7302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7"/>
          <p:cNvSpPr/>
          <p:nvPr/>
        </p:nvSpPr>
        <p:spPr>
          <a:xfrm rot="5400000">
            <a:off x="6515640" y="5445720"/>
            <a:ext cx="792360" cy="216000"/>
          </a:xfrm>
          <a:prstGeom prst="leftRightArrow">
            <a:avLst>
              <a:gd name="adj1" fmla="val 50000"/>
              <a:gd name="adj2" fmla="val 7302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  <p:sndAc>
      <p:stSnd>
        <p:snd r:embed="rId1" name="camera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san1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3886200" y="0"/>
            <a:ext cx="5257800" cy="274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san7"/>
          <p:cNvPicPr/>
          <p:nvPr/>
        </p:nvPicPr>
        <p:blipFill>
          <a:blip r:embed="rId2"/>
          <a:stretch/>
        </p:blipFill>
        <p:spPr>
          <a:xfrm>
            <a:off x="0" y="304920"/>
            <a:ext cx="571500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BT212-01"/>
          <p:cNvPicPr/>
          <p:nvPr/>
        </p:nvPicPr>
        <p:blipFill>
          <a:blip r:embed="rId3"/>
          <a:srcRect l="0" t="12229" r="0" b="10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5"/>
          <p:cNvSpPr txBox="1"/>
          <p:nvPr/>
        </p:nvSpPr>
        <p:spPr>
          <a:xfrm rot="5400000">
            <a:off x="5340240" y="1290600"/>
            <a:ext cx="4437000" cy="223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7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华文新魏"/>
              </a:rPr>
              <a:t>雷雨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华文新魏"/>
              <a:ea typeface="华文新魏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7920" y="4869000"/>
            <a:ext cx="1826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华文新魏"/>
                <a:ea typeface="华文新魏"/>
              </a:rPr>
              <a:t>曹禺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雷雨.avi" descr=""/>
          <p:cNvPicPr/>
          <p:nvPr/>
        </p:nvPicPr>
        <p:blipFill>
          <a:blip r:embed="rId6"/>
          <a:stretch/>
        </p:blipFill>
        <p:spPr>
          <a:xfrm>
            <a:off x="0" y="765000"/>
            <a:ext cx="6156360" cy="5031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7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7092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50000">
              <a:srgbClr val="99ff99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22"/>
          <p:cNvSpPr/>
          <p:nvPr/>
        </p:nvSpPr>
        <p:spPr>
          <a:xfrm>
            <a:off x="432108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124"/>
          <p:cNvSpPr/>
          <p:nvPr/>
        </p:nvSpPr>
        <p:spPr>
          <a:xfrm>
            <a:off x="43210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26"/>
          <p:cNvSpPr/>
          <p:nvPr/>
        </p:nvSpPr>
        <p:spPr>
          <a:xfrm>
            <a:off x="43210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28"/>
          <p:cNvSpPr/>
          <p:nvPr/>
        </p:nvSpPr>
        <p:spPr>
          <a:xfrm>
            <a:off x="4321080" y="38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30"/>
          <p:cNvSpPr/>
          <p:nvPr/>
        </p:nvSpPr>
        <p:spPr>
          <a:xfrm>
            <a:off x="4321080" y="44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32"/>
          <p:cNvSpPr/>
          <p:nvPr/>
        </p:nvSpPr>
        <p:spPr>
          <a:xfrm>
            <a:off x="4321080" y="506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213" descr="zhou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96000" y="1989000"/>
            <a:ext cx="2728800" cy="388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26"/>
          <p:cNvSpPr/>
          <p:nvPr/>
        </p:nvSpPr>
        <p:spPr>
          <a:xfrm>
            <a:off x="6498000" y="836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华文新魏"/>
              </a:rPr>
              <a:t>周朴园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227" descr="无标题retr"/>
          <p:cNvPicPr/>
          <p:nvPr/>
        </p:nvPicPr>
        <p:blipFill>
          <a:blip r:embed="rId3"/>
          <a:stretch/>
        </p:blipFill>
        <p:spPr>
          <a:xfrm>
            <a:off x="469800" y="333360"/>
            <a:ext cx="431820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7993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戏剧中，能把个人的性格、思想和目的最清楚地表现出来的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语言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戏剧人物的最深刻方面只有通过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语言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才能实现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黑格尔</a:t>
            </a:r>
            <a:r>
              <a:rPr b="1" lang="en-US" sz="3600" spc="-1" strike="noStrike">
                <a:solidFill>
                  <a:srgbClr val="cc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美学</a:t>
            </a:r>
            <a:r>
              <a:rPr b="1" lang="en-US" sz="3600" spc="-1" strike="noStrike">
                <a:solidFill>
                  <a:srgbClr val="cc00cc"/>
                </a:solidFill>
                <a:latin typeface="黑体"/>
                <a:ea typeface="黑体"/>
              </a:rPr>
              <a:t>》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2:50:35Z</dcterms:created>
  <dc:creator>图书馆</dc:creator>
  <dc:description/>
  <dc:language>en-US</dc:language>
  <cp:lastModifiedBy>guo</cp:lastModifiedBy>
  <dcterms:modified xsi:type="dcterms:W3CDTF">2016-07-06T01:34:41Z</dcterms:modified>
  <cp:revision>156</cp:revision>
  <dc:subject/>
  <dc:title>PowerPoint 演示文稿</dc:title>
</cp:coreProperties>
</file>