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4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31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844-334D-499F-8695-ABB24C70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E77-86E4-455A-9431-AFD1CDE1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F21-B39D-4D16-BF7D-106EA380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8FD-8849-4393-BA22-0783CE7E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94A-5A85-4BD7-9CEC-92E51B9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5ED-4ADA-4F78-93A0-F32AA3E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07E-39B0-4572-9D8A-8EB9600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DD0-A702-4E86-9651-BFE056BC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1F8-435F-40C5-9034-3674965F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AE0-02C4-42F3-A8F0-87EC2CC6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233-3120-44B4-8A8D-2DB325B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21C-324D-4147-8336-38D4F07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7E6D-A1AC-4C0E-B4E2-7FF201C9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334,8,&#24187;&#28783;&#29255; 8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334,8,&#24187;&#28783;&#29255; 8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aike.baidu.com/view/21655.htm" TargetMode="External"/><Relationship Id="rId2" Type="http://schemas.openxmlformats.org/officeDocument/2006/relationships/hyperlink" Target="http://baike.baidu.com/view/29247.htm" TargetMode="External"/><Relationship Id="rId3" Type="http://schemas.openxmlformats.org/officeDocument/2006/relationships/hyperlink" Target="http://baike.baidu.com/view/27201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20174;&#23481;.ppt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&#28436;&#31034;&#25991;&#31295;1.ppt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4,10,&#24187;&#28783;&#29255; 10" TargetMode="External"/><Relationship Id="rId3" Type="http://schemas.openxmlformats.org/officeDocument/2006/relationships/hyperlink" Target="276,20,&#24187;&#28783;&#29255; 20" TargetMode="External"/><Relationship Id="rId4" Type="http://schemas.openxmlformats.org/officeDocument/2006/relationships/hyperlink" Target="275,19,&#24187;&#28783;&#29255; 19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0&amp;tn=baiduimagedetail&amp;word=%C4&#1011;%AF+%B7%B6%EA%CA&amp;in=7568&amp;cl=2&amp;cm=1&amp;sc=0&amp;lm=-1&amp;pn=1&amp;rn=1&amp;di=2588315440&amp;ln=3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.baidu.com/i?ct=503316480&amp;z=0&amp;tn=baiduimagedetail&amp;word=%C4&#1011;%AF+%B7%B6%EA%CA&amp;in=1772&amp;cl=2&amp;cm=1&amp;sc=0&amp;lm=-1&amp;pn=2&amp;rn=1&amp;di=1955778604&amp;ln=3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335,9,&#24187;&#28783;&#29255; 9" TargetMode="External"/><Relationship Id="rId3" Type="http://schemas.openxmlformats.org/officeDocument/2006/relationships/hyperlink" Target="338,12,&#24187;&#28783;&#29255; 12" TargetMode="External"/><Relationship Id="rId4" Type="http://schemas.openxmlformats.org/officeDocument/2006/relationships/hyperlink" Target="339,13,&#24187;&#28783;&#29255; 1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334,8,&#24187;&#28783;&#29255; 8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3900600" cy="556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8560" y="-347400"/>
            <a:ext cx="1094760" cy="69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后汉书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隶书"/>
              </a:rPr>
              <a:t>·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张衡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8560" y="3125880"/>
            <a:ext cx="729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南朝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·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范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1443" t="0" r="12221" b="0"/>
          <a:stretch/>
        </p:blipFill>
        <p:spPr>
          <a:xfrm>
            <a:off x="685800" y="1371600"/>
            <a:ext cx="1828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9079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文学成就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京赋》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(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东京赋》、《西京赋》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描写洛阳，长安的繁华，讽刺贵族官僚的荒淫无耻，描述了一些民情风俗，表现了作者对封建统治危机四伏的深刻忧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16720" y="5516640"/>
            <a:ext cx="24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文学成就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以《四愁诗》成就最高。诗分四章，写他的“所思”在“泰山”、“桂林”，“汉阳”，“雁门”等“远道”，但都有障碍，而不能致。以一种情诗的形式寄托了政治的怀抱。它是最早的一首通篇都是七言而又首尾完整的七言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5640" y="57340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1241" t="0" r="6164" b="0"/>
          <a:stretch/>
        </p:blipFill>
        <p:spPr>
          <a:xfrm>
            <a:off x="0" y="0"/>
            <a:ext cx="2917800" cy="263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619360" cy="221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2619360" cy="2044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743200"/>
            <a:ext cx="64008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张衡观测记录了两千五百颗恒星，创制了世界上第一架能比较准确地表演天象的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漏水转浑天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第一架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测试地震的仪器——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候风地动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还制造出了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指南车、自动记里鼓车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飞行数里的木鸟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11430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记里鼓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rcRect l="12372" t="0" r="13270" b="0"/>
          <a:stretch/>
        </p:blipFill>
        <p:spPr>
          <a:xfrm>
            <a:off x="3200400" y="0"/>
            <a:ext cx="2879640" cy="2612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67640" y="4005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张衡墓"/>
          <p:cNvPicPr/>
          <p:nvPr/>
        </p:nvPicPr>
        <p:blipFill>
          <a:blip r:embed="rId2"/>
          <a:stretch/>
        </p:blipFill>
        <p:spPr>
          <a:xfrm>
            <a:off x="380880" y="2895480"/>
            <a:ext cx="4119840" cy="312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张衡墓"/>
          <p:cNvPicPr/>
          <p:nvPr/>
        </p:nvPicPr>
        <p:blipFill>
          <a:blip r:embed="rId3"/>
          <a:stretch/>
        </p:blipFill>
        <p:spPr>
          <a:xfrm>
            <a:off x="4572000" y="2895480"/>
            <a:ext cx="3973680" cy="312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52160" y="533520"/>
            <a:ext cx="487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民至今还在怀念着他，一九五五年全国发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纪念邮票。一九五六年南阳重修他的坟墓和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，郭沫若曾在他的纪念碑上题道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此全面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展之人物，在世界史上亦所罕见，万祀千龄，令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敬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15080" y="601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张衡故居与张衡墓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326200" cy="36464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33760" y="762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</a:rPr>
              <a:t>走进课文文本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5715000"/>
            <a:ext cx="54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台北故宫博物馆所收藏的地动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  给下列黑体字注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  ）  逾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侈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 ） 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  ）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  ）站   河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  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  ）骨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  下列说法正确的一项是：（  ）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“遂通五经，贯六艺”中“五经”是指：诗、书、礼、易、左传；“六艺”是指：礼、乐、射、御、书、数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《两都赋》的作者是张衡，《二京赋》的作者是班固。二都与两京都指长安和洛阳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“拜、迁、转、徙”都是指调动官职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《后汉书》与《史记》、《汉书》、《三国志》被称为“四史”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南阳西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阳郡的西鄂县，在今河南南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属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写文章。属，连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游于三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在三辅一带游学。游，游历游学，指考察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文“观太学”的“观”也是“游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三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三个地区在今陕西西安附近。京师：指洛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太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古代设在京城的全国最高学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五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指《诗》《书》《礼》《易》《春秋》五部经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六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指礼、乐、射、御、书、数六种学问和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93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张衡，字平子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南阳西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也。衡少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属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游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三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因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京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太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遂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五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六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53176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衡字平子，南阳郡西鄂县人。张衡年轻时就擅长写文章，在三辅一带游学，乘便进入京城洛阳，在太学学习，因此通晓五种经书，熟悉六种学问和技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儒学六经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书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、《礼》、《乐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春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的学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：易经；书：尚书；诗：诗经；礼：礼记；乐：乐经；春秋：泛指历史书籍，也有人认为是《春秋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［诗经六义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经的六义有：风、雅、颂、赋、比、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才高于世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骄尚之情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虽……而……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相当于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虽然……但是……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文言文里，前边分句用“虽”，后边分句有时候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“而”“然”“犹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词同它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从容：古今异义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古举止稳重；（行动举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交接：古：交往接触；今：连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;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相接；移交和接替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举孝廉：（被）举为孝廉，被动句。（见注释１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去（应荐）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行：古今异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辟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ì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公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屡次（被）公府征召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辟，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公府，三公（太尉、司徒、司空）的公署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被动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7880"/>
            <a:ext cx="849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才高于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，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骄尚之情。常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从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淡静，不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俗人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永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举孝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连辟公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就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虽然才学高出当时一般人，却没有骄傲自大的情绪。总是从容不迫，淡泊宁静，不爱和庸俗的人们往来。永元年间，被推荐为孝廉，没有去应荐，屡次三被公官署召请，（他）也不去应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莫：没有谁。       乃：于是，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（之）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讽谏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因，通过，借。以：连词，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讽谏：讽喻规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傅会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文章的组织、布局、命意、修辞。也写作“附会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附会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今异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把不相关的事说成有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没有某种意义的事说成有某种意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：意动用法，以之为奇，认为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41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天下承平日久，自王侯以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逾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班固《两都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《二京赋》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讽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精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傅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十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。大将军邓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才，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194800"/>
            <a:ext cx="8305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时社会长期太平无事，从王侯直到下边的官吏，没有谁不过度奢侈的。张衡就仿照班固的《两都赋》写了一篇《二京赋》，用来讽喻规劝。精心地构思写作，（经过）十年才完成。大将军邓骘认为他是奇才，多次召请，（他）也不去应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2147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《汉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35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《后汉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5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《三国志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147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　东汉，班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3354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　南朝宋人，范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45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　西晋，陈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23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，通史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起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1477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，断代史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3354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，断代史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5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断代史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08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《廉颇蔺相如列传》、《鸿门宴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24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如《张衡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081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帝，下迄汉武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14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信陵君窃符救赵》、《屈原列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623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《史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623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西汉，司马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760" y="2604960"/>
            <a:ext cx="54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汉高祖元年，下迄王莽地皇四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24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起汉光武帝，下迄汉献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9672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巾起义，下迄晋灭吴统一全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6049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《苏武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2168280"/>
            <a:ext cx="83325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段为文章的第一部分，记述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衡的学业、品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文学上的成就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开头两句按历史人物传记的格式，记述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衡的姓名、籍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接着介绍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其在文学上的造诣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“少善属文”说明他具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先天的禀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而“ 游于三辅，因入京师，观太学”说明他注重后天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社会实践、学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也正是因为他在青少年时代就打下了如此深厚扎实的基础，并不断自我提高，所以才能“通五经，贯六艺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在叙述了其“才”后紧接着叙述其德。“虽才高于世，而无骄尚之情。常从容淡静，不好交接俗人。”具有谦虚稳重、超尘拔俗的品格，而面对统治者的招罗，作者连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不行”“不就”“ 不应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词语表现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慕荣利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高洁品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而《二京赋》进一步证实其文学才能及精研精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094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第一段内容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机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器械方面制造的巧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致思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用心思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雅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闻：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说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雅，素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阴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月运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术学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于术数方面的学问，指天文、历算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公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地征召（他）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车，汉代官署名。臣民上书和征召，都由公车接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再迁：两次升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79880"/>
            <a:ext cx="89154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衡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机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致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文阴阳历算。安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衡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术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公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特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拜郎中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太史令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556520"/>
            <a:ext cx="848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衡擅长机械方面制造的技巧，尤其专心研究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、气象、岁时节候的推算。汉安帝常听说张衡精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文、历法等术数方面的学问，官府特地召请（张衡）任命他为郎中，后两次升迁做太史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457200"/>
            <a:ext cx="77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研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阳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妙尽璇机之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浑天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《灵宪》《算罔论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言甚详明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880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于是他研究、考察了自然界的变化，精妙透彻地掌握了测天仪器的原理，制造了浑天仪，写了《灵宪》《算罔论》等关于历法、数学方面的论著，论述十分详尽明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60020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：于是，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研核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考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尽璇机之正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妙地研究透了测天仪器的道理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璇机，玉饰的测天仪器。也写作“ 璇玑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浑天仪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表示天象的仪器，类似现在的天球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21241" t="0" r="6164" b="0"/>
          <a:stretch/>
        </p:blipFill>
        <p:spPr>
          <a:xfrm>
            <a:off x="685800" y="838080"/>
            <a:ext cx="3429000" cy="30434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04920" y="1599120"/>
            <a:ext cx="8638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段主要介绍了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衡在科学上的成就，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括科学发明和理论著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部分。张衡上通天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穷地理，精于历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擅于机械，在天文、数学、地理、气象、机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制造方面都有卓越的成就，在文学、绘画、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赋方面也成绩斐然，难怪郭沫若说：“ 如此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发展之人物，在世界史上亦所罕见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23480" y="762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第二自然段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669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顺帝初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为太史令。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慕当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居之官辄积年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自去史职，五载复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552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顺帝初年，又被调回重当太史令。他不慕高官厚禄，所担任的官职，常常多年得不到提升。从离开太史令职务，五年后又恢复原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4230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段内容小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衡不慕当世，所居之官辄积年不徙。”正因他不想握权柄以抬高地位，居高官以谋私利，不把学问当做沽名之具、钓利之饵、登官之梯，才能有时间和精力在科学上做出这样伟大的成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6002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为太史令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转任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做了太史令。第一次由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史令转任公车司马令，第二次由公车司马令转任太史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慕当世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趋附当时的权贵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世，指权臣大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徙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迁升，提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前检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05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加下划线的词用法相同的一组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衡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班固《两都》作《二京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思傅会，十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入京师，观太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衡乃拟班固《两都》作《二京赋》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讽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衡善机巧，尤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于天文阴阳历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衡少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酒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8380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前检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加线词意义和现代汉语相同的一项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好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交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俗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精思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傅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车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拜郎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衡乃拟班固《两都》作《二京赋》，因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讽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0574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458640"/>
            <a:ext cx="7543800" cy="6270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22480" y="201600"/>
            <a:ext cx="2295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孝廉不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府不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公车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征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371600"/>
            <a:ext cx="609840" cy="4267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963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汉代由地方官（太守）向朝廷举荐品行端正的人，任以官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7925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官府征召有才能的人做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4164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征，征召，特指君召臣；拜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用一定的礼仪授予某种官职或名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5535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召见，召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2120" y="458640"/>
            <a:ext cx="7543800" cy="627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600" y="22860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居之官辄积年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太史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600200"/>
            <a:ext cx="7848720" cy="1068840"/>
          </a:xfrm>
          <a:prstGeom prst="rect">
            <a:avLst/>
          </a:pr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官职调动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包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升级、降级、平级转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种情况。为易于区分，人们常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字的前面或后面加一个字，升级叫迁升、迁授、迁叙，降级叫迁削、迁谪、左迁，平级转调叫转迁、迁官、迁调，离职后调复原职叫迁复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28600"/>
            <a:ext cx="30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官职调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800600"/>
            <a:ext cx="784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调职的意义上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迁”表示升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左迁”表示降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徙”则表示一般的调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458640"/>
            <a:ext cx="7543800" cy="627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66680" y="533520"/>
            <a:ext cx="5181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为太史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永和初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河间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1219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官职调动、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666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离开，指从京都赴外任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08760" y="761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历史传记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46760" y="1903680"/>
            <a:ext cx="481356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传记，除了介绍人物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姓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籍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外，还必须选择人物一生中最具有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叙述他的为人以及对社会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影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传记不同于史料，所以人物必须“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跃”，有可感性。传记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特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实而典型的文字记录和朴实而形象的文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68544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阳嘉元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复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候风地动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精铜铸成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员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尺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合盖隆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形似酒尊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篆文山龟鸟兽之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1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顺帝）阳嘉元年，（ 张衡）又制造了候风地动仪。是用纯铜铸造的，直径有八尺，上下两部分相合盖住，中央凸起，样子像个大酒樽。外面用篆体文字和山、龟、鸟、兽的图案装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209680"/>
            <a:ext cx="822960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铜铸成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，用，介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员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圆径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员，通“圆”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盖隆起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下两部分相合盖住，中央凸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篆文山龟鸟兽之形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篆文山龟鸟兽之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饰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介宾后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状语后置。以，介词，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22824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都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傍行八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施关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外有八龙，首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铜丸，下有蟾蜍，张口承之。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牙机巧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皆隐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尊中，覆盖周密无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042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柱：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粗大的铜柱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，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傍：通“旁”，周围，旁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施关发机：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设置关键（用来）拨动机件。关，枢纽、关键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发，拨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027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内部中央有根粗大的铜柱，铜柱周围伸出八条滑道，设置关键，（用来）拨动机件。外面有八条铜龙，龙口各含一枚铜丸，（龙头）下面各有一个蛤蟆，张着嘴巴，准备接住龙口吐出的铜丸，仪器的枢纽和机件制造的巧妙，都隐藏在酒樽形的仪器中，覆盖严密得没有一点缝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2408400"/>
            <a:ext cx="8409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寻其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面：方面，方向。        </a:t>
            </a:r>
            <a:r>
              <a:rPr b="1" lang="zh-CN" sz="2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乃：于是，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验之</a:t>
            </a:r>
            <a:r>
              <a:rPr b="1" lang="zh-CN" sz="2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以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事：</a:t>
            </a:r>
            <a:r>
              <a:rPr b="1" lang="zh-CN" sz="2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用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事实来检验</a:t>
            </a:r>
            <a:r>
              <a:rPr b="1" lang="zh-CN" sz="2600" spc="-1" strike="noStrike">
                <a:solidFill>
                  <a:srgbClr val="000066"/>
                </a:solidFill>
                <a:latin typeface="华文楷体"/>
                <a:ea typeface="华文楷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未</a:t>
            </a:r>
            <a:r>
              <a:rPr b="1" lang="zh-CN" sz="2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之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也：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来没有这件事。</a:t>
            </a:r>
            <a:r>
              <a:rPr b="1" lang="zh-CN" sz="2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之，代词，指上文所说的候风地动仪巧妙灵验这件事。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宾语前置句。</a:t>
            </a:r>
            <a:r>
              <a:rPr b="1" lang="en-US" sz="2600" spc="-1" strike="noStrike">
                <a:solidFill>
                  <a:srgbClr val="000066"/>
                </a:solidFill>
                <a:latin typeface="华文楷体"/>
                <a:ea typeface="华文楷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6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有地动，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振龙，机发吐丸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蟾蜍衔之。振声激扬，伺者因此觉知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龙发机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七首不动，寻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震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所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验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合契若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自书典所记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未之有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583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发生地震，仪器外面的龙就震动起来，机关发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龙口吐出铜丸，下面的蛤蟆就把它接住。（铜丸）震击的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音清脆响亮，守候仪器的人因此知道发生了地震。（地震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时）虽然只有一条龙的机关发动，另外七个龙头丝毫不动，寻找它的方向，就能知道地震的地方。用实际发生的地震来检验仪器，彼此完全相符，灵验如神。从古籍的记载中，还看不到这样的仪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尝一龙机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不觉动，京师学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怪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无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后数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，果地震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陇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于是皆服其妙。自此以后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令史官记地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方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920480"/>
            <a:ext cx="83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有一次，一条龙的机关发动了，可是（洛阳）并没有感到地震，京城里的学者都责怪地动仪不灵验。几天后，驿站上传送文书的人来了，证明果然在陇西地区发生了地震，于是全都叹服它的奇妙。从此以后，（朝廷）就责成史官根据地动仪，记载每次地震发生的方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咸：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征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没有应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驿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这里指驿站上传送文书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陇西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汉朝郡名，在今甘肃兰州、临洮、陇西一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所从方起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从哪个方向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3214440" cy="3749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-362160" y="2438280"/>
            <a:ext cx="152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候风地动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057400"/>
            <a:ext cx="277956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精铜铸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员径八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盖隆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似酒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饰以篆文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龟鸟兽之形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1905120"/>
            <a:ext cx="1143000" cy="641160"/>
          </a:xfrm>
          <a:prstGeom prst="wedgeRectCallout">
            <a:avLst>
              <a:gd name="adj1" fmla="val -102083"/>
              <a:gd name="adj2" fmla="val 48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  <a:ea typeface="隶书"/>
              </a:rPr>
              <a:t>质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429000"/>
            <a:ext cx="1218960" cy="641520"/>
          </a:xfrm>
          <a:prstGeom prst="wedgeRectCallout">
            <a:avLst>
              <a:gd name="adj1" fmla="val -130208"/>
              <a:gd name="adj2" fmla="val 1158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  <a:ea typeface="隶书"/>
              </a:rPr>
              <a:t>外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4800600"/>
            <a:ext cx="1218960" cy="641520"/>
          </a:xfrm>
          <a:prstGeom prst="wedgeRectCallout">
            <a:avLst>
              <a:gd name="adj1" fmla="val -100129"/>
              <a:gd name="adj2" fmla="val 7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  <a:ea typeface="隶书"/>
              </a:rPr>
              <a:t>雕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66996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四段内容小结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段着重介绍了能代表其成就的候风地动仪，重点介绍候风地动仪的结构和功用。“地震陇西”一事有力地证明了候风地动仪的神奇功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5029200" cy="4663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31240" y="5516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候风地动仪之构造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533520"/>
            <a:ext cx="237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都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行八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施关发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有八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衔铜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有蟾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口承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牙机巧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隐在尊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覆盖周密无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之以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契若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914400" y="838080"/>
            <a:ext cx="4800600" cy="4191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914400" y="838080"/>
            <a:ext cx="480060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267080" y="2209680"/>
            <a:ext cx="316080" cy="316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rot="10800">
            <a:off x="8077320" y="761760"/>
            <a:ext cx="230040" cy="4495680"/>
          </a:xfrm>
          <a:custGeom>
            <a:avLst/>
            <a:gdLst>
              <a:gd name="textAreaLeft" fmla="*/ 0 w 230040"/>
              <a:gd name="textAreaRight" fmla="*/ 83160 w 23004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05920" y="19051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45760" y="1523880"/>
            <a:ext cx="11552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内部机械构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前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加下划线的词用法相同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铜铸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饰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篆文山龟鸟兽之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发吐丸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蟾蜍衔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尝一龙机发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不觉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寻其方面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震之所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思傅会，十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才高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，而无骄尚之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尤致思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文阴阳历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9810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8954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80988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加下划线的词用法相同的一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武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始元六年春至京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有地动，尊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振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就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傍行八道，施关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涂有饿莩而不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游于三辅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入京师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宾客至蔺相如门谢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6002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590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3733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47242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31040" y="31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与“大将军邓骘奇其才”中“奇”用法相同的一项是：（  ）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欲因此时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吾得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且庸人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宁许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秦曲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7120" y="13017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1676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4479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﹝                   ﹞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352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048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﹝ 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42670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419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419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5334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49528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9528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95288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4056120" cy="509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6095880" cy="514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1828800" cy="480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971800" y="3276720"/>
            <a:ext cx="4191120" cy="496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85800" y="4267080"/>
            <a:ext cx="1752480" cy="534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2590920" y="4191120"/>
            <a:ext cx="65530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85800" y="5105520"/>
            <a:ext cx="1676520" cy="679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2743200" y="5105520"/>
            <a:ext cx="48006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83960" y="914040"/>
            <a:ext cx="292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传记的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自传、小传、评传、别传、外传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3960" y="2451240"/>
            <a:ext cx="51778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张衡传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》属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评传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。评传既记叙人物的事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又评价探讨人物的思想状况、人物所处的时代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景、思想发展过程和对人类的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99520" y="3987360"/>
            <a:ext cx="48747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传记叙述一个人的生平，并不在于也不可能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个人的一生的全部经历，事无巨细都写下来，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能记一生中的主要事件，同时显示他的品格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时政事渐损，权移于下，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疏陈事。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侍中，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帷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讽议左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尝问天下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疾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。宦官惧其毁己，皆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目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诡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119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时政治越来越腐败，大权落到了宦官手里，张衡于是给皇帝上疏陈述政事，提出关于政事的意见。后来张衡升任侍中，顺帝任用他入宫廷，在自己左右对国家的政事提出意见。顺帝曾经询问张衡天下所痛恨的人。宦官们害怕他说自己的坏话，都给他使眼色，张衡于是没有对皇帝说实话而后出来了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7524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因：于是，就。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侍中：被升迁。被动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引：让进，延请。       帷幄：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</a:rPr>
              <a:t>这里指皇宫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讽议（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于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）左右：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</a:rPr>
              <a:t>在皇帝的左右，对国家的政事提出意见。省略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疾恶：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</a:rPr>
              <a:t>痛恨。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目之：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</a:rPr>
              <a:t>给他递眼色。目，名作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乃：于是，就。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    诡对：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</a:rPr>
              <a:t>不用实话对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阉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恐终为其患，遂共谗之。衡常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图身之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以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吉凶倚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幽微难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《思玄赋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宣寄情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51354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些阉人竖子还是担心张衡终究会成为他们的祸害，于是就群起而毁谤张衡。张衡也常考虑自身安全的事，认为祸福相因，幽深微妙，难以知道。于是作《思玄赋》来抒发和寄托自己的感情志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阉竖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对宦官的蔑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图身之事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图谋自身安全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吉凶倚伏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祸福相因。出《老子》：祸兮福所倚，福兮祸所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幽微难明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幽深微妙，难以看清。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乃：于是，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宣寄情志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表达和寄托自己的情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2966040"/>
            <a:ext cx="849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五段内容小结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衡不仅在文学、科学等方面有着突出的成就，在政治方面也有着杰出的才干，面对“时政事渐损，权移于下”的状况，他挺身而出“ 因上疏陈事”“ 讽议左右”向皇上直言进谏，弹劾奸佞，努力剪除奸徒丑类。然而，官场的黑暗，使他难施手脚，只好借《思玄赋》来抒发和寄托自己的感情。另一方面也表现了他的心思细密，小心谨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6699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永和初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河间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国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骄奢，不遵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典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又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豪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共为不轨。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下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治威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整法度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阴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奸党名姓，一时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上下肃然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政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9514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顺帝）永和初年，张衡被调出京城，去当河间王刘政的相国。当时河间王骄横奢侈，不遵守法令制度；（河间地区）又有很多豪门大户，和刘政一道胡作非为，张衡一到任就治理严厉，整顿法制，暗中探知一些奸党分子的姓名，一下子全都抓起来，官民上下都很敬畏，赞颂河间地区政治清明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9051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河间相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出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做河间王的相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出，离开朝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豪右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豪族大户。右，右族，即豪族。秦汉时，豪族住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城市的右边，故称“豪右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下车：指官吏初到任。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治威严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治理严厉。治，治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阴知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暗中查知。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禽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“擒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3429000"/>
            <a:ext cx="6551640" cy="520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永和初，出为河间相。时国王骄奢，不遵典宪；又多豪右，共为不轨。衡下车，治威严，整法度，阴知奸党名姓，一时收禽，上下肃然，称为政理。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4419720"/>
            <a:ext cx="17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</a:rPr>
              <a:t>＿＿＿＿   ＿＿＿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86600" y="327672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  <a:ea typeface="楷体_GB2312"/>
              </a:rPr>
              <a:t>果断正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4419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＿＿＿＿＿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373392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  <a:ea typeface="楷体_GB2312"/>
              </a:rPr>
              <a:t>聪明机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89240" y="48006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</a:rPr>
              <a:t>＿＿＿　  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419112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  <a:ea typeface="楷体_GB2312"/>
              </a:rPr>
              <a:t>果敢决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48006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</a:rPr>
              <a:t>＿＿＿＿＿＿    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86600" y="472428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00"/>
                </a:solidFill>
                <a:uFillTx/>
                <a:latin typeface="Times New Roman"/>
                <a:ea typeface="楷体_GB2312"/>
              </a:rPr>
              <a:t>政绩卓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12860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六段内容小结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张衡出任河间相时与奸党斗争一事。笔墨寥寥却写出了一位真实可感、形神丰满的廉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455760"/>
            <a:ext cx="8077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视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年，上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乞骸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征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尚书。年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十二，永和四年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903320"/>
            <a:ext cx="7829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视事：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这里指官员到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骸骨：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封建社会，大臣年老了请求辞职为“乞骸骨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意思是请求赐还自己的身体，回家乡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征拜：朝廷征召，任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498560"/>
            <a:ext cx="8496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衡到职工作三年后，就向朝廷上书，请求辞职告老还乡，朝廷却把他调回京城，任命为尚书。（张衡）活到六十二岁，永和四年与世长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395160" y="304920"/>
            <a:ext cx="213156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走进文本学习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14264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篇课文了叙述了张衡哪几方面的情况？重点叙述的是什么？他为什么能有多方面的贡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20920" y="220896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方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51320" y="2208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学、科学、政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43080" y="281700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衡在多方面都有很高的成就，为人类做出了巨大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一位有成就的文学家、政治家、尤其是一位有突出贡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科学家。在科学理论方面著有《灵宪》、《算罔论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技术方面发明了浑天仪，尤其是能精确测定地震方位的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地动仪，这一伟大成就比欧洲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87476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张衡之所以能在多方面取得成绩，他的勤奋好学、刻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钻研、不慕名利、反对骄奢、不趋炎附势、勇于斗争的高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品质，是他取得成功的精神基础。这些精神直到今天也很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得我们学习和发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83640" y="83736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衡有那些可贵的品格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633400"/>
            <a:ext cx="8153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“从容淡静”“不慕名利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不慕名利，先是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举孝廉不行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连辟公府不就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累召不应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以后做了官，哪怕是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所居之官辄积年不徙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也无所谓，由此反复说明了张衡的高洁。不仅如此，他还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好结交俗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不满当时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王侯以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的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逾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的风气，经十年苦心构思写成《二京赋》用以讽谏；一任河间相，立即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治威严，整法度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将图谋不轨的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奸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时收擒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都反映了他对当时的奢靡庸俗风尚的不满和对不轨行动的斗争。这些都是他从容淡静、不尚虚浮的品德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83640" y="99000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衡有那些可贵的品格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678680"/>
            <a:ext cx="80769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二是无“骄尚之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年少时便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善属文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通五经贯六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全面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展，甚至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才高于世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却始终无骄尚之情，这确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难能可贵的。正是由于不尚虚浮而又谦逊踏实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品格，他才能全副精力投入到科研工作上，两次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任太史令，有机会观察天象博览群书，之后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浑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灵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、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算罔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、候风地动仪才得以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继问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37120" y="1981080"/>
            <a:ext cx="10947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张  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836640"/>
            <a:ext cx="304920" cy="4800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86080" y="836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86080" y="3789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82840" y="5300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53352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04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少善属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765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通五经，贯六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0" y="126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二京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17733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无骄尚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349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容淡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42900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924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善机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3500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灵宪》 《算罔论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076640"/>
            <a:ext cx="28195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浑天仪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653000"/>
            <a:ext cx="28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候风地动仪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4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57182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治威严、整法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609480"/>
            <a:ext cx="1295640" cy="4572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866920" y="1219320"/>
            <a:ext cx="1295640" cy="4572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文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1143000"/>
            <a:ext cx="1219320" cy="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357720"/>
            <a:ext cx="2521080" cy="64764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27640" y="3933720"/>
            <a:ext cx="865440" cy="14292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716360" y="4221000"/>
            <a:ext cx="2448000" cy="14472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435640" y="4292280"/>
            <a:ext cx="1728720" cy="57636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3716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科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084720" y="5805360"/>
            <a:ext cx="1079640" cy="2160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5300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政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57800" y="2209680"/>
            <a:ext cx="1828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257800" y="2514240"/>
            <a:ext cx="1828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2133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性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5157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疏陈事、讽议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88000" y="5516640"/>
            <a:ext cx="576360" cy="14292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549360"/>
            <a:ext cx="304920" cy="1079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3124080"/>
            <a:ext cx="296640" cy="1944720"/>
          </a:xfrm>
          <a:custGeom>
            <a:avLst/>
            <a:gdLst>
              <a:gd name="textAreaLeft" fmla="*/ 189720 w 296640"/>
              <a:gd name="textAreaRight" fmla="*/ 297000 w 296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5334120"/>
            <a:ext cx="230040" cy="831600"/>
          </a:xfrm>
          <a:custGeom>
            <a:avLst/>
            <a:gdLst>
              <a:gd name="textAreaLeft" fmla="*/ 146880 w 230040"/>
              <a:gd name="textAreaRight" fmla="*/ 230400 w 230040"/>
              <a:gd name="textAreaTop" fmla="*/ 21600 h 831600"/>
              <a:gd name="textAreaBottom" fmla="*/ 81000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1981080"/>
            <a:ext cx="255600" cy="762120"/>
          </a:xfrm>
          <a:custGeom>
            <a:avLst/>
            <a:gdLst>
              <a:gd name="textAreaLeft" fmla="*/ 163440 w 255600"/>
              <a:gd name="textAreaRight" fmla="*/ 255600 w 255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220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89000" y="609480"/>
            <a:ext cx="1155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了解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76520"/>
            <a:ext cx="24606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3200400"/>
            <a:ext cx="214920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81280" y="2693880"/>
            <a:ext cx="53150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四史之一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《后汉书》作者范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字蔚宗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南朝宋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阳山阴（浙江绍兴）人。他在南朝刘宋时期，曾任尚书史部郎、宣城太守、太子左卫将军等职。《宋书》上说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少年好学，博通经史，善为文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因密谋拥戴文帝的兄弟刘义康被处死刑，死时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他根据前人撰述的几十种有关后汉的历史著作，编成《后汉书》。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全书包括十纪、十志、八十列传，共一百篇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书对考核史事有参考价值，文字亦朴素精练。今本《后汉书》包括梁代刘昭的增补部分，共一百二十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438280" y="1143000"/>
            <a:ext cx="5639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28f2"/>
                </a:solidFill>
                <a:latin typeface="黑体"/>
                <a:ea typeface="黑体"/>
              </a:rPr>
              <a:t>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径八尺 （“员”通“圆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28f2"/>
                </a:solidFill>
                <a:latin typeface="黑体"/>
                <a:ea typeface="黑体"/>
              </a:rPr>
              <a:t>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八道 （“傍”通“旁”，旁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</a:t>
            </a:r>
            <a:r>
              <a:rPr b="1" lang="zh-CN" sz="2800" spc="-1" strike="noStrike">
                <a:solidFill>
                  <a:srgbClr val="3228f2"/>
                </a:solidFill>
                <a:latin typeface="黑体"/>
                <a:ea typeface="黑体"/>
              </a:rPr>
              <a:t>禽 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“禽”通“擒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尊  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“尊”通“樽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尊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龙 （“振”通“震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49568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大将军邓骘</a:t>
            </a:r>
            <a:r>
              <a:rPr b="1" lang="zh-CN" sz="2800" spc="-1" strike="noStrike">
                <a:solidFill>
                  <a:srgbClr val="3228f2"/>
                </a:solidFill>
                <a:latin typeface="Tahoma"/>
                <a:ea typeface="黑体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其才（形容词的意动用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53341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28f2"/>
                </a:solidFill>
                <a:latin typeface="Tahoma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天下承平日久（名词作状语，当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4479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75920" y="18745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32840" y="380880"/>
            <a:ext cx="21315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文言语法现象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472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62120" y="458640"/>
            <a:ext cx="7543800" cy="6270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17680" y="685800"/>
            <a:ext cx="824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拜官授职，如“予除右丞相兼枢密使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南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》一句中的“除”，就是授予官职的意思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擢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提升官职，如《战国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燕策》：“先王过举，擢之乎宾客之中，而立之乎群臣之上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谪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降职贬官或调往边远地区。《岳阳楼记》“滕子京谪守巴陵郡”中的“谪”就是贬官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黜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黜”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“罢、免、夺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是免去官职。如《国语》：“公将黜太子申生而立奚齐。”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去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除职务，其中有辞职、调离和免职三种情况。辞职和调离属于一般情况和调整官职，而免职则是削职为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2160" y="42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补 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763640" y="0"/>
            <a:ext cx="216000" cy="1197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89280" y="2093760"/>
            <a:ext cx="181080" cy="7970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4479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举孝廉</a:t>
            </a:r>
            <a:r>
              <a:rPr b="1" lang="zh-CN" sz="2400" spc="-1" strike="noStrike">
                <a:solidFill>
                  <a:srgbClr val="3228f2"/>
                </a:solidFill>
                <a:latin typeface="Tahoma"/>
                <a:ea typeface="黑体"/>
              </a:rPr>
              <a:t>不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（古义：不去应荐。今义：不可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209680"/>
            <a:ext cx="71640" cy="1224000"/>
          </a:xfrm>
          <a:custGeom>
            <a:avLst/>
            <a:gdLst>
              <a:gd name="textAreaLeft" fmla="*/ 45720 w 71640"/>
              <a:gd name="textAreaRight" fmla="*/ 72000 w 71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441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寻其</a:t>
            </a:r>
            <a:r>
              <a:rPr b="1" lang="zh-CN" sz="2400" spc="-1" strike="noStrike">
                <a:solidFill>
                  <a:srgbClr val="3228f2"/>
                </a:solidFill>
                <a:latin typeface="Tahoma"/>
                <a:ea typeface="黑体"/>
              </a:rPr>
              <a:t>方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（古：方向。今：事物的几点之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789360"/>
            <a:ext cx="1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3657600"/>
            <a:ext cx="70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不好</a:t>
            </a:r>
            <a:r>
              <a:rPr b="1" lang="zh-CN" sz="2400" spc="-1" strike="noStrike">
                <a:solidFill>
                  <a:srgbClr val="3228f2"/>
                </a:solidFill>
                <a:latin typeface="Tahoma"/>
                <a:ea typeface="黑体"/>
              </a:rPr>
              <a:t>交接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俗人（古：结交。今：接管、移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525780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衡</a:t>
            </a:r>
            <a:r>
              <a:rPr b="1" lang="zh-CN" sz="2400" spc="-1" strike="noStrike">
                <a:solidFill>
                  <a:srgbClr val="3228f2"/>
                </a:solidFill>
                <a:latin typeface="Tahoma"/>
                <a:ea typeface="黑体"/>
              </a:rPr>
              <a:t>下车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（古：官吏初到任。今：从车上下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94120" y="2057400"/>
            <a:ext cx="7703280" cy="1394640"/>
            <a:chOff x="1194120" y="2057400"/>
            <a:chExt cx="7703280" cy="1394640"/>
          </a:xfrm>
        </p:grpSpPr>
        <p:sp>
          <p:nvSpPr>
            <p:cNvPr id="336" name=""/>
            <p:cNvSpPr/>
            <p:nvPr/>
          </p:nvSpPr>
          <p:spPr>
            <a:xfrm>
              <a:off x="5369040" y="2057400"/>
              <a:ext cx="6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228f2"/>
                  </a:solidFill>
                  <a:latin typeface="Tahoma"/>
                  <a:ea typeface="黑体"/>
                </a:rPr>
                <a:t>特征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（古：特地征召。今：特点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8920" y="2562120"/>
              <a:ext cx="52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228f2"/>
                  </a:solidFill>
                  <a:latin typeface="Tahoma"/>
                  <a:ea typeface="黑体"/>
                </a:rPr>
                <a:t>拜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（古：授予官职。今：一种礼节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63760" y="2992320"/>
              <a:ext cx="56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228f2"/>
                  </a:solidFill>
                  <a:latin typeface="Tahoma"/>
                  <a:ea typeface="黑体"/>
                </a:rPr>
                <a:t>郎中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（古：官职名。今：医生的别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94120" y="2489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公车特征拜郎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860400" y="380880"/>
            <a:ext cx="1155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09480" y="728640"/>
            <a:ext cx="4876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孝廉不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府不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车特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郎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和初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河间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太史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为太史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居之官辄积年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914400"/>
            <a:ext cx="61722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汉代由地方官（太守）向朝廷举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品行端正的人，任以官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官府征召有才能的人做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666880"/>
            <a:ext cx="52578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征，征召，特指君召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拜，封官，任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3581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召见，召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3400" y="4114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离开，指从京都赴外任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800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职调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533412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职调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5791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职调动升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7760" y="228600"/>
            <a:ext cx="115596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字词积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14400" y="99072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游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视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乞骸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遂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经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骄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9907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汉代都城长安附近三个行政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1828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员到职工作，即治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25909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臣辞职，意即使骸骨归葬乡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5334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受封的土地，此指汉代所封的同姓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383976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五经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诗、书、礼、易、春秋五部经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六艺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礼、乐、射、御、书、数六种学问和技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3240360" cy="428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152280"/>
            <a:ext cx="543564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衡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8——1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东汉著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学家、科学家、政治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3228f2"/>
                </a:solidFill>
                <a:latin typeface="Arial"/>
              </a:rPr>
              <a:t>文学、艺术、地震学、天文学、地理学、数学、气象学、机械学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面都颇有建树</a:t>
            </a:r>
            <a:r>
              <a:rPr b="1" lang="zh-CN" sz="3200" spc="-1" strike="noStrike">
                <a:solidFill>
                  <a:srgbClr val="3228f2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平子。河南南阳西鄂人。曾两度担任执管天文的太史令。精通天文历算，创制世界上最早的利用水力转动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/>
              </a:rPr>
              <a:t>浑天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测定地震的地动仪。文学作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二京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，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愁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49360"/>
            <a:ext cx="26654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解传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431640"/>
            <a:ext cx="4897440" cy="3673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07200" y="2924280"/>
            <a:ext cx="3525840" cy="361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33000" y="47973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浑 天 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133720" y="22096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286000" y="23623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590920" y="2666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7162920" y="4952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772400" y="58672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20560" y="596880"/>
            <a:ext cx="239760" cy="2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914400" y="380880"/>
            <a:ext cx="7315200" cy="603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63000" y="1165680"/>
            <a:ext cx="100332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彩云"/>
                <a:ea typeface="华文彩云"/>
              </a:rPr>
              <a:t>浑 天 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010280" cy="611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156520" y="187416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彩云"/>
              </a:rPr>
              <a:t>地动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56720" y="65246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2T14:06:27Z</dcterms:created>
  <dc:creator/>
  <dc:description/>
  <dc:language>en-US</dc:language>
  <cp:lastModifiedBy>zmj</cp:lastModifiedBy>
  <dcterms:modified xsi:type="dcterms:W3CDTF">2013-06-11T13:24:4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  <property fmtid="{D5CDD505-2E9C-101B-9397-08002B2CF9AE}" pid="3" name="Version">
    <vt:r8>1</vt:r8>
  </property>
</Properties>
</file>